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E5C6-BB76-48D2-A11B-706A5F86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ED99-1B51-4696-B8F5-1ADFF6203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BFF8-DF7F-4728-8F07-B04705D8E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848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9380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52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848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9380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E2E0-FE1B-45D2-A7C0-B65311D72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46EF4-5EFC-43CB-8815-25C89757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2A4C3-B628-418D-AB85-FB63CCE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E6E8B-9B77-40EA-AED9-42E980F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2F8DC-DB35-4EB4-8238-4EEBC829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8BFC-DEAF-45A8-991A-BD0229C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86080" y="2219400"/>
            <a:ext cx="71244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5DADC-E610-42AB-B5EB-35AE500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E1DFA-C81B-4B4D-B5E2-479FCE9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FA48-BF17-46A6-9924-598987FF2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9E386-B4B0-464E-9ECC-E0C3801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CD5D-2DEF-4200-960A-B3E89929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9C83-5A01-465B-B9BC-5C683837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8D391-351E-49D4-A1A8-8D7CF06C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0848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93800" y="271476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52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0848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93800" y="2873880"/>
            <a:ext cx="1794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2FA9-C7AF-4127-B282-1666CA9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8A0E-54DC-4CE0-A34E-D0B74BC68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F2CB-62C2-4F65-9A0C-EA58A51EE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94D4-C805-4169-BAE2-E1B0864F2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86080" y="2219400"/>
            <a:ext cx="71244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0A76-78AA-4835-A3B4-47B929665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C1DB-1672-4B0E-8FC2-DB2CBBE7D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80480" y="287388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3346-B5CF-48FD-A6D7-C300AE52C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52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80480" y="2714760"/>
            <a:ext cx="27205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520" y="2873880"/>
            <a:ext cx="55753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F5C1-91A1-444C-96A0-D7823C896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0" y="573120"/>
            <a:ext cx="2076480" cy="5892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561960"/>
            <a:ext cx="8686800" cy="5915160"/>
          </a:xfrm>
          <a:prstGeom prst="rect">
            <a:avLst/>
          </a:prstGeom>
          <a:noFill/>
          <a:ln w="28440">
            <a:solidFill>
              <a:srgbClr val="522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81760" y="6667560"/>
            <a:ext cx="300996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243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abe7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243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57720" y="646704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51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8562-22ED-479E-AF99-4CE5CE52D1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702400" y="237960"/>
            <a:ext cx="62208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1D95-279F-4709-B843-BAF69B2C5A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440" y="276120"/>
            <a:ext cx="8621640" cy="630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522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35244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522438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861840"/>
            <a:ext cx="8534160" cy="50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22438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abe72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224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86080" y="2219400"/>
            <a:ext cx="7124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22438"/>
                </a:solidFill>
                <a:latin typeface="Verdana"/>
              </a:rPr>
              <a:t>企业报告</a:t>
            </a:r>
            <a:r>
              <a:rPr b="1" lang="zh-CN" sz="4000" spc="-1" strike="noStrike">
                <a:solidFill>
                  <a:srgbClr val="522438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522438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522438"/>
                </a:solidFill>
                <a:latin typeface="Verdana"/>
                <a:ea typeface="宋体"/>
              </a:rPr>
              <a:t>免费下载</a:t>
            </a:r>
            <a:endParaRPr b="1" lang="en-US" sz="4000" spc="-1" strike="noStrike">
              <a:solidFill>
                <a:srgbClr val="522438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772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520" y="2714760"/>
            <a:ext cx="5575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17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243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2243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19320" y="1447920"/>
            <a:ext cx="6781680" cy="4114800"/>
            <a:chOff x="1219320" y="1447920"/>
            <a:chExt cx="6781680" cy="4114800"/>
          </a:xfrm>
        </p:grpSpPr>
        <p:sp>
          <p:nvSpPr>
            <p:cNvPr id="254" name=""/>
            <p:cNvSpPr/>
            <p:nvPr/>
          </p:nvSpPr>
          <p:spPr>
            <a:xfrm>
              <a:off x="3722760" y="327672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9320" y="327672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27672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1440" y="207180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49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3480" y="207180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aab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abe7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4526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abe7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2760" y="15638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b663d"/>
                </a:gs>
                <a:gs pos="50000">
                  <a:srgbClr val="aabe72"/>
                </a:gs>
                <a:gs pos="100000">
                  <a:srgbClr val="5b66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7960" y="15717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aabe72">
                    <a:alpha val="0"/>
                  </a:srgbClr>
                </a:gs>
                <a:gs pos="100000">
                  <a:srgbClr val="6b78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63512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cc8a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4479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cc8a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6520" y="15573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56b5c"/>
                </a:gs>
                <a:gs pos="50000">
                  <a:srgbClr val="bcc8ac"/>
                </a:gs>
                <a:gs pos="100000">
                  <a:srgbClr val="656b5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8320" y="15606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cc8ac">
                    <a:alpha val="0"/>
                  </a:srgbClr>
                </a:gs>
                <a:gs pos="100000">
                  <a:srgbClr val="767e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1400" y="163224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501920" y="1650960"/>
              <a:ext cx="1290600" cy="1278000"/>
              <a:chOff x="1501920" y="165096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150192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1848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3180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164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4967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9480" y="14526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74539"/>
                </a:gs>
                <a:gs pos="100000">
                  <a:srgbClr val="34967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70360" y="15638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c5042"/>
                </a:gs>
                <a:gs pos="50000">
                  <a:srgbClr val="34967c"/>
                </a:gs>
                <a:gs pos="100000">
                  <a:srgbClr val="1c504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2160" y="15652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4967c">
                    <a:alpha val="0"/>
                  </a:srgbClr>
                </a:gs>
                <a:gs pos="100000">
                  <a:srgbClr val="205e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163512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965760" y="1650960"/>
              <a:ext cx="1290600" cy="1278000"/>
              <a:chOff x="3965760" y="165096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3965760" y="165096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82320" y="165780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95640" y="167040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65480" y="170280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435720" y="1650960"/>
              <a:ext cx="1292400" cy="1278000"/>
              <a:chOff x="6435720" y="1650960"/>
              <a:chExt cx="12924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6435720" y="165096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52280" y="165780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65600" y="167040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35800" y="170280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7650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360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0680" y="21243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4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cc8ac"/>
                    </a:gs>
                    <a:gs pos="100000">
                      <a:srgbClr val="2d30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cc8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4967c"/>
                    </a:gs>
                    <a:gs pos="100000">
                      <a:srgbClr val="0c24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496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b944d"/>
                    </a:gs>
                    <a:gs pos="100000">
                      <a:srgbClr val="8a5d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b94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5661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abe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3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bcbbe"/>
                </a:gs>
                <a:gs pos="100000">
                  <a:srgbClr val="34967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cc8a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bcc8a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56b5c"/>
                </a:gs>
                <a:gs pos="50000">
                  <a:srgbClr val="bcc8ac"/>
                </a:gs>
                <a:gs pos="100000">
                  <a:srgbClr val="656b5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bcc8ac">
                    <a:alpha val="0"/>
                  </a:srgbClr>
                </a:gs>
                <a:gs pos="100000">
                  <a:srgbClr val="767e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55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60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68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73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381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28600" y="1828800"/>
            <a:ext cx="8686800" cy="4188960"/>
            <a:chOff x="228600" y="1828800"/>
            <a:chExt cx="86868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228600" y="3238560"/>
              <a:ext cx="8686800" cy="113760"/>
              <a:chOff x="228600" y="3238560"/>
              <a:chExt cx="8686800" cy="113760"/>
            </a:xfrm>
          </p:grpSpPr>
          <p:sp>
            <p:nvSpPr>
              <p:cNvPr id="395" name=""/>
              <p:cNvSpPr/>
              <p:nvPr/>
            </p:nvSpPr>
            <p:spPr>
              <a:xfrm>
                <a:off x="228600" y="3238560"/>
                <a:ext cx="8686800" cy="44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8600" y="3282120"/>
                <a:ext cx="8686800" cy="7020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22438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abe72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5224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1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3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4967c"/>
                  </a:gs>
                  <a:gs pos="100000">
                    <a:srgbClr val="24685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c4b6"/>
                  </a:gs>
                  <a:gs pos="50000">
                    <a:srgbClr val="34967c">
                      <a:alpha val="0"/>
                    </a:srgbClr>
                  </a:gs>
                  <a:gs pos="100000">
                    <a:srgbClr val="8fc4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8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0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0cf98"/>
                  </a:gs>
                  <a:gs pos="100000">
                    <a:srgbClr val="aabe7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be72">
                      <a:alpha val="0"/>
                    </a:srgbClr>
                  </a:gs>
                  <a:gs pos="100000">
                    <a:srgbClr val="dae2c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52243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5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7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7ba8d"/>
                  </a:gs>
                  <a:gs pos="100000">
                    <a:srgbClr val="db944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944d">
                      <a:alpha val="0"/>
                    </a:srgbClr>
                  </a:gs>
                  <a:gs pos="100000">
                    <a:srgbClr val="ecca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6151680" y="29764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56080" y="29764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73440" y="29764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9764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27520" y="1406160"/>
            <a:ext cx="6215400" cy="1324800"/>
            <a:chOff x="1127520" y="1406160"/>
            <a:chExt cx="6215400" cy="1324800"/>
          </a:xfrm>
        </p:grpSpPr>
        <p:sp>
          <p:nvSpPr>
            <p:cNvPr id="517" name=""/>
            <p:cNvSpPr/>
            <p:nvPr/>
          </p:nvSpPr>
          <p:spPr>
            <a:xfrm rot="3418800">
              <a:off x="1335240" y="161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4e5734"/>
                </a:gs>
              </a:gsLst>
              <a:lin ang="1980000"/>
            </a:gra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258280" y="1787400"/>
              <a:ext cx="901080" cy="124200"/>
              <a:chOff x="2258280" y="1787400"/>
              <a:chExt cx="901080" cy="124200"/>
            </a:xfrm>
          </p:grpSpPr>
          <p:sp>
            <p:nvSpPr>
              <p:cNvPr id="519" name=""/>
              <p:cNvSpPr/>
              <p:nvPr/>
            </p:nvSpPr>
            <p:spPr>
              <a:xfrm>
                <a:off x="225828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4468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2292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9600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rot="3418800">
              <a:off x="2999880" y="1551960"/>
              <a:ext cx="874080" cy="970920"/>
            </a:xfrm>
            <a:prstGeom prst="rect">
              <a:avLst/>
            </a:prstGeom>
            <a:solidFill>
              <a:srgbClr val="34967c"/>
            </a:soli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22920" y="1787400"/>
              <a:ext cx="901080" cy="124200"/>
              <a:chOff x="3922920" y="1787400"/>
              <a:chExt cx="901080" cy="12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3922920" y="17874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09320" y="17881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687560" y="17892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60640" y="18280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4595760" y="15516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4e5734"/>
                </a:gs>
              </a:gsLst>
              <a:lin ang="1980000"/>
            </a:gra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587560" y="1787400"/>
              <a:ext cx="1178640" cy="124200"/>
              <a:chOff x="5587560" y="1787400"/>
              <a:chExt cx="1178640" cy="12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5587560" y="17874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00600" y="17881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87640" y="17892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83040" y="18280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6260400" y="1551600"/>
              <a:ext cx="874080" cy="971280"/>
            </a:xfrm>
            <a:prstGeom prst="rect">
              <a:avLst/>
            </a:prstGeom>
            <a:solidFill>
              <a:srgbClr val="34967c"/>
            </a:solidFill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4425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81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432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9560" y="1901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90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4280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380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33640" y="319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243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232000"/>
          <a:ext cx="7467480" cy="3176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967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5224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8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5d2a0"/>
                </a:gs>
                <a:gs pos="100000">
                  <a:srgbClr val="aabe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5a4b"/>
                </a:gs>
                <a:gs pos="100000">
                  <a:srgbClr val="34967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65029"/>
                </a:gs>
                <a:gs pos="100000">
                  <a:srgbClr val="db944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0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cc8ac"/>
                  </a:gs>
                  <a:gs pos="100000">
                    <a:srgbClr val="7179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100000">
                    <a:srgbClr val="bcc8ac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100000">
                    <a:srgbClr val="bcc8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22438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2438"/>
                </a:gs>
                <a:gs pos="50000">
                  <a:srgbClr val="8f717e"/>
                </a:gs>
                <a:gs pos="100000">
                  <a:srgbClr val="52243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b944d"/>
                      </a:gs>
                      <a:gs pos="100000">
                        <a:srgbClr val="8a5d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b94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cc8ac"/>
                      </a:gs>
                      <a:gs pos="100000">
                        <a:srgbClr val="2d302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cc8a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78168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5661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aabe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4967c"/>
                      </a:gs>
                      <a:gs pos="100000">
                        <a:srgbClr val="1a4c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34967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22438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3800" y="237960"/>
            <a:ext cx="4651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944d"/>
                </a:gs>
                <a:gs pos="50000">
                  <a:srgbClr val="f6e7d8"/>
                </a:gs>
                <a:gs pos="100000">
                  <a:srgbClr val="db944d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b94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4967c"/>
                </a:gs>
                <a:gs pos="50000">
                  <a:srgbClr val="d3e7e2"/>
                </a:gs>
                <a:gs pos="100000">
                  <a:srgbClr val="34967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4967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abe72"/>
                </a:gs>
                <a:gs pos="50000">
                  <a:srgbClr val="ecf0e0"/>
                </a:gs>
                <a:gs pos="100000">
                  <a:srgbClr val="aabe72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aabe7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cc8ac"/>
                </a:gs>
                <a:gs pos="50000">
                  <a:srgbClr val="eff2ec"/>
                </a:gs>
                <a:gs pos="100000">
                  <a:srgbClr val="bcc8a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bcc8a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abe7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22438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2243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224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4AA9-B27A-493B-876A-8BB526B955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2209680" y="289548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be72"/>
                    </a:gs>
                    <a:gs pos="100000">
                      <a:srgbClr val="522438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be72"/>
                  </a:gs>
                  <a:gs pos="100000">
                    <a:srgbClr val="522438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6858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8520" y="1382400"/>
            <a:ext cx="770076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2243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2438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5224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2243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db944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5627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22438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224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Title Image : www.Themegallery.com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5224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522438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7ba8d"/>
              </a:gs>
              <a:gs pos="100000">
                <a:srgbClr val="db94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c37"/>
                    </a:gs>
                    <a:gs pos="100000">
                      <a:srgbClr val="aabe7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e72"/>
                    </a:gs>
                    <a:gs pos="100000">
                      <a:srgbClr val="d8e1b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224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4967c"/>
                  </a:gs>
                  <a:gs pos="100000">
                    <a:srgbClr val="1745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7d9d0"/>
                  </a:gs>
                  <a:gs pos="100000">
                    <a:srgbClr val="34967c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4967c">
                      <a:alpha val="48235"/>
                    </a:srgbClr>
                  </a:gs>
                  <a:gs pos="100000">
                    <a:srgbClr val="29766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34967c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e9d1"/>
              </a:gs>
              <a:gs pos="100000">
                <a:srgbClr val="aabe7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8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abe72"/>
                </a:gs>
                <a:gs pos="100000">
                  <a:srgbClr val="3a41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4967c"/>
                </a:gs>
                <a:gs pos="100000">
                  <a:srgbClr val="102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b944d"/>
                </a:gs>
                <a:gs pos="100000">
                  <a:srgbClr val="4d34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cc8ac"/>
                </a:gs>
                <a:gs pos="100000">
                  <a:srgbClr val="40443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22438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522438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5c4f"/>
                </a:gs>
                <a:gs pos="50000">
                  <a:srgbClr val="bcc8ac"/>
                </a:gs>
                <a:gs pos="100000">
                  <a:srgbClr val="565c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e5734"/>
                </a:gs>
                <a:gs pos="50000">
                  <a:srgbClr val="aabe72"/>
                </a:gs>
                <a:gs pos="100000">
                  <a:srgbClr val="4e573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43000" y="1905120"/>
            <a:ext cx="6705720" cy="3352320"/>
            <a:chOff x="1143000" y="1905120"/>
            <a:chExt cx="6705720" cy="3352320"/>
          </a:xfrm>
        </p:grpSpPr>
        <p:grpSp>
          <p:nvGrpSpPr>
            <p:cNvPr id="175" name=""/>
            <p:cNvGrpSpPr/>
            <p:nvPr/>
          </p:nvGrpSpPr>
          <p:grpSpPr>
            <a:xfrm>
              <a:off x="3009240" y="1905120"/>
              <a:ext cx="2900160" cy="2705400"/>
              <a:chOff x="3009240" y="1905120"/>
              <a:chExt cx="2900160" cy="2705400"/>
            </a:xfrm>
          </p:grpSpPr>
          <p:sp>
            <p:nvSpPr>
              <p:cNvPr id="176" name=""/>
              <p:cNvSpPr/>
              <p:nvPr/>
            </p:nvSpPr>
            <p:spPr>
              <a:xfrm flipH="1" rot="16200000">
                <a:off x="2927880" y="295164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5400000">
                <a:off x="5531400" y="290088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0800000">
                <a:off x="4238640" y="4304880"/>
                <a:ext cx="44424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05880" y="190512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38720" y="204012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aabe72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0040" y="2166480"/>
                <a:ext cx="18190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b663d"/>
                  </a:gs>
                  <a:gs pos="50000">
                    <a:srgbClr val="aabe72"/>
                  </a:gs>
                  <a:gs pos="100000">
                    <a:srgbClr val="5b663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9560" y="2289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143000" y="340308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9034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240444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40308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9034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240444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4539"/>
                </a:gs>
                <a:gs pos="50000">
                  <a:srgbClr val="34967c"/>
                </a:gs>
                <a:gs pos="100000">
                  <a:srgbClr val="174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2520" y="475848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2551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050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3550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5224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52243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22438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4423"/>
                  </a:gs>
                  <a:gs pos="50000">
                    <a:srgbClr val="db944d"/>
                  </a:gs>
                  <a:gs pos="100000">
                    <a:srgbClr val="6444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db9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5734"/>
                  </a:gs>
                  <a:gs pos="50000">
                    <a:srgbClr val="aabe72"/>
                  </a:gs>
                  <a:gs pos="100000">
                    <a:srgbClr val="4e57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ab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c4f"/>
                  </a:gs>
                  <a:gs pos="50000">
                    <a:srgbClr val="bcc8ac"/>
                  </a:gs>
                  <a:gs pos="100000">
                    <a:srgbClr val="565c4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4539"/>
                  </a:gs>
                  <a:gs pos="50000">
                    <a:srgbClr val="34967c"/>
                  </a:gs>
                  <a:gs pos="100000">
                    <a:srgbClr val="17453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49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e6a37"/>
                  </a:gs>
                  <a:gs pos="50000">
                    <a:srgbClr val="db944d"/>
                  </a:gs>
                  <a:gs pos="100000">
                    <a:srgbClr val="9e6a3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a8952"/>
                  </a:gs>
                  <a:gs pos="50000">
                    <a:srgbClr val="aabe72"/>
                  </a:gs>
                  <a:gs pos="100000">
                    <a:srgbClr val="7a895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cc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87907c"/>
                  </a:gs>
                  <a:gs pos="50000">
                    <a:srgbClr val="bcc8ac"/>
                  </a:gs>
                  <a:gs pos="100000">
                    <a:srgbClr val="87907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256c59"/>
                  </a:gs>
                  <a:gs pos="50000">
                    <a:srgbClr val="34967c"/>
                  </a:gs>
                  <a:gs pos="100000">
                    <a:srgbClr val="256c5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abe72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5224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224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47242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1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abe72"/>
                </a:gs>
                <a:gs pos="100000">
                  <a:srgbClr val="b0c37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b94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4423"/>
                </a:gs>
                <a:gs pos="50000">
                  <a:srgbClr val="db944d"/>
                </a:gs>
                <a:gs pos="100000">
                  <a:srgbClr val="6444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ab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5734"/>
                </a:gs>
                <a:gs pos="50000">
                  <a:srgbClr val="aabe72"/>
                </a:gs>
                <a:gs pos="100000">
                  <a:srgbClr val="4e57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cc8ac"/>
                </a:gs>
                <a:gs pos="100000">
                  <a:srgbClr val="d7dec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522438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4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bcc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84d42"/>
                  </a:gs>
                  <a:gs pos="50000">
                    <a:srgbClr val="bcc8ac"/>
                  </a:gs>
                  <a:gs pos="100000">
                    <a:srgbClr val="484d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522438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224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2:51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