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D03-84DE-41D7-8528-D7268F19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0CE-6619-4CC9-8222-31701016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5021-034E-4BB3-8B39-310A28D19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5752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57440" y="9907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760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35752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57440" y="3489120"/>
            <a:ext cx="16185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6C5-C69D-4886-904F-BB949DC8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F1B-9B11-4280-9913-E548BC36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E678-1E63-4B90-BEC2-026BA73D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20DF-8073-49CB-AAD0-57E6E934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541C-7895-4F84-83B3-1BC551D8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6388200"/>
            <a:ext cx="5321520" cy="85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29B-1341-44A6-8B07-3F8AC5FC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3CD3-0733-47A6-8065-5D9BAA74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120" y="34891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8B8-845F-4636-AB5B-4623942C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638820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760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120" y="990720"/>
            <a:ext cx="24534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7600" y="3489120"/>
            <a:ext cx="502776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A3C-7114-4885-994E-C2C900B5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674280" y="2807280"/>
            <a:ext cx="5321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7600" y="990720"/>
            <a:ext cx="502776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353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55680" indent="53100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754560" indent="13212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065600" indent="-1785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330200" indent="-4431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330200" indent="-4431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330200" indent="-4431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095520"/>
            <a:ext cx="1523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6AEE-49CE-4D28-8A34-C7C1FA341C2D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120" y="6095520"/>
            <a:ext cx="3124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2440" y="533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EC920-057D-49B3-BDB3-D5549A5B920E}" type="slidenum">
              <a:rPr b="0" lang="zh-CN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ed Rectangle 9"/>
          <p:cNvSpPr/>
          <p:nvPr/>
        </p:nvSpPr>
        <p:spPr>
          <a:xfrm rot="20707200">
            <a:off x="-617400" y="-651960"/>
            <a:ext cx="6664320" cy="3943080"/>
          </a:xfrm>
          <a:prstGeom prst="pie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1"/>
          <p:cNvSpPr/>
          <p:nvPr/>
        </p:nvSpPr>
        <p:spPr>
          <a:xfrm rot="20707200">
            <a:off x="6168600" y="-441000"/>
            <a:ext cx="3125880" cy="242568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 rot="20707200">
            <a:off x="7143480" y="2001960"/>
            <a:ext cx="2679480" cy="49449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ounded Rectangle 8"/>
          <p:cNvSpPr/>
          <p:nvPr/>
        </p:nvSpPr>
        <p:spPr>
          <a:xfrm rot="20707200">
            <a:off x="-204840" y="3323880"/>
            <a:ext cx="7377120" cy="455760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 rot="20700000">
            <a:off x="547200" y="3631680"/>
            <a:ext cx="598500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Rockwell"/>
              </a:rPr>
              <a:t>How to Write a Professional CV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 rot="20700000">
            <a:off x="2200320" y="5027040"/>
            <a:ext cx="46562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By: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hmed Gouda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"/>
          <p:cNvSpPr/>
          <p:nvPr/>
        </p:nvSpPr>
        <p:spPr>
          <a:xfrm>
            <a:off x="1936440" y="3808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如何让你的简历更专业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areer History 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"/>
          <p:cNvSpPr txBox="1"/>
          <p:nvPr/>
        </p:nvSpPr>
        <p:spPr>
          <a:xfrm rot="900000">
            <a:off x="3463560" y="1073880"/>
            <a:ext cx="554364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tart with the most recen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mployer nam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osition titl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ime interval (month/Year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sponsibilities (optional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Certifications and Training Courses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"/>
          <p:cNvSpPr txBox="1"/>
          <p:nvPr/>
        </p:nvSpPr>
        <p:spPr>
          <a:xfrm rot="900000">
            <a:off x="3225960" y="1422000"/>
            <a:ext cx="57895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raining Cours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tart with the most recent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raining Center nam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ime interval (month/Year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Brief description (optional)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ertifica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tart with the most recent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ertification nam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arned dat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Technical and Interpersonal Skills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"/>
          <p:cNvSpPr txBox="1"/>
          <p:nvPr/>
        </p:nvSpPr>
        <p:spPr>
          <a:xfrm rot="900000">
            <a:off x="3438000" y="602640"/>
            <a:ext cx="46580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chnical Skill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rogramming languag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oncept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D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echnology relate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nterpersonal Skill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Goal oriented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Q scor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ommunication and Present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ork under pressur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anguage Skill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1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Publication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"/>
          <p:cNvSpPr txBox="1"/>
          <p:nvPr/>
        </p:nvSpPr>
        <p:spPr>
          <a:xfrm rot="900000">
            <a:off x="3479400" y="957960"/>
            <a:ext cx="46576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search Thesi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ite pape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rticl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rite a title and a brief description for each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5867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ab6e8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 rot="17100000">
            <a:off x="-807840" y="3055680"/>
            <a:ext cx="534348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Awards &amp; Activitie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8" name=""/>
          <p:cNvSpPr txBox="1"/>
          <p:nvPr/>
        </p:nvSpPr>
        <p:spPr>
          <a:xfrm rot="900000">
            <a:off x="3479400" y="957960"/>
            <a:ext cx="46576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ward/Activity Titl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ear Grant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uthority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scription (optional)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9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Other Info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"/>
          <p:cNvSpPr txBox="1"/>
          <p:nvPr/>
        </p:nvSpPr>
        <p:spPr>
          <a:xfrm rot="900000">
            <a:off x="3456720" y="732960"/>
            <a:ext cx="46580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Attended even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Nam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at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Loc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search interes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Web Based System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obotic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General interests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rawing painting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olving puzzl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eading novel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Last updated date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6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10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10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Things you should avoid in your CV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2" name=""/>
          <p:cNvSpPr txBox="1"/>
          <p:nvPr/>
        </p:nvSpPr>
        <p:spPr>
          <a:xfrm rot="900000">
            <a:off x="3312720" y="793440"/>
            <a:ext cx="5054760" cy="59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D number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Personal photo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rrelevant awards, publications, &amp; membership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ravel history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Previous pay rat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Reasons for leaving previous job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yping &amp; grammar error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Lengthy description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20000"/>
              </a:lnSpc>
              <a:spcBef>
                <a:spcPts val="601"/>
              </a:spcBef>
              <a:buClr>
                <a:srgbClr val="f9f9f9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e words “References available upon request”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593640" indent="-4554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Things employers look for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"/>
          <p:cNvSpPr txBox="1"/>
          <p:nvPr/>
        </p:nvSpPr>
        <p:spPr>
          <a:xfrm rot="900000">
            <a:off x="3470040" y="1025280"/>
            <a:ext cx="516096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gns of achievemen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atterns of stability &amp; career direction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rofessional presentation of your CV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Ensure that your CV is ne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"/>
          <p:cNvSpPr txBox="1"/>
          <p:nvPr/>
        </p:nvSpPr>
        <p:spPr>
          <a:xfrm rot="900000">
            <a:off x="3435480" y="993240"/>
            <a:ext cx="49608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ecommended font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alibri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ahoma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imes new Roma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Use one or two fonts onl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Use bullets, but don’t overuse them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Recommended font size 12, don’t use smaller than 10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rint in high quality, white paper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763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ab6e8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Recruitment agencie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"/>
          <p:cNvSpPr txBox="1"/>
          <p:nvPr/>
        </p:nvSpPr>
        <p:spPr>
          <a:xfrm rot="900000">
            <a:off x="3260160" y="736560"/>
            <a:ext cx="51750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American Chamber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Egypt IT Jobs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Jobs in Egyp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Master HR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Mea-I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Rename your CV file to be your full name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Enter a job code and\or job title in the email subject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Write the following in the email body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Dear Sir/Madam,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Kindly find my resume in the attachments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Regards,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5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"/>
          <p:cNvSpPr txBox="1"/>
          <p:nvPr/>
        </p:nvSpPr>
        <p:spPr>
          <a:xfrm rot="900000">
            <a:off x="3124080" y="1525680"/>
            <a:ext cx="543744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hat is a CV?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ow should you organize your CV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ngs you should avoid in your CV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ngs employers look fo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Ensure that your CV is ne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Recruitment agencie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Write your CV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rite your CV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"/>
          <p:cNvSpPr txBox="1"/>
          <p:nvPr/>
        </p:nvSpPr>
        <p:spPr>
          <a:xfrm rot="900000">
            <a:off x="3479400" y="957960"/>
            <a:ext cx="46576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ime for the workshop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 rot="16200000">
            <a:off x="4284720" y="-3627000"/>
            <a:ext cx="574560" cy="82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Rockwell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Rockwel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Rockwel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ab6e8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99B-8309-47EA-91ED-1B20BBEC20E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ounded Rectangle 9"/>
          <p:cNvSpPr/>
          <p:nvPr/>
        </p:nvSpPr>
        <p:spPr>
          <a:xfrm rot="20707200">
            <a:off x="-617400" y="-651960"/>
            <a:ext cx="6664320" cy="3943080"/>
          </a:xfrm>
          <a:prstGeom prst="pie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ounded Rectangle 11"/>
          <p:cNvSpPr/>
          <p:nvPr/>
        </p:nvSpPr>
        <p:spPr>
          <a:xfrm rot="20707200">
            <a:off x="6168600" y="-441000"/>
            <a:ext cx="3125880" cy="242568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ounded Rectangle 10"/>
          <p:cNvSpPr/>
          <p:nvPr/>
        </p:nvSpPr>
        <p:spPr>
          <a:xfrm rot="20707200">
            <a:off x="7143480" y="2001960"/>
            <a:ext cx="2679480" cy="494496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ounded Rectangle 8"/>
          <p:cNvSpPr/>
          <p:nvPr/>
        </p:nvSpPr>
        <p:spPr>
          <a:xfrm rot="20707200">
            <a:off x="-204840" y="3323880"/>
            <a:ext cx="7377120" cy="455760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20700000">
            <a:off x="547200" y="3631680"/>
            <a:ext cx="5985000" cy="16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Rockwell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2200320" y="5027400"/>
            <a:ext cx="465624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What is a CV?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1" name=""/>
          <p:cNvSpPr txBox="1"/>
          <p:nvPr/>
        </p:nvSpPr>
        <p:spPr>
          <a:xfrm rot="900000">
            <a:off x="3469680" y="1022400"/>
            <a:ext cx="51418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s a written profile of your professional qualificat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Prepared by an applicant seeking employmen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ultiple version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It might be called Resume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How should you organize your CV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"/>
          <p:cNvSpPr txBox="1"/>
          <p:nvPr/>
        </p:nvSpPr>
        <p:spPr>
          <a:xfrm rot="900000">
            <a:off x="2916360" y="1765080"/>
            <a:ext cx="60832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Name &amp; Contact Inform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ersonal Inform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areer Objectiv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xperienc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areer History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ertifications and Training Cours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Technical and Interpersonal Skill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ublication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wards &amp; Activiti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Other Info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slow">
    <p:pull dir="l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Name &amp; Contact Information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3" name=""/>
          <p:cNvSpPr txBox="1"/>
          <p:nvPr/>
        </p:nvSpPr>
        <p:spPr>
          <a:xfrm rot="900000">
            <a:off x="3320280" y="1491480"/>
            <a:ext cx="46594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Your Name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n the top and in boldfac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Address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Residence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ncludes your nam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hone number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Preferred pattern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Rockwell"/>
              </a:rPr>
              <a:t>+X(XXX) XXX-XXXX</a:t>
            </a:r>
            <a:endParaRPr b="0" lang="en-US" sz="16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Write only one mobile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Land number is optional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 rot="17100000">
            <a:off x="-749880" y="3010320"/>
            <a:ext cx="524988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Personal Information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"/>
          <p:cNvSpPr txBox="1"/>
          <p:nvPr/>
        </p:nvSpPr>
        <p:spPr>
          <a:xfrm rot="900000">
            <a:off x="3479400" y="957960"/>
            <a:ext cx="46576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ilitary Service Statu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ate of Birth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Marital Statu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Gende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Othe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riving Licens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areer Objectiv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"/>
          <p:cNvSpPr txBox="1"/>
          <p:nvPr/>
        </p:nvSpPr>
        <p:spPr>
          <a:xfrm rot="900000">
            <a:off x="3479400" y="957960"/>
            <a:ext cx="46576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Clear, concise, and targeted to your career goal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f you want to have more than one career option you should develop multiple CV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hould include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Desired positio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Employment typ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Organization typ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Experience, and Skills offere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8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Education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"/>
          <p:cNvSpPr txBox="1"/>
          <p:nvPr/>
        </p:nvSpPr>
        <p:spPr>
          <a:xfrm rot="900000">
            <a:off x="3184200" y="755280"/>
            <a:ext cx="5441760" cy="58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tart with the most recent academic degre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For each degre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Degree name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University name / Departmen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Year of graduation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umulative grade or GPA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on’t include high school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Don’t include Graduation project grad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f you are currently working in a degre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In progres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Expected graduation date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295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7ab6e8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1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ounded Rectangle 8"/>
          <p:cNvSpPr/>
          <p:nvPr/>
        </p:nvSpPr>
        <p:spPr>
          <a:xfrm rot="907200">
            <a:off x="-865080" y="850680"/>
            <a:ext cx="3614760" cy="6151320"/>
          </a:xfrm>
          <a:prstGeom prst="pie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ounded Rectangle 12"/>
          <p:cNvSpPr/>
          <p:nvPr/>
        </p:nvSpPr>
        <p:spPr>
          <a:xfrm rot="907200">
            <a:off x="17280" y="-511200"/>
            <a:ext cx="3735360" cy="1387440"/>
          </a:xfrm>
          <a:prstGeom prst="pie">
            <a:avLst/>
          </a:prstGeom>
          <a:solidFill>
            <a:srgbClr val="0000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ounded Rectangle 13"/>
          <p:cNvSpPr/>
          <p:nvPr/>
        </p:nvSpPr>
        <p:spPr>
          <a:xfrm rot="907200">
            <a:off x="2145960" y="6589440"/>
            <a:ext cx="1981080" cy="534960"/>
          </a:xfrm>
          <a:prstGeom prst="pi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ounded Rectangle 14"/>
          <p:cNvSpPr/>
          <p:nvPr/>
        </p:nvSpPr>
        <p:spPr>
          <a:xfrm rot="907200">
            <a:off x="3184200" y="-552240"/>
            <a:ext cx="6783480" cy="78264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 rot="17100000">
            <a:off x="-633240" y="2922480"/>
            <a:ext cx="5064120" cy="16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Experience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2" name=""/>
          <p:cNvSpPr txBox="1"/>
          <p:nvPr/>
        </p:nvSpPr>
        <p:spPr>
          <a:xfrm rot="900000">
            <a:off x="3225960" y="1422000"/>
            <a:ext cx="578952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Your Projects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Start with the most recent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Project name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Involved technologies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lvl="1" marL="366840" indent="547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Brief description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Content Placeholder 2"/>
          <p:cNvSpPr/>
          <p:nvPr/>
        </p:nvSpPr>
        <p:spPr>
          <a:xfrm rot="900000">
            <a:off x="225000" y="112320"/>
            <a:ext cx="346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  <a:ea typeface="方正姚体"/>
              </a:rPr>
              <a:t>How should you organize your CV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>Ahmed Gouda</cp:lastModifiedBy>
  <dcterms:modified xsi:type="dcterms:W3CDTF">2015-08-12T14:35:22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