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8571-4D58-4CE2-A6B8-011E4FFB9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2D37-EA5E-4D76-BB26-77682385F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2543-E19D-407E-BC74-DA36DD6C4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1350-9B42-46EB-B376-D0D7E432A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099D-D589-4DCA-8559-DDC958E2F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9B32-2181-42BF-AD98-97F458C2D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725D-D553-4550-B920-612E05618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2CCF-1058-41A2-A363-09065805A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6328-A085-4975-83C9-4CDE88E35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A20D-089D-46B7-B279-29C7E72E6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C241-4ED7-428E-91AD-04985B2CB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0DD7-8927-47B4-B041-95D587995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3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5"/>
          <p:cNvSpPr/>
          <p:nvPr/>
        </p:nvSpPr>
        <p:spPr>
          <a:xfrm>
            <a:off x="0" y="4680"/>
            <a:ext cx="9144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56840" y="6473880"/>
            <a:ext cx="609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CE08-B91C-4D94-BA00-D464884BC55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"/>
          <p:cNvGrpSpPr/>
          <p:nvPr/>
        </p:nvGrpSpPr>
        <p:grpSpPr>
          <a:xfrm>
            <a:off x="0" y="5661000"/>
            <a:ext cx="9144000" cy="1197000"/>
            <a:chOff x="0" y="5661000"/>
            <a:chExt cx="9144000" cy="1197000"/>
          </a:xfrm>
        </p:grpSpPr>
        <p:sp>
          <p:nvSpPr>
            <p:cNvPr id="42" name="Rectangle 34"/>
            <p:cNvSpPr/>
            <p:nvPr/>
          </p:nvSpPr>
          <p:spPr>
            <a:xfrm>
              <a:off x="0" y="5805360"/>
              <a:ext cx="9144000" cy="1052640"/>
            </a:xfrm>
            <a:prstGeom prst="rect">
              <a:avLst/>
            </a:pr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5"/>
            <p:cNvSpPr/>
            <p:nvPr/>
          </p:nvSpPr>
          <p:spPr>
            <a:xfrm>
              <a:off x="0" y="5661000"/>
              <a:ext cx="9144000" cy="200160"/>
            </a:xfrm>
            <a:prstGeom prst="rect">
              <a:avLst/>
            </a:prstGeom>
            <a:gradFill rotWithShape="0">
              <a:gsLst>
                <a:gs pos="0">
                  <a:srgbClr val="284b47"/>
                </a:gs>
                <a:gs pos="100000">
                  <a:srgbClr val="57a1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36"/>
          <p:cNvSpPr/>
          <p:nvPr/>
        </p:nvSpPr>
        <p:spPr>
          <a:xfrm>
            <a:off x="0" y="5516640"/>
            <a:ext cx="914400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8"/>
          <p:cNvSpPr/>
          <p:nvPr/>
        </p:nvSpPr>
        <p:spPr>
          <a:xfrm>
            <a:off x="4012200" y="59580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矩形 11" descr=""/>
          <p:cNvPicPr/>
          <p:nvPr/>
        </p:nvPicPr>
        <p:blipFill>
          <a:blip r:embed="rId3"/>
          <a:stretch/>
        </p:blipFill>
        <p:spPr>
          <a:xfrm>
            <a:off x="281160" y="5950080"/>
            <a:ext cx="2706480" cy="517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39640" y="2061720"/>
            <a:ext cx="7129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2572a"/>
                </a:solidFill>
                <a:latin typeface="Arial"/>
                <a:ea typeface="宋体"/>
              </a:rPr>
              <a:t>适合做毕业论文的幻灯片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934240"/>
            <a:ext cx="8675640" cy="520560"/>
          </a:xfrm>
          <a:prstGeom prst="rect">
            <a:avLst/>
          </a:prstGeom>
          <a:solidFill>
            <a:srgbClr val="57a19a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答辩人：</a:t>
            </a:r>
            <a:r>
              <a:rPr b="1" lang="zh-CN" sz="2800" spc="-1" strike="noStrike">
                <a:solidFill>
                  <a:srgbClr val="b2572a"/>
                </a:solidFill>
                <a:latin typeface="宋体"/>
                <a:ea typeface="宋体"/>
              </a:rPr>
              <a:t>姓名（宋体</a:t>
            </a:r>
            <a:r>
              <a:rPr b="1" lang="en-US" sz="2800" spc="-1" strike="noStrike">
                <a:solidFill>
                  <a:srgbClr val="b2572a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：白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16000" y="106200"/>
            <a:ext cx="5943600" cy="1162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217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68360" y="0"/>
            <a:ext cx="7777080" cy="1260360"/>
            <a:chOff x="468360" y="0"/>
            <a:chExt cx="7777080" cy="1260360"/>
          </a:xfrm>
        </p:grpSpPr>
        <p:sp>
          <p:nvSpPr>
            <p:cNvPr id="216" name="AutoShape 15"/>
            <p:cNvSpPr/>
            <p:nvPr/>
          </p:nvSpPr>
          <p:spPr>
            <a:xfrm>
              <a:off x="1095480" y="219240"/>
              <a:ext cx="7149960" cy="839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572a"/>
                </a:gs>
                <a:gs pos="50000">
                  <a:srgbClr val="efdbd2"/>
                </a:gs>
                <a:gs pos="100000">
                  <a:srgbClr val="b2572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468360" y="0"/>
              <a:ext cx="1128600" cy="1260360"/>
            </a:xfrm>
            <a:prstGeom prst="diamond">
              <a:avLst/>
            </a:prstGeom>
            <a:solidFill>
              <a:srgbClr val="b2572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7"/>
            <p:cNvSpPr/>
            <p:nvPr/>
          </p:nvSpPr>
          <p:spPr>
            <a:xfrm>
              <a:off x="1471680" y="32076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本论文的重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8"/>
            <p:cNvSpPr/>
            <p:nvPr/>
          </p:nvSpPr>
          <p:spPr>
            <a:xfrm>
              <a:off x="82908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217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存在的问题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0" lang="zh-CN" sz="24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8360" y="44280"/>
            <a:ext cx="7777080" cy="1270080"/>
            <a:chOff x="468360" y="44280"/>
            <a:chExt cx="7777080" cy="1270080"/>
          </a:xfrm>
        </p:grpSpPr>
        <p:sp>
          <p:nvSpPr>
            <p:cNvPr id="222" name="AutoShape 20"/>
            <p:cNvSpPr/>
            <p:nvPr/>
          </p:nvSpPr>
          <p:spPr>
            <a:xfrm>
              <a:off x="1095480" y="264960"/>
              <a:ext cx="7149960" cy="84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b3ca8"/>
                </a:gs>
                <a:gs pos="50000">
                  <a:srgbClr val="d9d6ed"/>
                </a:gs>
                <a:gs pos="100000">
                  <a:srgbClr val="4b3ca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21"/>
            <p:cNvSpPr/>
            <p:nvPr/>
          </p:nvSpPr>
          <p:spPr>
            <a:xfrm>
              <a:off x="468360" y="44280"/>
              <a:ext cx="1128600" cy="1270080"/>
            </a:xfrm>
            <a:prstGeom prst="diamond">
              <a:avLst/>
            </a:prstGeom>
            <a:solidFill>
              <a:srgbClr val="4b3ca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2"/>
            <p:cNvSpPr/>
            <p:nvPr/>
          </p:nvSpPr>
          <p:spPr>
            <a:xfrm>
              <a:off x="1471680" y="36828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完成论文写作的收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3"/>
            <p:cNvSpPr/>
            <p:nvPr/>
          </p:nvSpPr>
          <p:spPr>
            <a:xfrm>
              <a:off x="829080" y="40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主要收获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68360" y="44280"/>
            <a:ext cx="7777080" cy="1270080"/>
            <a:chOff x="468360" y="44280"/>
            <a:chExt cx="7777080" cy="1270080"/>
          </a:xfrm>
        </p:grpSpPr>
        <p:sp>
          <p:nvSpPr>
            <p:cNvPr id="229" name="AutoShape 20"/>
            <p:cNvSpPr/>
            <p:nvPr/>
          </p:nvSpPr>
          <p:spPr>
            <a:xfrm>
              <a:off x="1095480" y="264960"/>
              <a:ext cx="7149960" cy="84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b3ca8"/>
                </a:gs>
                <a:gs pos="50000">
                  <a:srgbClr val="d9d6ed"/>
                </a:gs>
                <a:gs pos="100000">
                  <a:srgbClr val="4b3ca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468360" y="44280"/>
              <a:ext cx="1128600" cy="1270080"/>
            </a:xfrm>
            <a:prstGeom prst="diamond">
              <a:avLst/>
            </a:prstGeom>
            <a:solidFill>
              <a:srgbClr val="4b3ca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1471680" y="36828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完成论文写作的收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829080" y="40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24000" y="3357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2572a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8C21-43E2-4C1F-BA4B-E8CD9D79E4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684360" y="33577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19a"/>
                    </a:gs>
                    <a:gs pos="100000">
                      <a:srgbClr val="3366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19a"/>
                  </a:gs>
                  <a:gs pos="100000">
                    <a:srgbClr val="336699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80880" y="6015600"/>
            <a:ext cx="8305920" cy="304920"/>
          </a:xfrm>
          <a:prstGeom prst="rect">
            <a:avLst/>
          </a:prstGeom>
          <a:solidFill>
            <a:srgbClr val="57a19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844640"/>
            <a:ext cx="820872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感谢各位专家老师的指导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71640" y="1378080"/>
            <a:ext cx="7848000" cy="1042920"/>
            <a:chOff x="971640" y="1378080"/>
            <a:chExt cx="7848000" cy="1042920"/>
          </a:xfrm>
        </p:grpSpPr>
        <p:sp>
          <p:nvSpPr>
            <p:cNvPr id="91" name="AutoShape 5"/>
            <p:cNvSpPr/>
            <p:nvPr/>
          </p:nvSpPr>
          <p:spPr>
            <a:xfrm>
              <a:off x="1604520" y="1559160"/>
              <a:ext cx="7215120" cy="69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ef0d9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6"/>
            <p:cNvSpPr/>
            <p:nvPr/>
          </p:nvSpPr>
          <p:spPr>
            <a:xfrm>
              <a:off x="971640" y="1378080"/>
              <a:ext cx="1139400" cy="104292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1983960" y="1643040"/>
              <a:ext cx="569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题的目的、意义和要完成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333440" y="166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971640" y="2639880"/>
            <a:ext cx="7777080" cy="1221840"/>
            <a:chOff x="971640" y="2639880"/>
            <a:chExt cx="7777080" cy="1221840"/>
          </a:xfrm>
        </p:grpSpPr>
        <p:sp>
          <p:nvSpPr>
            <p:cNvPr id="96" name="AutoShape 10"/>
            <p:cNvSpPr/>
            <p:nvPr/>
          </p:nvSpPr>
          <p:spPr>
            <a:xfrm>
              <a:off x="1598760" y="2827080"/>
              <a:ext cx="71499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1"/>
            <p:cNvSpPr/>
            <p:nvPr/>
          </p:nvSpPr>
          <p:spPr>
            <a:xfrm>
              <a:off x="971640" y="2639880"/>
              <a:ext cx="1128600" cy="107964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1974960" y="2914560"/>
              <a:ext cx="5645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论文的基本框架和主要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1333800" y="292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971640" y="4013280"/>
            <a:ext cx="7777080" cy="1071360"/>
            <a:chOff x="971640" y="4013280"/>
            <a:chExt cx="7777080" cy="1071360"/>
          </a:xfrm>
        </p:grpSpPr>
        <p:sp>
          <p:nvSpPr>
            <p:cNvPr id="101" name="AutoShape 15"/>
            <p:cNvSpPr/>
            <p:nvPr/>
          </p:nvSpPr>
          <p:spPr>
            <a:xfrm>
              <a:off x="1598760" y="4198680"/>
              <a:ext cx="7149960" cy="71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572a"/>
                </a:gs>
                <a:gs pos="50000">
                  <a:srgbClr val="efdbd2"/>
                </a:gs>
                <a:gs pos="100000">
                  <a:srgbClr val="b2572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6"/>
            <p:cNvSpPr/>
            <p:nvPr/>
          </p:nvSpPr>
          <p:spPr>
            <a:xfrm>
              <a:off x="971640" y="4013280"/>
              <a:ext cx="1128600" cy="1071360"/>
            </a:xfrm>
            <a:prstGeom prst="diamond">
              <a:avLst/>
            </a:prstGeom>
            <a:solidFill>
              <a:srgbClr val="b2572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7"/>
            <p:cNvSpPr/>
            <p:nvPr/>
          </p:nvSpPr>
          <p:spPr>
            <a:xfrm>
              <a:off x="1974960" y="428580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本论文的重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1334880" y="430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71640" y="5300640"/>
            <a:ext cx="7777080" cy="1081080"/>
            <a:chOff x="971640" y="5300640"/>
            <a:chExt cx="7777080" cy="1081080"/>
          </a:xfrm>
        </p:grpSpPr>
        <p:sp>
          <p:nvSpPr>
            <p:cNvPr id="106" name="AutoShape 20"/>
            <p:cNvSpPr/>
            <p:nvPr/>
          </p:nvSpPr>
          <p:spPr>
            <a:xfrm>
              <a:off x="1598760" y="5487840"/>
              <a:ext cx="714996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b3ca8"/>
                </a:gs>
                <a:gs pos="50000">
                  <a:srgbClr val="d9d6ed"/>
                </a:gs>
                <a:gs pos="100000">
                  <a:srgbClr val="4b3ca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>
              <a:off x="971640" y="5300640"/>
              <a:ext cx="1128600" cy="1081080"/>
            </a:xfrm>
            <a:prstGeom prst="diamond">
              <a:avLst/>
            </a:prstGeom>
            <a:solidFill>
              <a:srgbClr val="4b3ca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2"/>
            <p:cNvSpPr/>
            <p:nvPr/>
          </p:nvSpPr>
          <p:spPr>
            <a:xfrm>
              <a:off x="1974960" y="557532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完成论文写作存在的问题及收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1334880" y="558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216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选题的目的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号 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5280" y="0"/>
            <a:ext cx="7848720" cy="1268280"/>
            <a:chOff x="395280" y="0"/>
            <a:chExt cx="7848720" cy="1268280"/>
          </a:xfrm>
        </p:grpSpPr>
        <p:sp>
          <p:nvSpPr>
            <p:cNvPr id="112" name="AutoShape 5"/>
            <p:cNvSpPr/>
            <p:nvPr/>
          </p:nvSpPr>
          <p:spPr>
            <a:xfrm>
              <a:off x="1028520" y="220680"/>
              <a:ext cx="721548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ef0d9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6"/>
            <p:cNvSpPr/>
            <p:nvPr/>
          </p:nvSpPr>
          <p:spPr>
            <a:xfrm>
              <a:off x="395280" y="0"/>
              <a:ext cx="1139760" cy="126828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407960" y="322200"/>
              <a:ext cx="569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题的目的、意义和要完成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754200" y="33336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425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选题的意义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号 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99"/>
                </a:solidFill>
                <a:latin typeface="Verdana"/>
                <a:ea typeface="宋体"/>
              </a:rPr>
              <a:t>         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68360" y="0"/>
            <a:ext cx="7848720" cy="1268280"/>
            <a:chOff x="468360" y="0"/>
            <a:chExt cx="7848720" cy="1268280"/>
          </a:xfrm>
        </p:grpSpPr>
        <p:sp>
          <p:nvSpPr>
            <p:cNvPr id="118" name="AutoShape 5"/>
            <p:cNvSpPr/>
            <p:nvPr/>
          </p:nvSpPr>
          <p:spPr>
            <a:xfrm>
              <a:off x="1101600" y="220680"/>
              <a:ext cx="721548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ef0d9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"/>
            <p:cNvSpPr/>
            <p:nvPr/>
          </p:nvSpPr>
          <p:spPr>
            <a:xfrm>
              <a:off x="468360" y="0"/>
              <a:ext cx="1139760" cy="126828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1481040" y="322200"/>
              <a:ext cx="569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题的目的、意义和要完成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82908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21664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要完成的任务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  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68360" y="0"/>
            <a:ext cx="7848720" cy="1268280"/>
            <a:chOff x="468360" y="0"/>
            <a:chExt cx="7848720" cy="1268280"/>
          </a:xfrm>
        </p:grpSpPr>
        <p:sp>
          <p:nvSpPr>
            <p:cNvPr id="124" name="AutoShape 5"/>
            <p:cNvSpPr/>
            <p:nvPr/>
          </p:nvSpPr>
          <p:spPr>
            <a:xfrm>
              <a:off x="1101600" y="220680"/>
              <a:ext cx="721548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ef0d9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468360" y="0"/>
              <a:ext cx="1139760" cy="126828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1481040" y="322200"/>
              <a:ext cx="569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题的目的、意义和要完成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82908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16000" y="1125360"/>
            <a:ext cx="3889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论文的基本框架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8360" y="0"/>
            <a:ext cx="7777080" cy="1268280"/>
            <a:chOff x="468360" y="0"/>
            <a:chExt cx="7777080" cy="1268280"/>
          </a:xfrm>
        </p:grpSpPr>
        <p:sp>
          <p:nvSpPr>
            <p:cNvPr id="130" name="AutoShape 10"/>
            <p:cNvSpPr/>
            <p:nvPr/>
          </p:nvSpPr>
          <p:spPr>
            <a:xfrm>
              <a:off x="1095480" y="220680"/>
              <a:ext cx="714996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1"/>
            <p:cNvSpPr/>
            <p:nvPr/>
          </p:nvSpPr>
          <p:spPr>
            <a:xfrm>
              <a:off x="468360" y="0"/>
              <a:ext cx="1128600" cy="126828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1471680" y="32220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论文的基本框架和主要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82980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135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25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b2572a"/>
                </a:gs>
                <a:gs pos="50000">
                  <a:srgbClr val="ffffff"/>
                </a:gs>
                <a:gs pos="100000">
                  <a:srgbClr val="b257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2572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b2572a"/>
                </a:gs>
                <a:gs pos="50000">
                  <a:srgbClr val="602f17"/>
                </a:gs>
                <a:gs pos="100000">
                  <a:srgbClr val="b257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b2572a">
                    <a:alpha val="0"/>
                  </a:srgbClr>
                </a:gs>
                <a:gs pos="100000">
                  <a:srgbClr val="71371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b3ca8"/>
                </a:gs>
                <a:gs pos="50000">
                  <a:srgbClr val="ffffff"/>
                </a:gs>
                <a:gs pos="100000">
                  <a:srgbClr val="4b3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b3ca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b3ca8"/>
                </a:gs>
                <a:gs pos="50000">
                  <a:srgbClr val="29205b"/>
                </a:gs>
                <a:gs pos="100000">
                  <a:srgbClr val="4b3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b3ca8">
                    <a:alpha val="0"/>
                  </a:srgbClr>
                </a:gs>
                <a:gs pos="100000">
                  <a:srgbClr val="3026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151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7a19a"/>
                </a:gs>
                <a:gs pos="50000">
                  <a:srgbClr val="ffffff"/>
                </a:gs>
                <a:gs pos="100000">
                  <a:srgbClr val="57a1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84b47"/>
                </a:gs>
                <a:gs pos="100000">
                  <a:srgbClr val="57a19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7a19a"/>
                </a:gs>
                <a:gs pos="50000">
                  <a:srgbClr val="2f5753"/>
                </a:gs>
                <a:gs pos="100000">
                  <a:srgbClr val="57a1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7a19a">
                    <a:alpha val="0"/>
                  </a:srgbClr>
                </a:gs>
                <a:gs pos="100000">
                  <a:srgbClr val="376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28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161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166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38"/>
            <p:cNvSpPr/>
            <p:nvPr/>
          </p:nvSpPr>
          <p:spPr>
            <a:xfrm>
              <a:off x="1784880" y="2505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出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9"/>
            <p:cNvSpPr/>
            <p:nvPr/>
          </p:nvSpPr>
          <p:spPr>
            <a:xfrm>
              <a:off x="4253400" y="2505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析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0"/>
            <p:cNvSpPr/>
            <p:nvPr/>
          </p:nvSpPr>
          <p:spPr>
            <a:xfrm>
              <a:off x="6720480" y="2505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决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403280" y="4005360"/>
            <a:ext cx="1440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宋体  </a:t>
            </a:r>
            <a:r>
              <a:rPr b="0" lang="en-US" sz="1800" spc="-1" strike="noStrike">
                <a:solidFill>
                  <a:srgbClr val="b2572a"/>
                </a:solidFill>
                <a:latin typeface="Arial"/>
                <a:ea typeface="宋体"/>
              </a:rPr>
              <a:t>18</a:t>
            </a: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5640" y="4005360"/>
            <a:ext cx="1368360" cy="785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宋体  </a:t>
            </a:r>
            <a:r>
              <a:rPr b="0" lang="en-US" sz="1800" spc="-1" strike="noStrike">
                <a:solidFill>
                  <a:srgbClr val="b2572a"/>
                </a:solidFill>
                <a:latin typeface="Arial"/>
                <a:ea typeface="宋体"/>
              </a:rPr>
              <a:t>18</a:t>
            </a: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3933720"/>
            <a:ext cx="1295280" cy="785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宋体  </a:t>
            </a:r>
            <a:r>
              <a:rPr b="0" lang="en-US" sz="1800" spc="-1" strike="noStrike">
                <a:solidFill>
                  <a:srgbClr val="b2572a"/>
                </a:solidFill>
                <a:latin typeface="Arial"/>
                <a:ea typeface="宋体"/>
              </a:rPr>
              <a:t>18</a:t>
            </a: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论文的主要内容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68360" y="0"/>
            <a:ext cx="7777080" cy="1268280"/>
            <a:chOff x="468360" y="0"/>
            <a:chExt cx="7777080" cy="1268280"/>
          </a:xfrm>
        </p:grpSpPr>
        <p:sp>
          <p:nvSpPr>
            <p:cNvPr id="178" name="AutoShape 10"/>
            <p:cNvSpPr/>
            <p:nvPr/>
          </p:nvSpPr>
          <p:spPr>
            <a:xfrm>
              <a:off x="1095480" y="220680"/>
              <a:ext cx="714996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468360" y="0"/>
              <a:ext cx="1128600" cy="126828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471680" y="32220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论文的基本框架和主要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82980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700360" y="3141720"/>
            <a:ext cx="3816360" cy="396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71640" y="1989000"/>
            <a:ext cx="7423200" cy="649440"/>
            <a:chOff x="971640" y="1989000"/>
            <a:chExt cx="7423200" cy="649440"/>
          </a:xfrm>
        </p:grpSpPr>
        <p:sp>
          <p:nvSpPr>
            <p:cNvPr id="184" name="AutoShape 5"/>
            <p:cNvSpPr/>
            <p:nvPr/>
          </p:nvSpPr>
          <p:spPr>
            <a:xfrm>
              <a:off x="971640" y="1989000"/>
              <a:ext cx="7423200" cy="649440"/>
            </a:xfrm>
            <a:prstGeom prst="roundRect">
              <a:avLst>
                <a:gd name="adj" fmla="val 13204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1"/>
            <p:cNvSpPr/>
            <p:nvPr/>
          </p:nvSpPr>
          <p:spPr>
            <a:xfrm>
              <a:off x="1116000" y="2060280"/>
              <a:ext cx="1608120" cy="533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d83c8"/>
                </a:gs>
                <a:gs pos="100000">
                  <a:srgbClr val="4b3ca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2700360" y="2133360"/>
              <a:ext cx="518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1042920" y="2060280"/>
              <a:ext cx="17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提出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00000" y="3213000"/>
            <a:ext cx="74883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宋体  </a:t>
            </a:r>
            <a:r>
              <a:rPr b="0" lang="en-US" sz="2400" spc="-1" strike="noStrike">
                <a:solidFill>
                  <a:srgbClr val="b2572a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号  字体颜色黑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03560" y="2089080"/>
            <a:ext cx="4968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宋体</a:t>
            </a:r>
            <a:r>
              <a:rPr b="0" lang="en-US" sz="2400" spc="-1" strike="noStrike">
                <a:solidFill>
                  <a:srgbClr val="b2572a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号  字体颜色黑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论文的主要内容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68360" y="0"/>
            <a:ext cx="7777080" cy="1268280"/>
            <a:chOff x="468360" y="0"/>
            <a:chExt cx="7777080" cy="1268280"/>
          </a:xfrm>
        </p:grpSpPr>
        <p:sp>
          <p:nvSpPr>
            <p:cNvPr id="192" name="AutoShape 10"/>
            <p:cNvSpPr/>
            <p:nvPr/>
          </p:nvSpPr>
          <p:spPr>
            <a:xfrm>
              <a:off x="1095480" y="220680"/>
              <a:ext cx="714996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"/>
            <p:cNvSpPr/>
            <p:nvPr/>
          </p:nvSpPr>
          <p:spPr>
            <a:xfrm>
              <a:off x="468360" y="0"/>
              <a:ext cx="1128600" cy="126828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1471680" y="32220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论文的基本框架和主要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82980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187280" y="3213000"/>
            <a:ext cx="70581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宋体</a:t>
            </a:r>
            <a:r>
              <a:rPr b="1" lang="en-US" sz="2400" spc="-1" strike="noStrike">
                <a:solidFill>
                  <a:srgbClr val="b2572a"/>
                </a:solidFill>
                <a:latin typeface="Arial"/>
                <a:ea typeface="宋体"/>
              </a:rPr>
              <a:t>24</a:t>
            </a:r>
            <a:r>
              <a:rPr b="1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号 字体颜色黑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00000" y="2060640"/>
            <a:ext cx="7415280" cy="720720"/>
            <a:chOff x="900000" y="2060640"/>
            <a:chExt cx="7415280" cy="720720"/>
          </a:xfrm>
        </p:grpSpPr>
        <p:sp>
          <p:nvSpPr>
            <p:cNvPr id="198" name="AutoShape 12"/>
            <p:cNvSpPr/>
            <p:nvPr/>
          </p:nvSpPr>
          <p:spPr>
            <a:xfrm>
              <a:off x="900000" y="2060640"/>
              <a:ext cx="7415280" cy="720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1042920" y="2133720"/>
              <a:ext cx="1728720" cy="574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7a19a"/>
                </a:gs>
                <a:gs pos="100000">
                  <a:srgbClr val="3d70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7"/>
            <p:cNvSpPr/>
            <p:nvPr/>
          </p:nvSpPr>
          <p:spPr>
            <a:xfrm>
              <a:off x="2771640" y="2205000"/>
              <a:ext cx="545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宋体 </a:t>
              </a:r>
              <a:r>
                <a:rPr b="1" lang="en-US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24</a:t>
              </a:r>
              <a:r>
                <a:rPr b="1" lang="zh-CN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号 字体颜色黑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1116000" y="2133720"/>
              <a:ext cx="16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分析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19"/>
          <p:cNvSpPr/>
          <p:nvPr/>
        </p:nvSpPr>
        <p:spPr>
          <a:xfrm>
            <a:off x="1116000" y="1916280"/>
            <a:ext cx="7486560" cy="720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50000">
                <a:srgbClr val="dddddd"/>
              </a:gs>
              <a:gs pos="100000">
                <a:srgbClr val="eeeeee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论文的主要内容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68360" y="0"/>
            <a:ext cx="7777080" cy="1268280"/>
            <a:chOff x="468360" y="0"/>
            <a:chExt cx="7777080" cy="1268280"/>
          </a:xfrm>
        </p:grpSpPr>
        <p:sp>
          <p:nvSpPr>
            <p:cNvPr id="205" name="AutoShape 10"/>
            <p:cNvSpPr/>
            <p:nvPr/>
          </p:nvSpPr>
          <p:spPr>
            <a:xfrm>
              <a:off x="1095480" y="220680"/>
              <a:ext cx="714996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1"/>
            <p:cNvSpPr/>
            <p:nvPr/>
          </p:nvSpPr>
          <p:spPr>
            <a:xfrm>
              <a:off x="468360" y="0"/>
              <a:ext cx="1128600" cy="126828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"/>
            <p:cNvSpPr/>
            <p:nvPr/>
          </p:nvSpPr>
          <p:spPr>
            <a:xfrm>
              <a:off x="1471680" y="32220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论文的基本框架和主要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82980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258920" y="2060640"/>
            <a:ext cx="7192800" cy="520560"/>
            <a:chOff x="1258920" y="2060640"/>
            <a:chExt cx="7192800" cy="520560"/>
          </a:xfrm>
        </p:grpSpPr>
        <p:sp>
          <p:nvSpPr>
            <p:cNvPr id="210" name="AutoShape 14"/>
            <p:cNvSpPr/>
            <p:nvPr/>
          </p:nvSpPr>
          <p:spPr>
            <a:xfrm>
              <a:off x="1258920" y="2060640"/>
              <a:ext cx="1800360" cy="5032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78564"/>
                </a:gs>
                <a:gs pos="100000">
                  <a:srgbClr val="b2572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332000" y="206064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解决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3059280" y="2060640"/>
              <a:ext cx="53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宋体</a:t>
              </a:r>
              <a:r>
                <a:rPr b="1" lang="en-US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24</a:t>
              </a:r>
              <a:r>
                <a:rPr b="1" lang="zh-CN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号 字体颜色黑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971640" y="3068640"/>
            <a:ext cx="7632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0" lang="zh-CN" sz="24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黑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3:00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41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