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71A4-2F13-416D-B8A9-F87C1C2B9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27E8-7C03-4044-9BED-6DE99105B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3317-444A-4BAC-BBF9-B0805D7C0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E4EF-271E-4B45-9601-603C58C8D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712DD-98FA-4FD4-807A-41EA0B27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16DCE-A349-434F-BA58-3597C306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D6E3F-D99A-4DDE-9724-30B6CA71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4991B-6771-4087-8681-29C659D9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01D2D-AECC-435B-A4D7-560AF191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14A79-93C6-4256-A1AF-CE638CA9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86D3F-6E9C-4E6D-8BD6-E4ED09A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20D4-9A74-4CD4-A0DC-0878E4EE9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87CC1-4987-454D-8571-81B4B64A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5374A-0D0B-493B-A625-09F4127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578B3-0BB8-4DE0-8344-82CA0490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61178-6707-45F5-9EC2-2C505692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D0240-4C7E-4582-9277-FEC8A659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5B1A-1B18-4110-9712-7B0AFB9CA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7CE4-4B59-424E-897A-27F011DEC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3080-45CE-4BB0-995D-D0FB46A73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7BFC-3557-4643-8948-212421D85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0DB0-8175-4474-9B34-064DEEB94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9860-2290-4794-942D-E557D12FA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878C-96FD-4B40-9CB8-397119715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969696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CE34-E6AF-4C0C-96BA-D5C0C5DC8859}" type="slidenum">
              <a:rPr b="0" lang="ko-KR" sz="1200" spc="-1" strike="noStrike">
                <a:solidFill>
                  <a:srgbClr val="96969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61320" y="659124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711360" cy="851040"/>
          </a:xfrm>
          <a:prstGeom prst="rect">
            <a:avLst/>
          </a:prstGeom>
          <a:gradFill rotWithShape="0">
            <a:gsLst>
              <a:gs pos="0">
                <a:srgbClr val="260034"/>
              </a:gs>
              <a:gs pos="100000">
                <a:srgbClr val="54017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851040"/>
            <a:ext cx="701640" cy="600696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dac8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30120" y="851040"/>
            <a:ext cx="0" cy="6006960"/>
          </a:xfrm>
          <a:prstGeom prst="line">
            <a:avLst/>
          </a:prstGeom>
          <a:ln w="9360">
            <a:solidFill>
              <a:srgbClr val="da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9360" y="851040"/>
            <a:ext cx="685800" cy="5867280"/>
            <a:chOff x="9360" y="851040"/>
            <a:chExt cx="685800" cy="5867280"/>
          </a:xfrm>
        </p:grpSpPr>
        <p:grpSp>
          <p:nvGrpSpPr>
            <p:cNvPr id="6" name=""/>
            <p:cNvGrpSpPr/>
            <p:nvPr/>
          </p:nvGrpSpPr>
          <p:grpSpPr>
            <a:xfrm>
              <a:off x="9360" y="3873600"/>
              <a:ext cx="685800" cy="2844720"/>
              <a:chOff x="9360" y="3873600"/>
              <a:chExt cx="685800" cy="2844720"/>
            </a:xfrm>
          </p:grpSpPr>
          <p:sp>
            <p:nvSpPr>
              <p:cNvPr id="7" name=""/>
              <p:cNvSpPr/>
              <p:nvPr/>
            </p:nvSpPr>
            <p:spPr>
              <a:xfrm>
                <a:off x="9360" y="67183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9360" y="65404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9360" y="63626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360" y="61851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360" y="60073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9360" y="58294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360" y="56516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360" y="54738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9360" y="52959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360" y="51181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360" y="49402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360" y="47624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9360" y="45849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360" y="44071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360" y="42292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9360" y="40514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9360" y="38736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9360" y="851040"/>
              <a:ext cx="685800" cy="2844720"/>
              <a:chOff x="9360" y="851040"/>
              <a:chExt cx="685800" cy="2844720"/>
            </a:xfrm>
          </p:grpSpPr>
          <p:sp>
            <p:nvSpPr>
              <p:cNvPr id="25" name=""/>
              <p:cNvSpPr/>
              <p:nvPr/>
            </p:nvSpPr>
            <p:spPr>
              <a:xfrm>
                <a:off x="9360" y="36957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360" y="35179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360" y="33400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360" y="31626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360" y="29847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60" y="28069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360" y="26290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9360" y="24512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360" y="22734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360" y="20955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9360" y="19177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360" y="17398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9360" y="15624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360" y="13845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9360" y="12067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9360" y="10288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360" y="8510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42" name=""/>
          <p:cNvSpPr/>
          <p:nvPr/>
        </p:nvSpPr>
        <p:spPr>
          <a:xfrm>
            <a:off x="698400" y="0"/>
            <a:ext cx="8445600" cy="851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8400" y="844560"/>
            <a:ext cx="84456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10560" y="6578640"/>
            <a:ext cx="63360" cy="279360"/>
          </a:xfrm>
          <a:prstGeom prst="rect">
            <a:avLst/>
          </a:prstGeom>
          <a:solidFill>
            <a:srgbClr val="dbd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96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49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dbd55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dac8fe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B63C-7AC6-4303-BB11-B0164CD280EF}" type="slidenum">
              <a:rPr b="0" lang="ko-KR" sz="1400" spc="-1" strike="noStrike">
                <a:solidFill>
                  <a:srgbClr val="969696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2946240" cy="1816200"/>
          </a:xfrm>
          <a:prstGeom prst="rect">
            <a:avLst/>
          </a:prstGeom>
          <a:gradFill rotWithShape="0">
            <a:gsLst>
              <a:gs pos="0">
                <a:srgbClr val="260034"/>
              </a:gs>
              <a:gs pos="100000">
                <a:srgbClr val="54017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720960"/>
            <a:ext cx="2946240" cy="313704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dac8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46240" y="3708360"/>
            <a:ext cx="6197760" cy="314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3556080"/>
            <a:ext cx="2933640" cy="3301920"/>
            <a:chOff x="0" y="3556080"/>
            <a:chExt cx="2933640" cy="3301920"/>
          </a:xfrm>
        </p:grpSpPr>
        <p:grpSp>
          <p:nvGrpSpPr>
            <p:cNvPr id="91" name=""/>
            <p:cNvGrpSpPr/>
            <p:nvPr/>
          </p:nvGrpSpPr>
          <p:grpSpPr>
            <a:xfrm>
              <a:off x="330120" y="3556080"/>
              <a:ext cx="2209680" cy="3301920"/>
              <a:chOff x="330120" y="3556080"/>
              <a:chExt cx="2209680" cy="3301920"/>
            </a:xfrm>
          </p:grpSpPr>
          <p:sp>
            <p:nvSpPr>
              <p:cNvPr id="92" name=""/>
              <p:cNvSpPr/>
              <p:nvPr/>
            </p:nvSpPr>
            <p:spPr>
              <a:xfrm>
                <a:off x="33012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840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6668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3496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0324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7152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3980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0" y="3873600"/>
              <a:ext cx="2933640" cy="2844720"/>
              <a:chOff x="0" y="3873600"/>
              <a:chExt cx="2933640" cy="2844720"/>
            </a:xfrm>
          </p:grpSpPr>
          <p:sp>
            <p:nvSpPr>
              <p:cNvPr id="100" name=""/>
              <p:cNvSpPr/>
              <p:nvPr/>
            </p:nvSpPr>
            <p:spPr>
              <a:xfrm>
                <a:off x="0" y="671832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65404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63626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618516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600732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58294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6516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47380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529596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511812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49402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7624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58496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0712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2292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0514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7360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941560" cy="19638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930320" y="3530520"/>
            <a:ext cx="1447560" cy="1447560"/>
            <a:chOff x="1930320" y="3530520"/>
            <a:chExt cx="1447560" cy="1447560"/>
          </a:xfrm>
        </p:grpSpPr>
        <p:sp>
          <p:nvSpPr>
            <p:cNvPr id="119" name=""/>
            <p:cNvSpPr/>
            <p:nvPr/>
          </p:nvSpPr>
          <p:spPr>
            <a:xfrm>
              <a:off x="2413080" y="353052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413080" y="439344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5400000">
              <a:off x="198108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6200000">
              <a:off x="284436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540160" y="4371840"/>
            <a:ext cx="1368360" cy="2019240"/>
            <a:chOff x="2540160" y="4371840"/>
            <a:chExt cx="1368360" cy="2019240"/>
          </a:xfrm>
        </p:grpSpPr>
        <p:grpSp>
          <p:nvGrpSpPr>
            <p:cNvPr id="124" name=""/>
            <p:cNvGrpSpPr/>
            <p:nvPr/>
          </p:nvGrpSpPr>
          <p:grpSpPr>
            <a:xfrm>
              <a:off x="2540160" y="4371840"/>
              <a:ext cx="1368360" cy="2019240"/>
              <a:chOff x="2540160" y="4371840"/>
              <a:chExt cx="1368360" cy="2019240"/>
            </a:xfrm>
          </p:grpSpPr>
          <p:sp>
            <p:nvSpPr>
              <p:cNvPr id="125" name=""/>
              <p:cNvSpPr/>
              <p:nvPr/>
            </p:nvSpPr>
            <p:spPr>
              <a:xfrm>
                <a:off x="2540160" y="4371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43120" y="4371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70200" y="449892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97280" y="4626000"/>
                <a:ext cx="12708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22560" y="475272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49640" y="487980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76720" y="500688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06680" y="513396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33760" y="526068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60840" y="538776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781440" y="5514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19640" y="5769000"/>
                <a:ext cx="12708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19640" y="589572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46360" y="602280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46360" y="614988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46360" y="626400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19640" y="626400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01920" y="626400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74840" y="613728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4840" y="601020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47760" y="5883120"/>
                <a:ext cx="139680" cy="1396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47760" y="5756040"/>
                <a:ext cx="139680" cy="1396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21040" y="5629320"/>
                <a:ext cx="12708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81000" y="5743440"/>
                <a:ext cx="139680" cy="1396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66880" y="588168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540160" y="600228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540160" y="4498920"/>
                <a:ext cx="127080" cy="154944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73440" y="5514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46360" y="551484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19640" y="5514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92560" y="5514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92560" y="564192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flipH="1">
              <a:off x="2659320" y="4486320"/>
              <a:ext cx="1009440" cy="1780920"/>
            </a:xfrm>
            <a:custGeom>
              <a:avLst/>
              <a:gdLst/>
              <a:ahLst/>
              <a:rect l="l" t="t" r="r" b="b"/>
              <a:pathLst>
                <a:path w="636" h="1122">
                  <a:moveTo>
                    <a:pt x="231" y="1122"/>
                  </a:moveTo>
                  <a:lnTo>
                    <a:pt x="72" y="1122"/>
                  </a:lnTo>
                  <a:lnTo>
                    <a:pt x="72" y="969"/>
                  </a:lnTo>
                  <a:lnTo>
                    <a:pt x="153" y="969"/>
                  </a:lnTo>
                  <a:lnTo>
                    <a:pt x="153" y="807"/>
                  </a:lnTo>
                  <a:lnTo>
                    <a:pt x="237" y="807"/>
                  </a:lnTo>
                  <a:lnTo>
                    <a:pt x="237" y="648"/>
                  </a:lnTo>
                  <a:lnTo>
                    <a:pt x="0" y="648"/>
                  </a:lnTo>
                  <a:lnTo>
                    <a:pt x="0" y="567"/>
                  </a:lnTo>
                  <a:lnTo>
                    <a:pt x="81" y="567"/>
                  </a:lnTo>
                  <a:lnTo>
                    <a:pt x="81" y="483"/>
                  </a:lnTo>
                  <a:lnTo>
                    <a:pt x="162" y="483"/>
                  </a:lnTo>
                  <a:lnTo>
                    <a:pt x="162" y="408"/>
                  </a:lnTo>
                  <a:lnTo>
                    <a:pt x="243" y="408"/>
                  </a:lnTo>
                  <a:lnTo>
                    <a:pt x="243" y="324"/>
                  </a:lnTo>
                  <a:lnTo>
                    <a:pt x="324" y="324"/>
                  </a:lnTo>
                  <a:lnTo>
                    <a:pt x="324" y="243"/>
                  </a:lnTo>
                  <a:lnTo>
                    <a:pt x="405" y="243"/>
                  </a:lnTo>
                  <a:lnTo>
                    <a:pt x="405" y="165"/>
                  </a:lnTo>
                  <a:lnTo>
                    <a:pt x="483" y="165"/>
                  </a:lnTo>
                  <a:lnTo>
                    <a:pt x="483" y="84"/>
                  </a:lnTo>
                  <a:lnTo>
                    <a:pt x="564" y="84"/>
                  </a:lnTo>
                  <a:lnTo>
                    <a:pt x="564" y="0"/>
                  </a:lnTo>
                  <a:lnTo>
                    <a:pt x="636" y="0"/>
                  </a:lnTo>
                  <a:lnTo>
                    <a:pt x="636" y="882"/>
                  </a:lnTo>
                  <a:lnTo>
                    <a:pt x="549" y="882"/>
                  </a:lnTo>
                  <a:lnTo>
                    <a:pt x="549" y="798"/>
                  </a:lnTo>
                  <a:lnTo>
                    <a:pt x="468" y="798"/>
                  </a:lnTo>
                  <a:lnTo>
                    <a:pt x="468" y="720"/>
                  </a:lnTo>
                  <a:lnTo>
                    <a:pt x="390" y="720"/>
                  </a:lnTo>
                  <a:lnTo>
                    <a:pt x="390" y="801"/>
                  </a:lnTo>
                  <a:lnTo>
                    <a:pt x="309" y="801"/>
                  </a:lnTo>
                  <a:lnTo>
                    <a:pt x="309" y="963"/>
                  </a:lnTo>
                  <a:lnTo>
                    <a:pt x="231" y="963"/>
                  </a:lnTo>
                  <a:lnTo>
                    <a:pt x="231" y="1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5560" y="63360"/>
            <a:ext cx="103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bd55b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dac8f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89400" y="4106880"/>
            <a:ext cx="4629240" cy="55080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9400" y="4818240"/>
            <a:ext cx="4629240" cy="55080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79720" y="1106640"/>
            <a:ext cx="697536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69696"/>
                </a:solidFill>
                <a:latin typeface="Verdana"/>
                <a:ea typeface="Gulim"/>
              </a:rPr>
              <a:t>商务会议</a:t>
            </a:r>
            <a:r>
              <a:rPr b="1" lang="zh-CN" sz="4000" spc="-1" strike="noStrike">
                <a:solidFill>
                  <a:srgbClr val="969696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969696"/>
                </a:solidFill>
                <a:latin typeface="Verdana"/>
                <a:ea typeface="Gulim"/>
              </a:rPr>
              <a:t>模板</a:t>
            </a:r>
            <a:r>
              <a:rPr b="1" lang="zh-CN" sz="4000" spc="-1" strike="noStrike">
                <a:solidFill>
                  <a:srgbClr val="969696"/>
                </a:solidFill>
                <a:latin typeface="Verdana"/>
                <a:ea typeface="宋体"/>
              </a:rPr>
              <a:t>完整版下载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969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2E8E-EEE5-4E3F-A584-9A14EFC183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46240" y="0"/>
            <a:ext cx="6197760" cy="3720960"/>
          </a:xfrm>
          <a:prstGeom prst="rect">
            <a:avLst/>
          </a:prstGeom>
          <a:solidFill>
            <a:srgbClr val="7f4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9400" y="4106880"/>
            <a:ext cx="4629240" cy="55080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89400" y="4818240"/>
            <a:ext cx="4629240" cy="55080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98880" y="1117440"/>
            <a:ext cx="58798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ac8fe"/>
                </a:solidFill>
                <a:latin typeface="Verdana"/>
                <a:ea typeface="Gulim"/>
              </a:rPr>
              <a:t>Thank You!</a:t>
            </a:r>
            <a:endParaRPr b="0" lang="en-US" sz="54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930320" y="3530520"/>
            <a:ext cx="1447560" cy="1447560"/>
            <a:chOff x="1930320" y="3530520"/>
            <a:chExt cx="1447560" cy="1447560"/>
          </a:xfrm>
        </p:grpSpPr>
        <p:sp>
          <p:nvSpPr>
            <p:cNvPr id="304" name=""/>
            <p:cNvSpPr/>
            <p:nvPr/>
          </p:nvSpPr>
          <p:spPr>
            <a:xfrm>
              <a:off x="2413080" y="353052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413080" y="439344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5400000">
              <a:off x="198108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 rot="16200000">
              <a:off x="284436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540160" y="4371840"/>
            <a:ext cx="1368360" cy="2019240"/>
            <a:chOff x="2540160" y="4371840"/>
            <a:chExt cx="1368360" cy="2019240"/>
          </a:xfrm>
        </p:grpSpPr>
        <p:grpSp>
          <p:nvGrpSpPr>
            <p:cNvPr id="309" name=""/>
            <p:cNvGrpSpPr/>
            <p:nvPr/>
          </p:nvGrpSpPr>
          <p:grpSpPr>
            <a:xfrm>
              <a:off x="2540160" y="4371840"/>
              <a:ext cx="1368360" cy="2019240"/>
              <a:chOff x="2540160" y="4371840"/>
              <a:chExt cx="1368360" cy="2019240"/>
            </a:xfrm>
          </p:grpSpPr>
          <p:sp>
            <p:nvSpPr>
              <p:cNvPr id="310" name=""/>
              <p:cNvSpPr/>
              <p:nvPr/>
            </p:nvSpPr>
            <p:spPr>
              <a:xfrm>
                <a:off x="2540160" y="4371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643120" y="4371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70200" y="449892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97280" y="4626000"/>
                <a:ext cx="12708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22560" y="475272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49640" y="487980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276720" y="500688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406680" y="513396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33760" y="526068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60840" y="538776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81440" y="5514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419640" y="5769000"/>
                <a:ext cx="12708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419640" y="589572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46360" y="602280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6360" y="614988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46360" y="626400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19640" y="626400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01920" y="626400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74840" y="613728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74840" y="601020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7760" y="5883120"/>
                <a:ext cx="139680" cy="1396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047760" y="5756040"/>
                <a:ext cx="139680" cy="1396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21040" y="5629320"/>
                <a:ext cx="12708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781000" y="5743440"/>
                <a:ext cx="139680" cy="1396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666880" y="588168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40160" y="600228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40160" y="4498920"/>
                <a:ext cx="127080" cy="154944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73440" y="5514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46360" y="551484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19640" y="5514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2560" y="5514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92560" y="564192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 flipH="1">
              <a:off x="2659320" y="4486320"/>
              <a:ext cx="1009440" cy="1780920"/>
            </a:xfrm>
            <a:custGeom>
              <a:avLst/>
              <a:gdLst/>
              <a:ahLst/>
              <a:rect l="l" t="t" r="r" b="b"/>
              <a:pathLst>
                <a:path w="636" h="1122">
                  <a:moveTo>
                    <a:pt x="231" y="1122"/>
                  </a:moveTo>
                  <a:lnTo>
                    <a:pt x="72" y="1122"/>
                  </a:lnTo>
                  <a:lnTo>
                    <a:pt x="72" y="969"/>
                  </a:lnTo>
                  <a:lnTo>
                    <a:pt x="153" y="969"/>
                  </a:lnTo>
                  <a:lnTo>
                    <a:pt x="153" y="807"/>
                  </a:lnTo>
                  <a:lnTo>
                    <a:pt x="237" y="807"/>
                  </a:lnTo>
                  <a:lnTo>
                    <a:pt x="237" y="648"/>
                  </a:lnTo>
                  <a:lnTo>
                    <a:pt x="0" y="648"/>
                  </a:lnTo>
                  <a:lnTo>
                    <a:pt x="0" y="567"/>
                  </a:lnTo>
                  <a:lnTo>
                    <a:pt x="81" y="567"/>
                  </a:lnTo>
                  <a:lnTo>
                    <a:pt x="81" y="483"/>
                  </a:lnTo>
                  <a:lnTo>
                    <a:pt x="162" y="483"/>
                  </a:lnTo>
                  <a:lnTo>
                    <a:pt x="162" y="408"/>
                  </a:lnTo>
                  <a:lnTo>
                    <a:pt x="243" y="408"/>
                  </a:lnTo>
                  <a:lnTo>
                    <a:pt x="243" y="324"/>
                  </a:lnTo>
                  <a:lnTo>
                    <a:pt x="324" y="324"/>
                  </a:lnTo>
                  <a:lnTo>
                    <a:pt x="324" y="243"/>
                  </a:lnTo>
                  <a:lnTo>
                    <a:pt x="405" y="243"/>
                  </a:lnTo>
                  <a:lnTo>
                    <a:pt x="405" y="165"/>
                  </a:lnTo>
                  <a:lnTo>
                    <a:pt x="483" y="165"/>
                  </a:lnTo>
                  <a:lnTo>
                    <a:pt x="483" y="84"/>
                  </a:lnTo>
                  <a:lnTo>
                    <a:pt x="564" y="84"/>
                  </a:lnTo>
                  <a:lnTo>
                    <a:pt x="564" y="0"/>
                  </a:lnTo>
                  <a:lnTo>
                    <a:pt x="636" y="0"/>
                  </a:lnTo>
                  <a:lnTo>
                    <a:pt x="636" y="882"/>
                  </a:lnTo>
                  <a:lnTo>
                    <a:pt x="549" y="882"/>
                  </a:lnTo>
                  <a:lnTo>
                    <a:pt x="549" y="798"/>
                  </a:lnTo>
                  <a:lnTo>
                    <a:pt x="468" y="798"/>
                  </a:lnTo>
                  <a:lnTo>
                    <a:pt x="468" y="720"/>
                  </a:lnTo>
                  <a:lnTo>
                    <a:pt x="390" y="720"/>
                  </a:lnTo>
                  <a:lnTo>
                    <a:pt x="390" y="801"/>
                  </a:lnTo>
                  <a:lnTo>
                    <a:pt x="309" y="801"/>
                  </a:lnTo>
                  <a:lnTo>
                    <a:pt x="309" y="963"/>
                  </a:lnTo>
                  <a:lnTo>
                    <a:pt x="231" y="963"/>
                  </a:lnTo>
                  <a:lnTo>
                    <a:pt x="231" y="1122"/>
                  </a:lnTo>
                  <a:close/>
                </a:path>
              </a:pathLst>
            </a:custGeom>
            <a:solidFill>
              <a:srgbClr val="7f4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Related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002960" y="1371600"/>
            <a:ext cx="7581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496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bd5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d55b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f4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496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ont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60440" y="4432320"/>
            <a:ext cx="5283360" cy="812880"/>
            <a:chOff x="2260440" y="4432320"/>
            <a:chExt cx="5283360" cy="812880"/>
          </a:xfrm>
        </p:grpSpPr>
        <p:sp>
          <p:nvSpPr>
            <p:cNvPr id="205" name=""/>
            <p:cNvSpPr/>
            <p:nvPr/>
          </p:nvSpPr>
          <p:spPr>
            <a:xfrm>
              <a:off x="2590560" y="4525920"/>
              <a:ext cx="495324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260440" y="4432320"/>
              <a:ext cx="812880" cy="812880"/>
              <a:chOff x="2260440" y="4432320"/>
              <a:chExt cx="812880" cy="812880"/>
            </a:xfrm>
          </p:grpSpPr>
          <p:sp>
            <p:nvSpPr>
              <p:cNvPr id="207" name=""/>
              <p:cNvSpPr/>
              <p:nvPr/>
            </p:nvSpPr>
            <p:spPr>
              <a:xfrm>
                <a:off x="2260440" y="443232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87520" y="4554720"/>
                <a:ext cx="563400" cy="5634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260440" y="2552760"/>
            <a:ext cx="5283360" cy="812880"/>
            <a:chOff x="2260440" y="2552760"/>
            <a:chExt cx="5283360" cy="812880"/>
          </a:xfrm>
        </p:grpSpPr>
        <p:sp>
          <p:nvSpPr>
            <p:cNvPr id="210" name=""/>
            <p:cNvSpPr/>
            <p:nvPr/>
          </p:nvSpPr>
          <p:spPr>
            <a:xfrm>
              <a:off x="2590560" y="2646360"/>
              <a:ext cx="495324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60440" y="2552760"/>
              <a:ext cx="812880" cy="812880"/>
              <a:chOff x="2260440" y="2552760"/>
              <a:chExt cx="812880" cy="812880"/>
            </a:xfrm>
          </p:grpSpPr>
          <p:sp>
            <p:nvSpPr>
              <p:cNvPr id="212" name=""/>
              <p:cNvSpPr/>
              <p:nvPr/>
            </p:nvSpPr>
            <p:spPr>
              <a:xfrm>
                <a:off x="2260440" y="255276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87520" y="2675160"/>
                <a:ext cx="563400" cy="5634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2260440" y="3492360"/>
            <a:ext cx="5283360" cy="812880"/>
            <a:chOff x="2260440" y="3492360"/>
            <a:chExt cx="5283360" cy="812880"/>
          </a:xfrm>
        </p:grpSpPr>
        <p:sp>
          <p:nvSpPr>
            <p:cNvPr id="215" name=""/>
            <p:cNvSpPr/>
            <p:nvPr/>
          </p:nvSpPr>
          <p:spPr>
            <a:xfrm>
              <a:off x="2590560" y="3585960"/>
              <a:ext cx="495324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4496"/>
                </a:gs>
                <a:gs pos="100000">
                  <a:srgbClr val="5401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260440" y="3492360"/>
              <a:ext cx="812880" cy="812880"/>
              <a:chOff x="2260440" y="3492360"/>
              <a:chExt cx="812880" cy="812880"/>
            </a:xfrm>
          </p:grpSpPr>
          <p:sp>
            <p:nvSpPr>
              <p:cNvPr id="217" name=""/>
              <p:cNvSpPr/>
              <p:nvPr/>
            </p:nvSpPr>
            <p:spPr>
              <a:xfrm>
                <a:off x="2260440" y="349236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87520" y="3614760"/>
                <a:ext cx="563400" cy="5634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3098880" y="2629080"/>
            <a:ext cx="3911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trateg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1480" y="3568680"/>
            <a:ext cx="39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hallengers Forwar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11480" y="4508640"/>
            <a:ext cx="389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nclus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76440" y="3645000"/>
            <a:ext cx="37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60440" y="1625760"/>
            <a:ext cx="5283360" cy="812520"/>
            <a:chOff x="2260440" y="1625760"/>
            <a:chExt cx="5283360" cy="812520"/>
          </a:xfrm>
        </p:grpSpPr>
        <p:sp>
          <p:nvSpPr>
            <p:cNvPr id="224" name=""/>
            <p:cNvSpPr/>
            <p:nvPr/>
          </p:nvSpPr>
          <p:spPr>
            <a:xfrm>
              <a:off x="2590560" y="1719000"/>
              <a:ext cx="4953240" cy="591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4496"/>
                </a:gs>
                <a:gs pos="100000">
                  <a:srgbClr val="5401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260440" y="1625760"/>
              <a:ext cx="812880" cy="812520"/>
              <a:chOff x="2260440" y="1625760"/>
              <a:chExt cx="812880" cy="812520"/>
            </a:xfrm>
          </p:grpSpPr>
          <p:sp>
            <p:nvSpPr>
              <p:cNvPr id="226" name=""/>
              <p:cNvSpPr/>
              <p:nvPr/>
            </p:nvSpPr>
            <p:spPr>
              <a:xfrm>
                <a:off x="2260440" y="1625760"/>
                <a:ext cx="812880" cy="81252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87520" y="1747800"/>
                <a:ext cx="563400" cy="5630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3086280" y="1701720"/>
            <a:ext cx="392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Introduc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63840" y="179064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63840" y="270504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63840" y="4597560"/>
            <a:ext cx="369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49440" y="1695600"/>
            <a:ext cx="6794640" cy="4209840"/>
          </a:xfrm>
          <a:prstGeom prst="roundRect">
            <a:avLst>
              <a:gd name="adj" fmla="val 88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89160" y="1473120"/>
            <a:ext cx="5294160" cy="620640"/>
            <a:chOff x="1289160" y="1473120"/>
            <a:chExt cx="5294160" cy="620640"/>
          </a:xfrm>
        </p:grpSpPr>
        <p:sp>
          <p:nvSpPr>
            <p:cNvPr id="234" name=""/>
            <p:cNvSpPr/>
            <p:nvPr/>
          </p:nvSpPr>
          <p:spPr>
            <a:xfrm>
              <a:off x="1422360" y="1490760"/>
              <a:ext cx="5160960" cy="414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289160" y="1473120"/>
              <a:ext cx="596880" cy="620640"/>
              <a:chOff x="1289160" y="1473120"/>
              <a:chExt cx="596880" cy="620640"/>
            </a:xfrm>
          </p:grpSpPr>
          <p:sp>
            <p:nvSpPr>
              <p:cNvPr id="236" name=""/>
              <p:cNvSpPr/>
              <p:nvPr/>
            </p:nvSpPr>
            <p:spPr>
              <a:xfrm>
                <a:off x="1297080" y="1504800"/>
                <a:ext cx="588960" cy="5889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1289160" y="1473120"/>
                <a:ext cx="596880" cy="596880"/>
                <a:chOff x="1289160" y="1473120"/>
                <a:chExt cx="596880" cy="5968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289160" y="1473120"/>
                  <a:ext cx="596880" cy="596880"/>
                </a:xfrm>
                <a:prstGeom prst="donut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12600" dir="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427400" y="1601640"/>
                  <a:ext cx="336600" cy="3366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0" name=""/>
          <p:cNvSpPr/>
          <p:nvPr/>
        </p:nvSpPr>
        <p:spPr>
          <a:xfrm>
            <a:off x="1892160" y="1536840"/>
            <a:ext cx="3760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c8fe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2127240"/>
            <a:ext cx="3098880" cy="370224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2240"/>
              <a:gd name="textAreaBottom" fmla="*/ 3621960 h 3702240"/>
            </a:gdLst>
            <a:ahLst/>
            <a:rect l="textAreaLeft" t="textAreaTop" r="textAreaRight" b="textAreaBottom"/>
            <a:pathLst>
              <a:path w="21600" h="25805">
                <a:moveTo>
                  <a:pt x="1913" y="0"/>
                </a:moveTo>
                <a:arcTo wR="1913" hR="1913" stAng="16200000" swAng="-5400000"/>
                <a:lnTo>
                  <a:pt x="0" y="23892"/>
                </a:lnTo>
                <a:arcTo wR="1913" hR="1913" stAng="10800000" swAng="-5400000"/>
                <a:lnTo>
                  <a:pt x="19687" y="25805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84880" y="2127240"/>
            <a:ext cx="3098880" cy="370224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2240"/>
              <a:gd name="textAreaBottom" fmla="*/ 3621960 h 3702240"/>
            </a:gdLst>
            <a:ahLst/>
            <a:rect l="textAreaLeft" t="textAreaTop" r="textAreaRight" b="textAreaBottom"/>
            <a:pathLst>
              <a:path w="21600" h="25805">
                <a:moveTo>
                  <a:pt x="1913" y="0"/>
                </a:moveTo>
                <a:arcTo wR="1913" hR="1913" stAng="16200000" swAng="-5400000"/>
                <a:lnTo>
                  <a:pt x="0" y="23892"/>
                </a:lnTo>
                <a:arcTo wR="1913" hR="1913" stAng="10800000" swAng="-5400000"/>
                <a:lnTo>
                  <a:pt x="19687" y="25805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 rot="16200000">
            <a:off x="4691520" y="3613320"/>
            <a:ext cx="685800" cy="639720"/>
          </a:xfrm>
          <a:prstGeom prst="upArrow">
            <a:avLst>
              <a:gd name="adj1" fmla="val 50000"/>
              <a:gd name="adj2" fmla="val 49241"/>
            </a:avLst>
          </a:prstGeom>
          <a:gradFill rotWithShape="0">
            <a:gsLst>
              <a:gs pos="0">
                <a:srgbClr val="dbd55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22400" y="1397160"/>
            <a:ext cx="5294160" cy="620640"/>
            <a:chOff x="1022400" y="1397160"/>
            <a:chExt cx="5294160" cy="620640"/>
          </a:xfrm>
        </p:grpSpPr>
        <p:sp>
          <p:nvSpPr>
            <p:cNvPr id="248" name=""/>
            <p:cNvSpPr/>
            <p:nvPr/>
          </p:nvSpPr>
          <p:spPr>
            <a:xfrm>
              <a:off x="1155600" y="1414800"/>
              <a:ext cx="5160960" cy="414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022400" y="1397160"/>
              <a:ext cx="596880" cy="620640"/>
              <a:chOff x="1022400" y="1397160"/>
              <a:chExt cx="596880" cy="620640"/>
            </a:xfrm>
          </p:grpSpPr>
          <p:sp>
            <p:nvSpPr>
              <p:cNvPr id="250" name=""/>
              <p:cNvSpPr/>
              <p:nvPr/>
            </p:nvSpPr>
            <p:spPr>
              <a:xfrm>
                <a:off x="1030320" y="1428840"/>
                <a:ext cx="588960" cy="5889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1022400" y="1397160"/>
                <a:ext cx="596880" cy="596880"/>
                <a:chOff x="1022400" y="1397160"/>
                <a:chExt cx="596880" cy="5968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022400" y="1397160"/>
                  <a:ext cx="596880" cy="596880"/>
                </a:xfrm>
                <a:prstGeom prst="donut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12600" dir="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160640" y="1525680"/>
                  <a:ext cx="336600" cy="3366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4" name=""/>
          <p:cNvSpPr/>
          <p:nvPr/>
        </p:nvSpPr>
        <p:spPr>
          <a:xfrm>
            <a:off x="1625760" y="1460520"/>
            <a:ext cx="3760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8588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8588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8588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8588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2416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2416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2416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2416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62440" y="205884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62440" y="280512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62440" y="3551400"/>
            <a:ext cx="153684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62440" y="4295880"/>
            <a:ext cx="153684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9928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9928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9928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9928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01680" y="205884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01680" y="280512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01680" y="3551400"/>
            <a:ext cx="1386000" cy="74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01680" y="4295880"/>
            <a:ext cx="1386000" cy="74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8588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135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2416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135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62440" y="1676520"/>
            <a:ext cx="1536840" cy="39528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135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19928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135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01680" y="1676520"/>
            <a:ext cx="1386000" cy="39528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135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8588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2416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62440" y="504504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9928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01680" y="504504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668600" y="1224000"/>
          <a:ext cx="662148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1224000"/>
                    <a:ext cx="662148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389240" y="1271520"/>
          <a:ext cx="715320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1271520"/>
                    <a:ext cx="71532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365120" y="1341360"/>
          <a:ext cx="735336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341360"/>
                    <a:ext cx="735336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c8fe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56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