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CCF-EE1E-4B57-A0E7-EF0F40CD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768-4131-4BD1-9588-10FEBE4E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674C71-A922-4C83-83A2-50E43138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11262F-1214-4039-BABF-34846AF7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F00440-7F89-4A3E-9CA7-617E30E1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1398AB-BDB9-4AE8-BAA3-AC8FB5D5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189EF7-F6F8-4628-A89A-F1DA31A4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27AB33-83FA-4515-84F3-D4A9442A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600D2A-4DEE-43F5-83CD-4FD59C82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8C70B7-2EEF-4F39-8BCA-EED29DAA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5F1D96-9C34-4FEB-BDD2-0B0DFCC1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AC43AD-4A43-407C-94EE-72C9703B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42A-D424-45ED-A6C6-5CDAEDD6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20D68C-C359-4053-BCA8-EC2309CD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C4FCC1-24C1-4C86-B84D-9B8F88F2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E18E0E-EF34-4376-A323-8F5F1258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D95151-8F1C-405F-BE9E-28B49497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C8D598-F3AF-43EB-96A6-1B284F2A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172864-4988-4494-BA4A-9FB38C5A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7A8B12-4C82-4F79-BC88-BE09C14B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2A63AE-C802-42C5-91B8-5CF74C52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16CED8-32E5-4679-AED0-E8396F95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15DE09-34C1-40BD-82F4-3FCBAEA2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C39-5DEF-4702-A499-C5B5321D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CD076B-C175-4B43-8D9F-7C79A88F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7B16AB-BCAD-48C5-AEA5-3E1C019A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89C661-8D45-43BF-B134-A67908D2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8A6163-64E5-4A4B-8782-29159861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4C9FE0-D455-49AC-90D4-AE13F601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0F5D52-CE3B-4EB1-9ED3-A1D774D2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615E60-A3C5-4799-B1E4-D9033748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6BEAEE-1290-42DE-A65D-DD770CA8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50CF0A-AE79-4699-BFD0-CA93AD29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9F800A-6B43-404D-A7FF-A9F0E013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1B79D-D316-4513-9383-F2A51E5748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71335F-D6BB-422C-807F-D5D87265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A8B674-D20D-4187-B992-37A9016D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6C7FCF-D4A9-45BE-9024-756F3D7B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6F0F9D-0302-434F-BF1D-CC55B863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6B0AB6-22F1-4C8D-90EE-AF7A7EC4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1DF117-3130-4E91-B554-BA52A293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56C731-E9CF-406D-8B35-FF5AE80B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26594E-9757-4FAD-8B78-A9C00EC5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E15726-1DAC-4839-AD8E-77D165A4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841E14-F877-4B52-8F00-F3AF23AC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B7221-07BC-43D1-AE7D-F3F5C98C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0356FC-0FB8-49D6-91B3-228F3082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C0711C-F173-48B8-8405-1CDEEE6B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7FA08D-551D-4A66-B8B6-2CDED50F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B2014E-28CA-416A-B536-717AFFBD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1C4ECE-5CF2-48E2-8EB2-D929797E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4FB6E1-53BD-46DD-9098-CA20A61E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5F5504-DE0A-40C6-AB13-4AE26810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A4935B-4DDF-4ABC-9EDB-796063DA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70810C-EAC0-4C98-808C-786319B9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B09913-E035-435E-9653-C334ED45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3A310-5FA5-4964-A2E9-290D6E77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12EA59-507B-4044-9CCC-5E922C70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FF6D4E-2642-48F3-AF4D-9FA75F7F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BE8549-6026-443D-81D3-8D61A0DA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9460C2-8938-4671-94CC-6616F276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65C900-68F4-4A62-93E5-28F06713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8B2481-70D7-4833-9659-A2F92FDF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C4EE31-593F-4D06-A7C9-5EC9C401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FF93C-D3DB-48CF-8EEF-7664F736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98B8B-D5E6-4276-B17D-55E00ED0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D2C49-08B1-4B86-ABDA-EB5B13AA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3E9D2-6E3C-4839-BE65-788874F3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C0E-1AAE-4FF0-BCD4-E7C8A194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C7290-4A13-4AD1-8C57-65EF883B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D7300-E7EB-4B4E-B0C9-C2D4C917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327BF-AF1E-4913-B43A-6B1B3997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75623-A079-42E4-8BFE-76CB83E9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090DE-C1A7-4DDE-9A8A-A96AC7C093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CC8C1-96AC-4369-959D-546A5270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84C53-75D0-4E36-8E7D-AA77C567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5AA08-51FC-4722-A4B6-BF3EB3C9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853FB-1CE0-4BB8-88AA-A27191F5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6C35A-8A36-498D-B722-185BF537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6E8-0512-4496-80CF-2D7ED56E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B0367-03DF-439E-AEBF-6A32737F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111C1-FF8E-4F3C-95EA-D58DB60B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50C2C-48D7-4470-AAA3-49C22123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E687E-0C07-4E72-A24C-C712830B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72D2D-8E18-4178-80B4-DB2A6BAF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358CD-FE1F-46C3-A7DE-52909E4C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27843-775F-40C2-A6B0-36AA21B6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8BBCF9-B7A5-475A-BDB3-FBBCA7A1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515CBE-7732-4452-8BAC-1ADFC36B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06495B-2D82-4916-BDD9-ECC7D64B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A8A-0389-4728-8D71-24CFFEEC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6AE08A-F495-4199-B1F1-F924FF51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20E23F-A27A-4A4A-B84F-D544CF9A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336838-C9C7-4FBB-AD2E-7505F019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C57E9-B016-417F-B27D-C3C39DAC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160D4F-9F74-4120-A98F-B649818A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BC09E2-9046-4204-825E-B4D7F4BD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A9E97-7354-4F8B-B6D9-0F2F6368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FC90D-5997-48FC-8036-595F4533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DD770-A411-4F30-A00A-6B76D904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35FD7-70C5-4862-93D3-2E71A7A5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90B-4129-42BF-95D6-2851A443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5AB73-C15F-4638-828B-65E53F97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0E621-3707-4F79-ABC6-7E96C7BA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9FADB-D6C0-4448-A30F-5D31B39A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52A94-00FC-4D3A-A4B4-56D7C5C4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ED84E-0973-457A-809E-94370FAC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55B7D-9881-47DE-B32E-71DF151F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EF531-A3B4-4E19-BDE0-01EF6ED7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A445F-0D3F-486D-ACE0-E3BDA7A6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E74B8-BD1C-45C1-BC9F-100AF70A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921CD7-4B35-4E2B-96BF-758B1BDA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589-9A19-43DE-8306-F7362DF3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88AD6-DFD3-4F64-B66F-84C933942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B2D54-D084-4727-A275-796669B5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9AC7A-972A-401E-9277-71350037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E0394D-502B-417B-AC3C-8DA43F74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915506-0113-4CFE-BA0C-B4D35F22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648FF-E1D5-4449-BAC0-03D4D0C9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B47B02-E145-42F5-A564-6F1E33E1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E85D4-E861-460E-8E76-10708C46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8F3B1-58D5-40B1-8C57-E81713E0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F59D0C-FC39-4338-AA6C-7566813B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441-EDBA-4A10-A1C2-4E558396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BA5A70-D7B5-42F4-96B1-083B274A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A75CD-DE2C-4DAF-ADED-36803B8E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EB9A0-307E-4177-A9B2-8B7C9406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CF0B3A-4E45-4DB2-9E1E-63167A88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164EA-5F9C-4E72-AAF0-BE618651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FF98F-A309-4EC2-8468-461282A7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CCB987-43CA-47E2-82E5-6C7425E7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B072FE-B6F1-4916-A2EA-71EE2656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AFBD2-39D3-427E-8BC4-404F5F74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266E32-5FF7-413D-A25D-BEFE9995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D67-0809-428E-9584-6009EDD1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C6E5B2-EE62-4057-86C4-C1711C7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2D493B-4EAF-4E38-B1D0-85482B85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A4316B-D4B2-4E5E-B889-B21E7312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897F39-9F10-4CBA-9F0F-DB2B768A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7B5D2-22D4-4F67-B0F4-C8A1D273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DE2B1E-132E-4ED8-9C8C-B255D3BC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8A53F6-E853-4F4B-9142-76F72E21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D469EF-2E29-4E79-B4FA-FC1A2D4D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C169F2-5672-45E2-862A-D157B4A5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BE2F41-E7AE-4962-9ED4-22FB8560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6E3-5D0F-4CC9-94E5-6BB02725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824B1D-C899-4741-8494-8A3856AB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6CCD7B-83C3-4E81-822E-C4B567F7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565A1A-FC01-4ECE-A2DA-B825616C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35BBB1-901B-480A-8185-7A7709DB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E61377-DAD2-4092-939F-E569CB0B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319AA3-DA52-4430-9609-95123C63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2B9AF6-7C34-4637-9F52-BEC05A30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323950-A661-46E7-BEE3-BE3D16B9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CE0FB8-6AE6-407B-A7C8-A469F64A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DD2FE3-4C0A-4528-9154-2AC0A431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612B-22A0-4BEC-9A28-33C0CFFFC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459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7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8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9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C89F-E59E-4655-8294-0A302941F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511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0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1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2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B9C8-76DF-4E4B-B7C4-8515B83C1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563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3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4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5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2D89-917B-4460-B3E4-448D131ED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15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36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37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38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0F49-A031-4C0C-B17B-E695D387A67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66AB-19CC-4159-9FE5-3AAEFCF704AA}" type="slidenum">
              <a: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95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6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7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8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9D39-992C-4341-9974-E0AAA802D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147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9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0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1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1783-8CF5-48BC-BD1C-7D003B3EE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199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2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3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4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11E4-2168-4FBE-A6F1-727C3E34B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251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5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6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7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6C0E-2E15-4E47-812A-8A129C4AA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303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8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9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0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9593-648B-4718-A5FC-9DBEFBB7B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355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E23B-04AC-4AB9-A129-4D8BA2E12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407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4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5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6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FDD1-E56D-460F-AF2A-D033F6A19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187164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商务箭头分析报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066680" y="257508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68" name="Line 6"/>
          <p:cNvSpPr/>
          <p:nvPr/>
        </p:nvSpPr>
        <p:spPr>
          <a:xfrm flipV="1">
            <a:off x="0" y="2625480"/>
            <a:ext cx="57373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AutoShape 8"/>
          <p:cNvSpPr/>
          <p:nvPr/>
        </p:nvSpPr>
        <p:spPr>
          <a:xfrm rot="5400000">
            <a:off x="2552400" y="2706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5400000">
            <a:off x="2738160" y="2711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6320" y="64771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Group 3"/>
          <p:cNvGrpSpPr/>
          <p:nvPr/>
        </p:nvGrpSpPr>
        <p:grpSpPr>
          <a:xfrm>
            <a:off x="2894760" y="2133720"/>
            <a:ext cx="3197520" cy="2890800"/>
            <a:chOff x="2894760" y="2133720"/>
            <a:chExt cx="3197520" cy="2890800"/>
          </a:xfrm>
        </p:grpSpPr>
        <p:sp>
          <p:nvSpPr>
            <p:cNvPr id="818" name="AutoShape 4"/>
            <p:cNvSpPr/>
            <p:nvPr/>
          </p:nvSpPr>
          <p:spPr>
            <a:xfrm flipH="1" rot="16200000">
              <a:off x="2812680" y="3245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5eaf6"/>
                </a:gs>
                <a:gs pos="100000">
                  <a:srgbClr val="94ca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AutoShape 5"/>
            <p:cNvSpPr/>
            <p:nvPr/>
          </p:nvSpPr>
          <p:spPr>
            <a:xfrm flipH="1" rot="5400000">
              <a:off x="5682960" y="3191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5eaf6"/>
                </a:gs>
                <a:gs pos="100000">
                  <a:srgbClr val="94cae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AutoShape 6"/>
            <p:cNvSpPr/>
            <p:nvPr/>
          </p:nvSpPr>
          <p:spPr>
            <a:xfrm flipH="1" rot="10800000">
              <a:off x="4249080" y="4697640"/>
              <a:ext cx="48960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5eaf6"/>
                </a:gs>
                <a:gs pos="100000">
                  <a:srgbClr val="94ca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Oval 7"/>
            <p:cNvSpPr/>
            <p:nvPr/>
          </p:nvSpPr>
          <p:spPr>
            <a:xfrm>
              <a:off x="3220920" y="2133720"/>
              <a:ext cx="256644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3367440" y="2278080"/>
              <a:ext cx="2272320" cy="227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3501000" y="2413080"/>
              <a:ext cx="2005200" cy="200664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50000">
                  <a:srgbClr val="ffffff"/>
                </a:gs>
                <a:gs pos="100000">
                  <a:srgbClr val="8a52c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3501000" y="2413080"/>
              <a:ext cx="20052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633120" y="2544840"/>
              <a:ext cx="1741320" cy="174312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50000">
                  <a:srgbClr val="4b2c6c"/>
                </a:gs>
                <a:gs pos="100000">
                  <a:srgbClr val="8a52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633120" y="2544840"/>
              <a:ext cx="1741320" cy="174312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7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7adf"/>
              </a:gs>
              <a:gs pos="50000">
                <a:srgbClr val="163867"/>
              </a:gs>
              <a:gs pos="100000">
                <a:srgbClr val="2f7a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7adf"/>
              </a:gs>
              <a:gs pos="50000">
                <a:srgbClr val="163867"/>
              </a:gs>
              <a:gs pos="100000">
                <a:srgbClr val="2f7a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7adf"/>
              </a:gs>
              <a:gs pos="50000">
                <a:srgbClr val="163867"/>
              </a:gs>
              <a:gs pos="100000">
                <a:srgbClr val="2f7a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ab14b"/>
              </a:gs>
              <a:gs pos="50000">
                <a:srgbClr val="2a5223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ab14b"/>
              </a:gs>
              <a:gs pos="50000">
                <a:srgbClr val="2a5223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ab14b"/>
              </a:gs>
              <a:gs pos="50000">
                <a:srgbClr val="2a5223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/>
              </a:gs>
              <a:gs pos="50000">
                <a:srgbClr val="163867"/>
              </a:gs>
              <a:gs pos="100000">
                <a:srgbClr val="2f7ad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页脚占位符 26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Freeform 3"/>
          <p:cNvSpPr/>
          <p:nvPr/>
        </p:nvSpPr>
        <p:spPr>
          <a:xfrm>
            <a:off x="7761240" y="1752480"/>
            <a:ext cx="614520" cy="981360"/>
          </a:xfrm>
          <a:prstGeom prst="pie">
            <a:avLst/>
          </a:prstGeom>
          <a:gradFill rotWithShape="0">
            <a:gsLst>
              <a:gs pos="0">
                <a:srgbClr val="00563f"/>
              </a:gs>
              <a:gs pos="50000">
                <a:srgbClr val="00281d"/>
              </a:gs>
              <a:gs pos="100000">
                <a:srgbClr val="00563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Freeform 4"/>
          <p:cNvSpPr/>
          <p:nvPr/>
        </p:nvSpPr>
        <p:spPr>
          <a:xfrm>
            <a:off x="4821120" y="1752480"/>
            <a:ext cx="3560760" cy="627120"/>
          </a:xfrm>
          <a:prstGeom prst="pi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Freeform 5"/>
          <p:cNvSpPr/>
          <p:nvPr/>
        </p:nvSpPr>
        <p:spPr>
          <a:xfrm>
            <a:off x="7143840" y="2727360"/>
            <a:ext cx="612720" cy="974520"/>
          </a:xfrm>
          <a:prstGeom prst="pie">
            <a:avLst/>
          </a:prstGeom>
          <a:gradFill rotWithShape="0">
            <a:gsLst>
              <a:gs pos="0">
                <a:srgbClr val="4b1092"/>
              </a:gs>
              <a:gs pos="50000">
                <a:srgbClr val="230744"/>
              </a:gs>
              <a:gs pos="100000">
                <a:srgbClr val="4b109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Freeform 6"/>
          <p:cNvSpPr/>
          <p:nvPr/>
        </p:nvSpPr>
        <p:spPr>
          <a:xfrm>
            <a:off x="3936960" y="2727360"/>
            <a:ext cx="3827520" cy="625320"/>
          </a:xfrm>
          <a:prstGeom prst="pie">
            <a:avLst/>
          </a:pr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Freeform 7"/>
          <p:cNvSpPr/>
          <p:nvPr/>
        </p:nvSpPr>
        <p:spPr>
          <a:xfrm>
            <a:off x="6524640" y="3691080"/>
            <a:ext cx="611280" cy="981000"/>
          </a:xfrm>
          <a:prstGeom prst="pie">
            <a:avLst/>
          </a:prstGeom>
          <a:gradFill rotWithShape="0">
            <a:gsLst>
              <a:gs pos="0">
                <a:srgbClr val="90330a"/>
              </a:gs>
              <a:gs pos="50000">
                <a:srgbClr val="431805"/>
              </a:gs>
              <a:gs pos="100000">
                <a:srgbClr val="90330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Freeform 8"/>
          <p:cNvSpPr/>
          <p:nvPr/>
        </p:nvSpPr>
        <p:spPr>
          <a:xfrm>
            <a:off x="5910120" y="4657680"/>
            <a:ext cx="614520" cy="981000"/>
          </a:xfrm>
          <a:prstGeom prst="pie">
            <a:avLst/>
          </a:prstGeom>
          <a:gradFill rotWithShape="0">
            <a:gsLst>
              <a:gs pos="0">
                <a:srgbClr val="906b0e"/>
              </a:gs>
              <a:gs pos="50000">
                <a:srgbClr val="433206"/>
              </a:gs>
              <a:gs pos="100000">
                <a:srgbClr val="906b0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Freeform 9"/>
          <p:cNvSpPr/>
          <p:nvPr/>
        </p:nvSpPr>
        <p:spPr>
          <a:xfrm>
            <a:off x="2178000" y="4662360"/>
            <a:ext cx="4346640" cy="627120"/>
          </a:xfrm>
          <a:prstGeom prst="pie">
            <a:avLst/>
          </a:pr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Freeform 19"/>
          <p:cNvSpPr/>
          <p:nvPr/>
        </p:nvSpPr>
        <p:spPr>
          <a:xfrm>
            <a:off x="2808360" y="1941480"/>
            <a:ext cx="1957320" cy="3157560"/>
          </a:xfrm>
          <a:prstGeom prst="pie">
            <a:avLst/>
          </a:pr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906a"/>
              </a:gs>
              <a:gs pos="50000">
                <a:srgbClr val="00684d"/>
              </a:gs>
              <a:gs pos="100000">
                <a:srgbClr val="00906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8041ff"/>
              </a:gs>
              <a:gs pos="50000">
                <a:srgbClr val="5d2fb9"/>
              </a:gs>
              <a:gs pos="100000">
                <a:srgbClr val="8041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Freeform 22"/>
          <p:cNvSpPr/>
          <p:nvPr/>
        </p:nvSpPr>
        <p:spPr>
          <a:xfrm>
            <a:off x="3059280" y="3691080"/>
            <a:ext cx="4082760" cy="631800"/>
          </a:xfrm>
          <a:prstGeom prst="pi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dc7150"/>
              </a:gs>
              <a:gs pos="50000">
                <a:srgbClr val="a0523a"/>
              </a:gs>
              <a:gs pos="100000">
                <a:srgbClr val="dc71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d0a11c"/>
              </a:gs>
              <a:gs pos="50000">
                <a:srgbClr val="977514"/>
              </a:gs>
              <a:gs pos="100000">
                <a:srgbClr val="d0a11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页脚占位符 28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1" name=""/>
          <p:cNvGraphicFramePr/>
          <p:nvPr/>
        </p:nvGraphicFramePr>
        <p:xfrm>
          <a:off x="762120" y="1828800"/>
          <a:ext cx="7543800" cy="396252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5680"/>
                <a:gridCol w="1886040"/>
              </a:tblGrid>
              <a:tr h="63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72" name="页脚占位符 3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50000">
                <a:srgbClr val="ffffff"/>
              </a:gs>
              <a:gs pos="100000">
                <a:srgbClr val="8a52c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a52c8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50000">
                <a:srgbClr val="4b2c6c"/>
              </a:gs>
              <a:gs pos="100000">
                <a:srgbClr val="8a52c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a52c8">
                  <a:alpha val="0"/>
                </a:srgbClr>
              </a:gs>
              <a:gs pos="100000">
                <a:srgbClr val="5834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/>
              </a:gs>
              <a:gs pos="50000">
                <a:srgbClr val="ffffff"/>
              </a:gs>
              <a:gs pos="100000">
                <a:srgbClr val="c483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c48352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c48352"/>
              </a:gs>
              <a:gs pos="50000">
                <a:srgbClr val="6a472c"/>
              </a:gs>
              <a:gs pos="100000">
                <a:srgbClr val="c4835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c48352">
                  <a:alpha val="0"/>
                </a:srgbClr>
              </a:gs>
              <a:gs pos="100000">
                <a:srgbClr val="7d53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6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887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Oval 17"/>
            <p:cNvSpPr/>
            <p:nvPr/>
          </p:nvSpPr>
          <p:spPr>
            <a:xfrm>
              <a:off x="103860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1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50000">
                <a:srgbClr val="ffffff"/>
              </a:gs>
              <a:gs pos="100000">
                <a:srgbClr val="5ab14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2a5223"/>
              </a:gs>
              <a:gs pos="100000">
                <a:srgbClr val="5ab14b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50000">
                <a:srgbClr val="316029"/>
              </a:gs>
              <a:gs pos="100000">
                <a:srgbClr val="5ab14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ab14b">
                  <a:alpha val="0"/>
                </a:srgbClr>
              </a:gs>
              <a:gs pos="100000">
                <a:srgbClr val="3970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897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27"/>
            <p:cNvSpPr/>
            <p:nvPr/>
          </p:nvSpPr>
          <p:spPr>
            <a:xfrm>
              <a:off x="377532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902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32"/>
            <p:cNvSpPr/>
            <p:nvPr/>
          </p:nvSpPr>
          <p:spPr>
            <a:xfrm>
              <a:off x="652176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页脚占位符 40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52c8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Freeform 3"/>
          <p:cNvSpPr/>
          <p:nvPr/>
        </p:nvSpPr>
        <p:spPr>
          <a:xfrm>
            <a:off x="990720" y="1974960"/>
            <a:ext cx="5943600" cy="4038480"/>
          </a:xfrm>
          <a:prstGeom prst="pie">
            <a:avLst/>
          </a:prstGeom>
          <a:gradFill rotWithShape="0">
            <a:gsLst>
              <a:gs pos="0">
                <a:srgbClr val="2f7adf"/>
              </a:gs>
              <a:gs pos="100000">
                <a:srgbClr val="94cae8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2"/>
          <p:cNvSpPr/>
          <p:nvPr/>
        </p:nvSpPr>
        <p:spPr>
          <a:xfrm>
            <a:off x="5562720" y="349884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Oval 34"/>
          <p:cNvSpPr/>
          <p:nvPr/>
        </p:nvSpPr>
        <p:spPr>
          <a:xfrm rot="20876400">
            <a:off x="313848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Oval 35"/>
          <p:cNvSpPr/>
          <p:nvPr/>
        </p:nvSpPr>
        <p:spPr>
          <a:xfrm>
            <a:off x="30700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Oval 36"/>
          <p:cNvSpPr/>
          <p:nvPr/>
        </p:nvSpPr>
        <p:spPr>
          <a:xfrm>
            <a:off x="30909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Oval 37"/>
          <p:cNvSpPr/>
          <p:nvPr/>
        </p:nvSpPr>
        <p:spPr>
          <a:xfrm>
            <a:off x="310824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Oval 38"/>
          <p:cNvSpPr/>
          <p:nvPr/>
        </p:nvSpPr>
        <p:spPr>
          <a:xfrm>
            <a:off x="320040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9"/>
          <p:cNvSpPr/>
          <p:nvPr/>
        </p:nvSpPr>
        <p:spPr>
          <a:xfrm>
            <a:off x="34880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40"/>
          <p:cNvSpPr/>
          <p:nvPr/>
        </p:nvSpPr>
        <p:spPr>
          <a:xfrm rot="20826600">
            <a:off x="129528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41"/>
          <p:cNvGrpSpPr/>
          <p:nvPr/>
        </p:nvGrpSpPr>
        <p:grpSpPr>
          <a:xfrm>
            <a:off x="1219320" y="3352680"/>
            <a:ext cx="1371240" cy="1441080"/>
            <a:chOff x="1219320" y="3352680"/>
            <a:chExt cx="1371240" cy="1441080"/>
          </a:xfrm>
        </p:grpSpPr>
        <p:sp>
          <p:nvSpPr>
            <p:cNvPr id="925" name="Oval 42"/>
            <p:cNvSpPr/>
            <p:nvPr/>
          </p:nvSpPr>
          <p:spPr>
            <a:xfrm>
              <a:off x="12193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Oval 43"/>
            <p:cNvSpPr/>
            <p:nvPr/>
          </p:nvSpPr>
          <p:spPr>
            <a:xfrm>
              <a:off x="1237320" y="33609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Oval 44"/>
            <p:cNvSpPr/>
            <p:nvPr/>
          </p:nvSpPr>
          <p:spPr>
            <a:xfrm>
              <a:off x="1250280" y="337428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Oval 45"/>
            <p:cNvSpPr/>
            <p:nvPr/>
          </p:nvSpPr>
          <p:spPr>
            <a:xfrm>
              <a:off x="1321920" y="341100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Text Box 46"/>
            <p:cNvSpPr/>
            <p:nvPr/>
          </p:nvSpPr>
          <p:spPr>
            <a:xfrm>
              <a:off x="14997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Oval 47"/>
          <p:cNvSpPr/>
          <p:nvPr/>
        </p:nvSpPr>
        <p:spPr>
          <a:xfrm>
            <a:off x="118584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8"/>
          <p:cNvSpPr/>
          <p:nvPr/>
        </p:nvSpPr>
        <p:spPr>
          <a:xfrm>
            <a:off x="126216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Oval 49"/>
          <p:cNvSpPr/>
          <p:nvPr/>
        </p:nvSpPr>
        <p:spPr>
          <a:xfrm>
            <a:off x="127476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Oval 50"/>
          <p:cNvSpPr/>
          <p:nvPr/>
        </p:nvSpPr>
        <p:spPr>
          <a:xfrm>
            <a:off x="128592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Oval 51"/>
          <p:cNvSpPr/>
          <p:nvPr/>
        </p:nvSpPr>
        <p:spPr>
          <a:xfrm>
            <a:off x="133992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52"/>
          <p:cNvSpPr/>
          <p:nvPr/>
        </p:nvSpPr>
        <p:spPr>
          <a:xfrm>
            <a:off x="145908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Oval 53"/>
          <p:cNvSpPr/>
          <p:nvPr/>
        </p:nvSpPr>
        <p:spPr>
          <a:xfrm>
            <a:off x="24526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Oval 54"/>
          <p:cNvSpPr/>
          <p:nvPr/>
        </p:nvSpPr>
        <p:spPr>
          <a:xfrm>
            <a:off x="25750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Oval 55"/>
          <p:cNvSpPr/>
          <p:nvPr/>
        </p:nvSpPr>
        <p:spPr>
          <a:xfrm>
            <a:off x="25844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Oval 56"/>
          <p:cNvSpPr/>
          <p:nvPr/>
        </p:nvSpPr>
        <p:spPr>
          <a:xfrm>
            <a:off x="25909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Oval 57"/>
          <p:cNvSpPr/>
          <p:nvPr/>
        </p:nvSpPr>
        <p:spPr>
          <a:xfrm>
            <a:off x="26272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58"/>
          <p:cNvSpPr/>
          <p:nvPr/>
        </p:nvSpPr>
        <p:spPr>
          <a:xfrm>
            <a:off x="26452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页脚占位符 29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94cae8"/>
              </a:gs>
              <a:gs pos="100000">
                <a:srgbClr val="84b4cf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94cae8"/>
              </a:gs>
              <a:gs pos="100000">
                <a:srgbClr val="84b4cf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94cae8"/>
              </a:gs>
              <a:gs pos="100000">
                <a:srgbClr val="84b4cf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4cae8"/>
              </a:gs>
              <a:gs pos="100000">
                <a:srgbClr val="84b4cf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94cae8"/>
              </a:gs>
              <a:gs pos="100000">
                <a:srgbClr val="84b4c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94cae8"/>
              </a:gs>
              <a:gs pos="100000">
                <a:srgbClr val="84b4c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1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952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4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955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7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958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961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964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967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Oval 27"/>
            <p:cNvSpPr/>
            <p:nvPr/>
          </p:nvSpPr>
          <p:spPr>
            <a:xfrm>
              <a:off x="5349960" y="5315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9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50000">
                <a:srgbClr val="ffffff"/>
              </a:gs>
              <a:gs pos="100000">
                <a:srgbClr val="8a52c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40265d"/>
              </a:gs>
              <a:gs pos="100000">
                <a:srgbClr val="8a52c8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50000">
                <a:srgbClr val="4b2c6c"/>
              </a:gs>
              <a:gs pos="100000">
                <a:srgbClr val="8a52c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a52c8">
                  <a:alpha val="0"/>
                </a:srgbClr>
              </a:gs>
              <a:gs pos="100000">
                <a:srgbClr val="5834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974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33"/>
            <p:cNvSpPr/>
            <p:nvPr/>
          </p:nvSpPr>
          <p:spPr>
            <a:xfrm>
              <a:off x="3857760" y="31528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9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页脚占位符 44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AutoShape 47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AutoShape 48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AutoShape 49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50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2" name="Group 51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993" name="Oval 52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Oval 53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Oval 54"/>
            <p:cNvSpPr/>
            <p:nvPr/>
          </p:nvSpPr>
          <p:spPr>
            <a:xfrm>
              <a:off x="185112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Oval 55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Oval 56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8" name="Text Box 57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Text Box 58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AutoShape 59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AutoShape 60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AutoShape 61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AutoShape 62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Group 63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1005" name="Oval 64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Oval 65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Oval 66"/>
            <p:cNvSpPr/>
            <p:nvPr/>
          </p:nvSpPr>
          <p:spPr>
            <a:xfrm>
              <a:off x="657540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Oval 67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68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0" name="Text Box 69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70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Shape 71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AutoShape 72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AutoShape 73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AutoShape 74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Oval 75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Oval 76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Oval 77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Oval 78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Oval 79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80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81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页脚占位符 37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7" name="Group 5"/>
          <p:cNvGrpSpPr/>
          <p:nvPr/>
        </p:nvGrpSpPr>
        <p:grpSpPr>
          <a:xfrm>
            <a:off x="4906080" y="3355560"/>
            <a:ext cx="1703880" cy="2679120"/>
            <a:chOff x="4906080" y="3355560"/>
            <a:chExt cx="1703880" cy="2679120"/>
          </a:xfrm>
        </p:grpSpPr>
        <p:grpSp>
          <p:nvGrpSpPr>
            <p:cNvPr id="1028" name="Group 6"/>
            <p:cNvGrpSpPr/>
            <p:nvPr/>
          </p:nvGrpSpPr>
          <p:grpSpPr>
            <a:xfrm>
              <a:off x="4906080" y="3534120"/>
              <a:ext cx="1577160" cy="2500560"/>
              <a:chOff x="4906080" y="3534120"/>
              <a:chExt cx="1577160" cy="2500560"/>
            </a:xfrm>
          </p:grpSpPr>
          <p:sp>
            <p:nvSpPr>
              <p:cNvPr id="1029" name="Freeform 7"/>
              <p:cNvSpPr/>
              <p:nvPr/>
            </p:nvSpPr>
            <p:spPr>
              <a:xfrm rot="3876600">
                <a:off x="4442760" y="4505400"/>
                <a:ext cx="2503440" cy="5576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Freeform 8"/>
              <p:cNvSpPr/>
              <p:nvPr/>
            </p:nvSpPr>
            <p:spPr>
              <a:xfrm rot="3876600">
                <a:off x="5947560" y="5473800"/>
                <a:ext cx="393480" cy="45648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9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1032" name="Freeform 10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Freeform 11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34" name="Group 12"/>
          <p:cNvGrpSpPr/>
          <p:nvPr/>
        </p:nvGrpSpPr>
        <p:grpSpPr>
          <a:xfrm>
            <a:off x="4427640" y="2433600"/>
            <a:ext cx="1439640" cy="1440000"/>
            <a:chOff x="4427640" y="2433600"/>
            <a:chExt cx="1439640" cy="1440000"/>
          </a:xfrm>
        </p:grpSpPr>
        <p:sp>
          <p:nvSpPr>
            <p:cNvPr id="1035" name="Oval 13"/>
            <p:cNvSpPr/>
            <p:nvPr/>
          </p:nvSpPr>
          <p:spPr>
            <a:xfrm>
              <a:off x="4427640" y="24336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4"/>
            <p:cNvSpPr/>
            <p:nvPr/>
          </p:nvSpPr>
          <p:spPr>
            <a:xfrm>
              <a:off x="4427640" y="24336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Oval 15"/>
            <p:cNvSpPr/>
            <p:nvPr/>
          </p:nvSpPr>
          <p:spPr>
            <a:xfrm>
              <a:off x="4522680" y="252720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Oval 16"/>
            <p:cNvSpPr/>
            <p:nvPr/>
          </p:nvSpPr>
          <p:spPr>
            <a:xfrm>
              <a:off x="4522680" y="253044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Oval 17"/>
            <p:cNvSpPr/>
            <p:nvPr/>
          </p:nvSpPr>
          <p:spPr>
            <a:xfrm>
              <a:off x="4584600" y="2590920"/>
              <a:ext cx="112500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0" name="Group 18"/>
            <p:cNvGrpSpPr/>
            <p:nvPr/>
          </p:nvGrpSpPr>
          <p:grpSpPr>
            <a:xfrm>
              <a:off x="4601880" y="2608200"/>
              <a:ext cx="1090440" cy="1092240"/>
              <a:chOff x="4601880" y="2608200"/>
              <a:chExt cx="1090440" cy="1092240"/>
            </a:xfrm>
          </p:grpSpPr>
          <p:sp>
            <p:nvSpPr>
              <p:cNvPr id="1041" name="Oval 19"/>
              <p:cNvSpPr/>
              <p:nvPr/>
            </p:nvSpPr>
            <p:spPr>
              <a:xfrm>
                <a:off x="460188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Oval 20"/>
              <p:cNvSpPr/>
              <p:nvPr/>
            </p:nvSpPr>
            <p:spPr>
              <a:xfrm>
                <a:off x="4615560" y="2614320"/>
                <a:ext cx="106416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Oval 21"/>
              <p:cNvSpPr/>
              <p:nvPr/>
            </p:nvSpPr>
            <p:spPr>
              <a:xfrm>
                <a:off x="462708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Oval 22"/>
              <p:cNvSpPr/>
              <p:nvPr/>
            </p:nvSpPr>
            <p:spPr>
              <a:xfrm>
                <a:off x="468612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45" name="Group 23"/>
          <p:cNvGrpSpPr/>
          <p:nvPr/>
        </p:nvGrpSpPr>
        <p:grpSpPr>
          <a:xfrm>
            <a:off x="7138080" y="3428640"/>
            <a:ext cx="1703880" cy="2679120"/>
            <a:chOff x="7138080" y="3428640"/>
            <a:chExt cx="1703880" cy="2679120"/>
          </a:xfrm>
        </p:grpSpPr>
        <p:grpSp>
          <p:nvGrpSpPr>
            <p:cNvPr id="1046" name="Group 24"/>
            <p:cNvGrpSpPr/>
            <p:nvPr/>
          </p:nvGrpSpPr>
          <p:grpSpPr>
            <a:xfrm>
              <a:off x="7138080" y="3607200"/>
              <a:ext cx="1577160" cy="2500560"/>
              <a:chOff x="7138080" y="3607200"/>
              <a:chExt cx="1577160" cy="2500560"/>
            </a:xfrm>
          </p:grpSpPr>
          <p:sp>
            <p:nvSpPr>
              <p:cNvPr id="1047" name="Freeform 25"/>
              <p:cNvSpPr/>
              <p:nvPr/>
            </p:nvSpPr>
            <p:spPr>
              <a:xfrm rot="3876600">
                <a:off x="6674760" y="4578480"/>
                <a:ext cx="2503440" cy="5576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Freeform 26"/>
              <p:cNvSpPr/>
              <p:nvPr/>
            </p:nvSpPr>
            <p:spPr>
              <a:xfrm rot="3876600">
                <a:off x="8179560" y="5546880"/>
                <a:ext cx="393480" cy="45648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Group 27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1050" name="Freeform 28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prstGeom prst="pie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29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2" name="Oval 30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Oval 31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Oval 32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Oval 33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Oval 34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7" name="Group 35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1058" name="Oval 36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37"/>
            <p:cNvSpPr/>
            <p:nvPr/>
          </p:nvSpPr>
          <p:spPr>
            <a:xfrm>
              <a:off x="6669720" y="249156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38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39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2" name="Group 40"/>
          <p:cNvGrpSpPr/>
          <p:nvPr/>
        </p:nvGrpSpPr>
        <p:grpSpPr>
          <a:xfrm>
            <a:off x="2858760" y="3355200"/>
            <a:ext cx="1703880" cy="2679480"/>
            <a:chOff x="2858760" y="3355200"/>
            <a:chExt cx="1703880" cy="2679480"/>
          </a:xfrm>
        </p:grpSpPr>
        <p:grpSp>
          <p:nvGrpSpPr>
            <p:cNvPr id="1063" name="Group 41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1064" name="Freeform 42"/>
              <p:cNvSpPr/>
              <p:nvPr/>
            </p:nvSpPr>
            <p:spPr>
              <a:xfrm rot="3876600">
                <a:off x="2395440" y="4505400"/>
                <a:ext cx="2503440" cy="5576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43"/>
              <p:cNvSpPr/>
              <p:nvPr/>
            </p:nvSpPr>
            <p:spPr>
              <a:xfrm rot="3876600">
                <a:off x="3900240" y="5473800"/>
                <a:ext cx="393480" cy="45648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6" name="Group 44"/>
            <p:cNvGrpSpPr/>
            <p:nvPr/>
          </p:nvGrpSpPr>
          <p:grpSpPr>
            <a:xfrm>
              <a:off x="3352680" y="3355200"/>
              <a:ext cx="1209960" cy="1918800"/>
              <a:chOff x="3352680" y="3355200"/>
              <a:chExt cx="1209960" cy="1918800"/>
            </a:xfrm>
          </p:grpSpPr>
          <p:sp>
            <p:nvSpPr>
              <p:cNvPr id="1067" name="Freeform 45"/>
              <p:cNvSpPr/>
              <p:nvPr/>
            </p:nvSpPr>
            <p:spPr>
              <a:xfrm flipV="1" rot="3876600">
                <a:off x="2997000" y="4100760"/>
                <a:ext cx="1920960" cy="42768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46"/>
              <p:cNvSpPr/>
              <p:nvPr/>
            </p:nvSpPr>
            <p:spPr>
              <a:xfrm flipV="1" rot="3876600">
                <a:off x="4134240" y="4851720"/>
                <a:ext cx="301680" cy="3499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69" name="Group 47"/>
          <p:cNvGrpSpPr/>
          <p:nvPr/>
        </p:nvGrpSpPr>
        <p:grpSpPr>
          <a:xfrm>
            <a:off x="2379600" y="2433600"/>
            <a:ext cx="1440000" cy="1440000"/>
            <a:chOff x="2379600" y="2433600"/>
            <a:chExt cx="1440000" cy="1440000"/>
          </a:xfrm>
        </p:grpSpPr>
        <p:sp>
          <p:nvSpPr>
            <p:cNvPr id="1070" name="Oval 48"/>
            <p:cNvSpPr/>
            <p:nvPr/>
          </p:nvSpPr>
          <p:spPr>
            <a:xfrm>
              <a:off x="2379600" y="24336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49"/>
            <p:cNvSpPr/>
            <p:nvPr/>
          </p:nvSpPr>
          <p:spPr>
            <a:xfrm>
              <a:off x="2379600" y="24336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Oval 50"/>
            <p:cNvSpPr/>
            <p:nvPr/>
          </p:nvSpPr>
          <p:spPr>
            <a:xfrm>
              <a:off x="2475000" y="25272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Oval 51"/>
            <p:cNvSpPr/>
            <p:nvPr/>
          </p:nvSpPr>
          <p:spPr>
            <a:xfrm>
              <a:off x="2475000" y="253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Oval 52"/>
            <p:cNvSpPr/>
            <p:nvPr/>
          </p:nvSpPr>
          <p:spPr>
            <a:xfrm>
              <a:off x="2536920" y="25909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5" name="Group 53"/>
            <p:cNvGrpSpPr/>
            <p:nvPr/>
          </p:nvGrpSpPr>
          <p:grpSpPr>
            <a:xfrm>
              <a:off x="2554200" y="2608200"/>
              <a:ext cx="1090800" cy="1092240"/>
              <a:chOff x="2554200" y="2608200"/>
              <a:chExt cx="1090800" cy="1092240"/>
            </a:xfrm>
          </p:grpSpPr>
          <p:sp>
            <p:nvSpPr>
              <p:cNvPr id="1076" name="Oval 54"/>
              <p:cNvSpPr/>
              <p:nvPr/>
            </p:nvSpPr>
            <p:spPr>
              <a:xfrm>
                <a:off x="2554200" y="26082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55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Oval 56"/>
              <p:cNvSpPr/>
              <p:nvPr/>
            </p:nvSpPr>
            <p:spPr>
              <a:xfrm>
                <a:off x="2579400" y="26247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57"/>
              <p:cNvSpPr/>
              <p:nvPr/>
            </p:nvSpPr>
            <p:spPr>
              <a:xfrm>
                <a:off x="2638440" y="26524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80" name="Group 58"/>
          <p:cNvGrpSpPr/>
          <p:nvPr/>
        </p:nvGrpSpPr>
        <p:grpSpPr>
          <a:xfrm>
            <a:off x="875880" y="3355200"/>
            <a:ext cx="1703880" cy="2679480"/>
            <a:chOff x="875880" y="3355200"/>
            <a:chExt cx="1703880" cy="2679480"/>
          </a:xfrm>
        </p:grpSpPr>
        <p:grpSp>
          <p:nvGrpSpPr>
            <p:cNvPr id="1081" name="Group 59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1082" name="Freeform 60"/>
              <p:cNvSpPr/>
              <p:nvPr/>
            </p:nvSpPr>
            <p:spPr>
              <a:xfrm rot="3876600">
                <a:off x="412560" y="4505400"/>
                <a:ext cx="2503440" cy="5576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61"/>
              <p:cNvSpPr/>
              <p:nvPr/>
            </p:nvSpPr>
            <p:spPr>
              <a:xfrm rot="3876600">
                <a:off x="1917360" y="5473800"/>
                <a:ext cx="393480" cy="45648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4" name="Group 62"/>
            <p:cNvGrpSpPr/>
            <p:nvPr/>
          </p:nvGrpSpPr>
          <p:grpSpPr>
            <a:xfrm>
              <a:off x="1369800" y="3355200"/>
              <a:ext cx="1209960" cy="1918800"/>
              <a:chOff x="1369800" y="3355200"/>
              <a:chExt cx="1209960" cy="1918800"/>
            </a:xfrm>
          </p:grpSpPr>
          <p:sp>
            <p:nvSpPr>
              <p:cNvPr id="1085" name="Freeform 63"/>
              <p:cNvSpPr/>
              <p:nvPr/>
            </p:nvSpPr>
            <p:spPr>
              <a:xfrm flipV="1" rot="3876600">
                <a:off x="1014120" y="4100760"/>
                <a:ext cx="1920960" cy="42768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64"/>
              <p:cNvSpPr/>
              <p:nvPr/>
            </p:nvSpPr>
            <p:spPr>
              <a:xfrm flipV="1" rot="3876600">
                <a:off x="2151360" y="4851720"/>
                <a:ext cx="301680" cy="3499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87" name="Group 65"/>
          <p:cNvGrpSpPr/>
          <p:nvPr/>
        </p:nvGrpSpPr>
        <p:grpSpPr>
          <a:xfrm>
            <a:off x="396720" y="2433600"/>
            <a:ext cx="1440000" cy="1440000"/>
            <a:chOff x="396720" y="2433600"/>
            <a:chExt cx="1440000" cy="1440000"/>
          </a:xfrm>
        </p:grpSpPr>
        <p:sp>
          <p:nvSpPr>
            <p:cNvPr id="1088" name="Oval 66"/>
            <p:cNvSpPr/>
            <p:nvPr/>
          </p:nvSpPr>
          <p:spPr>
            <a:xfrm>
              <a:off x="396720" y="24336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Oval 67"/>
            <p:cNvSpPr/>
            <p:nvPr/>
          </p:nvSpPr>
          <p:spPr>
            <a:xfrm>
              <a:off x="396720" y="24336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Oval 68"/>
            <p:cNvSpPr/>
            <p:nvPr/>
          </p:nvSpPr>
          <p:spPr>
            <a:xfrm>
              <a:off x="492120" y="25272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Oval 69"/>
            <p:cNvSpPr/>
            <p:nvPr/>
          </p:nvSpPr>
          <p:spPr>
            <a:xfrm>
              <a:off x="492120" y="253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Oval 70"/>
            <p:cNvSpPr/>
            <p:nvPr/>
          </p:nvSpPr>
          <p:spPr>
            <a:xfrm>
              <a:off x="554040" y="25909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3" name="Group 71"/>
            <p:cNvGrpSpPr/>
            <p:nvPr/>
          </p:nvGrpSpPr>
          <p:grpSpPr>
            <a:xfrm>
              <a:off x="571320" y="2608200"/>
              <a:ext cx="1090800" cy="1092240"/>
              <a:chOff x="571320" y="2608200"/>
              <a:chExt cx="1090800" cy="1092240"/>
            </a:xfrm>
          </p:grpSpPr>
          <p:sp>
            <p:nvSpPr>
              <p:cNvPr id="1094" name="Oval 72"/>
              <p:cNvSpPr/>
              <p:nvPr/>
            </p:nvSpPr>
            <p:spPr>
              <a:xfrm>
                <a:off x="571320" y="26082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Oval 73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Oval 74"/>
              <p:cNvSpPr/>
              <p:nvPr/>
            </p:nvSpPr>
            <p:spPr>
              <a:xfrm>
                <a:off x="596520" y="26247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Oval 75"/>
              <p:cNvSpPr/>
              <p:nvPr/>
            </p:nvSpPr>
            <p:spPr>
              <a:xfrm>
                <a:off x="655560" y="26524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8" name="Text Box 76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77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78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79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 Box 80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 Box 81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82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 Box 83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84"/>
          <p:cNvSpPr/>
          <p:nvPr/>
        </p:nvSpPr>
        <p:spPr>
          <a:xfrm>
            <a:off x="77796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85"/>
          <p:cNvSpPr/>
          <p:nvPr/>
        </p:nvSpPr>
        <p:spPr>
          <a:xfrm>
            <a:off x="27684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86"/>
          <p:cNvSpPr/>
          <p:nvPr/>
        </p:nvSpPr>
        <p:spPr>
          <a:xfrm>
            <a:off x="47498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 Box 87"/>
          <p:cNvSpPr/>
          <p:nvPr/>
        </p:nvSpPr>
        <p:spPr>
          <a:xfrm>
            <a:off x="679500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0" name="AutoShape 88"/>
          <p:cNvCxnSpPr>
            <a:stCxn id="1106" idx="3"/>
            <a:endCxn id="1107" idx="1"/>
          </p:cNvCxnSpPr>
          <p:nvPr/>
        </p:nvCxnSpPr>
        <p:spPr>
          <a:xfrm>
            <a:off x="1514160" y="196812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1" name="AutoShape 89"/>
          <p:cNvCxnSpPr>
            <a:stCxn id="1107" idx="3"/>
            <a:endCxn id="1108" idx="1"/>
          </p:cNvCxnSpPr>
          <p:nvPr/>
        </p:nvCxnSpPr>
        <p:spPr>
          <a:xfrm>
            <a:off x="3504960" y="196812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2" name="AutoShape 90"/>
          <p:cNvCxnSpPr>
            <a:stCxn id="1108" idx="3"/>
            <a:endCxn id="1109" idx="1"/>
          </p:cNvCxnSpPr>
          <p:nvPr/>
        </p:nvCxnSpPr>
        <p:spPr>
          <a:xfrm>
            <a:off x="5486040" y="196848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13" name="页脚占位符 90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AutoShape 4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AutoShape 5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AutoShape 6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AutoShape 7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AutoShape 8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页脚占位符 8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52c8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cbdbe3"/>
              </a:gs>
              <a:gs pos="50000">
                <a:srgbClr val="29698d"/>
              </a:gs>
              <a:gs pos="100000">
                <a:srgbClr val="cbdb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Arc 6"/>
          <p:cNvSpPr/>
          <p:nvPr/>
        </p:nvSpPr>
        <p:spPr>
          <a:xfrm rot="20601600">
            <a:off x="4036680" y="2252160"/>
            <a:ext cx="2851200" cy="1538280"/>
          </a:xfrm>
          <a:prstGeom prst="pi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Arc 7"/>
          <p:cNvSpPr/>
          <p:nvPr/>
        </p:nvSpPr>
        <p:spPr>
          <a:xfrm flipH="1" rot="20602200">
            <a:off x="1441800" y="3565080"/>
            <a:ext cx="2876760" cy="1630440"/>
          </a:xfrm>
          <a:prstGeom prst="pie">
            <a:avLst/>
          </a:prstGeom>
          <a:gradFill rotWithShape="0">
            <a:gsLst>
              <a:gs pos="0">
                <a:srgbClr val="47abe3"/>
              </a:gs>
              <a:gs pos="100000">
                <a:srgbClr val="abd9f2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Arc 8"/>
          <p:cNvSpPr/>
          <p:nvPr/>
        </p:nvSpPr>
        <p:spPr>
          <a:xfrm rot="20601600">
            <a:off x="3281400" y="1980720"/>
            <a:ext cx="2813040" cy="1417680"/>
          </a:xfrm>
          <a:prstGeom prst="pie">
            <a:avLst/>
          </a:prstGeom>
          <a:gradFill rotWithShape="0">
            <a:gsLst>
              <a:gs pos="0">
                <a:srgbClr val="aaa0f8"/>
              </a:gs>
              <a:gs pos="100000">
                <a:srgbClr val="4f4a73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Arc 9"/>
          <p:cNvSpPr/>
          <p:nvPr/>
        </p:nvSpPr>
        <p:spPr>
          <a:xfrm flipH="1" rot="20602200">
            <a:off x="1242720" y="2633400"/>
            <a:ext cx="2762280" cy="1380960"/>
          </a:xfrm>
          <a:prstGeom prst="pie">
            <a:avLst/>
          </a:prstGeom>
          <a:gradFill rotWithShape="0">
            <a:gsLst>
              <a:gs pos="0">
                <a:srgbClr val="214f69"/>
              </a:gs>
              <a:gs pos="100000">
                <a:srgbClr val="47abe3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Freeform 14"/>
          <p:cNvSpPr/>
          <p:nvPr/>
        </p:nvSpPr>
        <p:spPr>
          <a:xfrm>
            <a:off x="6172200" y="3187800"/>
            <a:ext cx="1295280" cy="1711080"/>
          </a:xfrm>
          <a:prstGeom prst="pie">
            <a:avLst/>
          </a:prstGeom>
          <a:gradFill rotWithShape="0">
            <a:gsLst>
              <a:gs pos="0">
                <a:srgbClr val="6600cc"/>
              </a:gs>
              <a:gs pos="100000">
                <a:srgbClr val="b98b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Arc 15"/>
          <p:cNvSpPr/>
          <p:nvPr/>
        </p:nvSpPr>
        <p:spPr>
          <a:xfrm rot="20539200">
            <a:off x="4570560" y="3193560"/>
            <a:ext cx="2984400" cy="134640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Freeform 16"/>
          <p:cNvSpPr/>
          <p:nvPr/>
        </p:nvSpPr>
        <p:spPr>
          <a:xfrm>
            <a:off x="4471920" y="3668760"/>
            <a:ext cx="1758960" cy="1236600"/>
          </a:xfrm>
          <a:prstGeom prst="pie">
            <a:avLst/>
          </a:prstGeom>
          <a:gradFill rotWithShape="0">
            <a:gsLst>
              <a:gs pos="0">
                <a:srgbClr val="5007a1"/>
              </a:gs>
              <a:gs pos="100000">
                <a:srgbClr val="af8ed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557c96"/>
              </a:gs>
              <a:gs pos="100000">
                <a:srgbClr val="273945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Freeform 21"/>
          <p:cNvSpPr/>
          <p:nvPr/>
        </p:nvSpPr>
        <p:spPr>
          <a:xfrm>
            <a:off x="4648320" y="4064040"/>
            <a:ext cx="1282680" cy="1028520"/>
          </a:xfrm>
          <a:prstGeom prst="pie">
            <a:avLst/>
          </a:pr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页脚占位符 21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675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AutoShape 90"/>
            <p:cNvSpPr/>
            <p:nvPr/>
          </p:nvSpPr>
          <p:spPr>
            <a:xfrm>
              <a:off x="1981080" y="19479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AutoShape 91"/>
            <p:cNvSpPr/>
            <p:nvPr/>
          </p:nvSpPr>
          <p:spPr>
            <a:xfrm>
              <a:off x="2025360" y="1987560"/>
              <a:ext cx="663840" cy="574200"/>
            </a:xfrm>
            <a:prstGeom prst="hexagon">
              <a:avLst>
                <a:gd name="adj" fmla="val 28897"/>
                <a:gd name="vf" fmla="val 115470"/>
              </a:avLst>
            </a:prstGeom>
            <a:gradFill rotWithShape="0">
              <a:gsLst>
                <a:gs pos="0">
                  <a:srgbClr val="2f7adf"/>
                </a:gs>
                <a:gs pos="100000">
                  <a:srgbClr val="163867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8" name="Group 92"/>
          <p:cNvGrpSpPr/>
          <p:nvPr/>
        </p:nvGrpSpPr>
        <p:grpSpPr>
          <a:xfrm>
            <a:off x="1981080" y="2862360"/>
            <a:ext cx="762120" cy="664920"/>
            <a:chOff x="1981080" y="2862360"/>
            <a:chExt cx="762120" cy="664920"/>
          </a:xfrm>
        </p:grpSpPr>
        <p:sp>
          <p:nvSpPr>
            <p:cNvPr id="679" name="AutoShape 93"/>
            <p:cNvSpPr/>
            <p:nvPr/>
          </p:nvSpPr>
          <p:spPr>
            <a:xfrm>
              <a:off x="1987200" y="28735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AutoShape 94"/>
            <p:cNvSpPr/>
            <p:nvPr/>
          </p:nvSpPr>
          <p:spPr>
            <a:xfrm>
              <a:off x="1981080" y="28623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AutoShape 95"/>
            <p:cNvSpPr/>
            <p:nvPr/>
          </p:nvSpPr>
          <p:spPr>
            <a:xfrm>
              <a:off x="2025360" y="2901960"/>
              <a:ext cx="663840" cy="574200"/>
            </a:xfrm>
            <a:prstGeom prst="hexagon">
              <a:avLst>
                <a:gd name="adj" fmla="val 28897"/>
                <a:gd name="vf" fmla="val 115470"/>
              </a:avLst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689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AutoShape 104"/>
            <p:cNvSpPr/>
            <p:nvPr/>
          </p:nvSpPr>
          <p:spPr>
            <a:xfrm>
              <a:off x="1981080" y="37544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AutoShape 105"/>
            <p:cNvSpPr/>
            <p:nvPr/>
          </p:nvSpPr>
          <p:spPr>
            <a:xfrm>
              <a:off x="2025360" y="379404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f7adf"/>
                </a:gs>
                <a:gs pos="100000">
                  <a:srgbClr val="163867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2" name="Group 106"/>
          <p:cNvGrpSpPr/>
          <p:nvPr/>
        </p:nvGrpSpPr>
        <p:grpSpPr>
          <a:xfrm>
            <a:off x="1981080" y="4668840"/>
            <a:ext cx="762120" cy="665280"/>
            <a:chOff x="1981080" y="4668840"/>
            <a:chExt cx="762120" cy="665280"/>
          </a:xfrm>
        </p:grpSpPr>
        <p:sp>
          <p:nvSpPr>
            <p:cNvPr id="693" name="AutoShape 107"/>
            <p:cNvSpPr/>
            <p:nvPr/>
          </p:nvSpPr>
          <p:spPr>
            <a:xfrm>
              <a:off x="1987200" y="46800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AutoShape 108"/>
            <p:cNvSpPr/>
            <p:nvPr/>
          </p:nvSpPr>
          <p:spPr>
            <a:xfrm>
              <a:off x="1981080" y="46688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AutoShape 109"/>
            <p:cNvSpPr/>
            <p:nvPr/>
          </p:nvSpPr>
          <p:spPr>
            <a:xfrm>
              <a:off x="2025360" y="470844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页脚占位符 30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29717-C376-4E6B-9156-995F37483A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页脚占位符 3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c1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Freeform 8"/>
          <p:cNvSpPr/>
          <p:nvPr/>
        </p:nvSpPr>
        <p:spPr>
          <a:xfrm>
            <a:off x="3222720" y="2998800"/>
            <a:ext cx="903240" cy="1241280"/>
          </a:xfrm>
          <a:prstGeom prst="pie">
            <a:avLst/>
          </a:prstGeom>
          <a:gradFill rotWithShape="0">
            <a:gsLst>
              <a:gs pos="0">
                <a:srgbClr val="dac8ee"/>
              </a:gs>
              <a:gs pos="100000">
                <a:srgbClr val="8a52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Freeform 10"/>
          <p:cNvSpPr/>
          <p:nvPr/>
        </p:nvSpPr>
        <p:spPr>
          <a:xfrm flipH="1">
            <a:off x="4874400" y="2998800"/>
            <a:ext cx="903240" cy="1241280"/>
          </a:xfrm>
          <a:prstGeom prst="pie">
            <a:avLst/>
          </a:prstGeom>
          <a:gradFill rotWithShape="0">
            <a:gsLst>
              <a:gs pos="0">
                <a:srgbClr val="cbe6c6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Group 11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715" name="Group 12"/>
            <p:cNvGrpSpPr/>
            <p:nvPr/>
          </p:nvGrpSpPr>
          <p:grpSpPr>
            <a:xfrm>
              <a:off x="3048120" y="1514520"/>
              <a:ext cx="2998440" cy="1458360"/>
              <a:chOff x="3048120" y="1514520"/>
              <a:chExt cx="2998440" cy="1458360"/>
            </a:xfrm>
          </p:grpSpPr>
          <p:sp>
            <p:nvSpPr>
              <p:cNvPr id="716" name="Oval 13"/>
              <p:cNvSpPr/>
              <p:nvPr/>
            </p:nvSpPr>
            <p:spPr>
              <a:xfrm>
                <a:off x="3080880" y="15609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32861"/>
                  </a:gs>
                  <a:gs pos="100000">
                    <a:srgbClr val="8a52c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Oval 14"/>
              <p:cNvSpPr/>
              <p:nvPr/>
            </p:nvSpPr>
            <p:spPr>
              <a:xfrm>
                <a:off x="3048120" y="151452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cbb2e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8" name="Oval 15"/>
            <p:cNvSpPr/>
            <p:nvPr/>
          </p:nvSpPr>
          <p:spPr>
            <a:xfrm>
              <a:off x="318924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val 16"/>
            <p:cNvSpPr/>
            <p:nvPr/>
          </p:nvSpPr>
          <p:spPr>
            <a:xfrm>
              <a:off x="3224160" y="137952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5e4c0"/>
                </a:gs>
                <a:gs pos="100000">
                  <a:srgbClr val="5ab14b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17"/>
            <p:cNvSpPr/>
            <p:nvPr/>
          </p:nvSpPr>
          <p:spPr>
            <a:xfrm>
              <a:off x="3251160" y="139212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48235"/>
                  </a:srgbClr>
                </a:gs>
                <a:gs pos="100000">
                  <a:srgbClr val="478c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Oval 18"/>
            <p:cNvSpPr/>
            <p:nvPr/>
          </p:nvSpPr>
          <p:spPr>
            <a:xfrm>
              <a:off x="3382920" y="141912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20"/>
          <p:cNvSpPr/>
          <p:nvPr/>
        </p:nvSpPr>
        <p:spPr>
          <a:xfrm>
            <a:off x="5810400" y="33242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c1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页脚占位符 19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Group 23"/>
          <p:cNvGrpSpPr/>
          <p:nvPr/>
        </p:nvGrpSpPr>
        <p:grpSpPr>
          <a:xfrm>
            <a:off x="456840" y="1555920"/>
            <a:ext cx="7938000" cy="5225400"/>
            <a:chOff x="456840" y="1555920"/>
            <a:chExt cx="7938000" cy="5225400"/>
          </a:xfrm>
        </p:grpSpPr>
        <p:sp>
          <p:nvSpPr>
            <p:cNvPr id="727" name="Freeform 3"/>
            <p:cNvSpPr/>
            <p:nvPr/>
          </p:nvSpPr>
          <p:spPr>
            <a:xfrm rot="20241600">
              <a:off x="1077840" y="2766600"/>
              <a:ext cx="6853320" cy="2803320"/>
            </a:xfrm>
            <a:prstGeom prst="pie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f5fafd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Oval 18"/>
            <p:cNvSpPr/>
            <p:nvPr/>
          </p:nvSpPr>
          <p:spPr>
            <a:xfrm rot="20056200">
              <a:off x="4419360" y="27428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66889f"/>
                </a:gs>
                <a:gs pos="100000">
                  <a:srgbClr val="0a2068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Oval 19"/>
            <p:cNvSpPr/>
            <p:nvPr/>
          </p:nvSpPr>
          <p:spPr>
            <a:xfrm rot="20056200">
              <a:off x="7314840" y="29714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66889f"/>
                </a:gs>
                <a:gs pos="100000">
                  <a:srgbClr val="0a2068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20"/>
            <p:cNvSpPr/>
            <p:nvPr/>
          </p:nvSpPr>
          <p:spPr>
            <a:xfrm rot="20056200">
              <a:off x="2819160" y="59432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557c96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Oval 21"/>
            <p:cNvSpPr/>
            <p:nvPr/>
          </p:nvSpPr>
          <p:spPr>
            <a:xfrm rot="20056200">
              <a:off x="5562360" y="52574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66889f"/>
                </a:gs>
                <a:gs pos="100000">
                  <a:srgbClr val="0a2068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Oval 22"/>
            <p:cNvSpPr/>
            <p:nvPr/>
          </p:nvSpPr>
          <p:spPr>
            <a:xfrm rot="20056200">
              <a:off x="1904760" y="42667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66889f"/>
                </a:gs>
                <a:gs pos="100000">
                  <a:srgbClr val="0a2068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Oval 4"/>
            <p:cNvSpPr/>
            <p:nvPr/>
          </p:nvSpPr>
          <p:spPr>
            <a:xfrm>
              <a:off x="3809880" y="190476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301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Oval 5"/>
            <p:cNvSpPr/>
            <p:nvPr/>
          </p:nvSpPr>
          <p:spPr>
            <a:xfrm>
              <a:off x="1295280" y="34290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6"/>
            <p:cNvSpPr/>
            <p:nvPr/>
          </p:nvSpPr>
          <p:spPr>
            <a:xfrm>
              <a:off x="2178000" y="51260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12c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Oval 7"/>
            <p:cNvSpPr/>
            <p:nvPr/>
          </p:nvSpPr>
          <p:spPr>
            <a:xfrm>
              <a:off x="4952880" y="4495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3f56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Oval 8"/>
            <p:cNvSpPr/>
            <p:nvPr/>
          </p:nvSpPr>
          <p:spPr>
            <a:xfrm>
              <a:off x="6781680" y="213336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42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Text Box 9"/>
            <p:cNvSpPr/>
            <p:nvPr/>
          </p:nvSpPr>
          <p:spPr>
            <a:xfrm>
              <a:off x="1548000" y="39621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Text Box 10"/>
            <p:cNvSpPr/>
            <p:nvPr/>
          </p:nvSpPr>
          <p:spPr>
            <a:xfrm>
              <a:off x="4139640" y="23619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Text Box 11"/>
            <p:cNvSpPr/>
            <p:nvPr/>
          </p:nvSpPr>
          <p:spPr>
            <a:xfrm>
              <a:off x="7071480" y="263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Text Box 12"/>
            <p:cNvSpPr/>
            <p:nvPr/>
          </p:nvSpPr>
          <p:spPr>
            <a:xfrm>
              <a:off x="5281560" y="4952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Text Box 13"/>
            <p:cNvSpPr/>
            <p:nvPr/>
          </p:nvSpPr>
          <p:spPr>
            <a:xfrm>
              <a:off x="2460600" y="5576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Text Box 14"/>
            <p:cNvSpPr/>
            <p:nvPr/>
          </p:nvSpPr>
          <p:spPr>
            <a:xfrm>
              <a:off x="3429000" y="38908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Line 15"/>
            <p:cNvSpPr/>
            <p:nvPr/>
          </p:nvSpPr>
          <p:spPr>
            <a:xfrm>
              <a:off x="2473200" y="2192040"/>
              <a:ext cx="1793880" cy="161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45" name="AutoShape 16"/>
            <p:cNvCxnSpPr/>
            <p:nvPr/>
          </p:nvCxnSpPr>
          <p:spPr>
            <a:xfrm flipH="1">
              <a:off x="456840" y="219168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746" name="Text Box 17"/>
            <p:cNvSpPr/>
            <p:nvPr/>
          </p:nvSpPr>
          <p:spPr>
            <a:xfrm>
              <a:off x="534600" y="17524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7" name="页脚占位符 23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9" name="Group 3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750" name="AutoShape 4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AutoShape 5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2" name="Freeform 6"/>
            <p:cNvGrpSpPr/>
            <p:nvPr/>
          </p:nvGrpSpPr>
          <p:grpSpPr>
            <a:xfrm>
              <a:off x="1931760" y="2084400"/>
              <a:ext cx="542880" cy="542880"/>
              <a:chOff x="1931760" y="2084400"/>
              <a:chExt cx="542880" cy="542880"/>
            </a:xfrm>
          </p:grpSpPr>
          <p:pic>
            <p:nvPicPr>
              <p:cNvPr id="753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31760" y="2084400"/>
                <a:ext cx="54144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1940760" y="2093400"/>
                <a:ext cx="53388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5" name="Text Box 7"/>
            <p:cNvSpPr/>
            <p:nvPr/>
          </p:nvSpPr>
          <p:spPr>
            <a:xfrm>
              <a:off x="1972080" y="23180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Text Box 8"/>
            <p:cNvSpPr/>
            <p:nvPr/>
          </p:nvSpPr>
          <p:spPr>
            <a:xfrm>
              <a:off x="3092400" y="210672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7" name="Group 9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758" name="AutoShape 10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AutoShape 11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941480" y="3537000"/>
              <a:ext cx="534960" cy="534960"/>
            </a:xfrm>
            <a:prstGeom prst="pi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3d4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Text Box 13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Text Box 14"/>
            <p:cNvSpPr/>
            <p:nvPr/>
          </p:nvSpPr>
          <p:spPr>
            <a:xfrm>
              <a:off x="3092400" y="352584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3" name="Group 15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764" name="AutoShape 16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AutoShape 17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1941480" y="4997520"/>
              <a:ext cx="534960" cy="534960"/>
            </a:xfrm>
            <a:prstGeom prst="pie">
              <a:avLst/>
            </a:pr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6cb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Text Box 19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Text Box 20"/>
            <p:cNvSpPr/>
            <p:nvPr/>
          </p:nvSpPr>
          <p:spPr>
            <a:xfrm>
              <a:off x="3092400" y="49863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9" name="页脚占位符 20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52c8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2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773" name="Group 4"/>
            <p:cNvGrpSpPr/>
            <p:nvPr/>
          </p:nvGrpSpPr>
          <p:grpSpPr>
            <a:xfrm>
              <a:off x="2361960" y="1600200"/>
              <a:ext cx="4419360" cy="4376520"/>
              <a:chOff x="2361960" y="1600200"/>
              <a:chExt cx="4419360" cy="4376520"/>
            </a:xfrm>
          </p:grpSpPr>
          <p:sp>
            <p:nvSpPr>
              <p:cNvPr id="774" name="Puzzle3"/>
              <p:cNvSpPr/>
              <p:nvPr/>
            </p:nvSpPr>
            <p:spPr>
              <a:xfrm>
                <a:off x="4513680" y="160020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Puzzle2"/>
              <p:cNvSpPr/>
              <p:nvPr/>
            </p:nvSpPr>
            <p:spPr>
              <a:xfrm>
                <a:off x="4008960" y="3294720"/>
                <a:ext cx="2772360" cy="2119680"/>
              </a:xfrm>
              <a:prstGeom prst="pie">
                <a:avLst/>
              </a:pr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Puzzle4"/>
              <p:cNvSpPr/>
              <p:nvPr/>
            </p:nvSpPr>
            <p:spPr>
              <a:xfrm>
                <a:off x="2937240" y="3268440"/>
                <a:ext cx="1671480" cy="2708280"/>
              </a:xfrm>
              <a:prstGeom prst="pie">
                <a:avLst/>
              </a:prstGeom>
              <a:gradFill rotWithShape="0">
                <a:gsLst>
                  <a:gs pos="0">
                    <a:srgbClr val="c3a6e3"/>
                  </a:gs>
                  <a:gs pos="100000">
                    <a:srgbClr val="8a52c8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Puzzle1"/>
              <p:cNvSpPr/>
              <p:nvPr/>
            </p:nvSpPr>
            <p:spPr>
              <a:xfrm>
                <a:off x="2361960" y="230364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5b3d26"/>
                  </a:gs>
                  <a:gs pos="100000">
                    <a:srgbClr val="c48352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8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Text Box 11"/>
            <p:cNvSpPr/>
            <p:nvPr/>
          </p:nvSpPr>
          <p:spPr>
            <a:xfrm>
              <a:off x="2590560" y="16765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2" name="页脚占位符 12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AutoShape 3"/>
          <p:cNvSpPr/>
          <p:nvPr/>
        </p:nvSpPr>
        <p:spPr>
          <a:xfrm>
            <a:off x="1143000" y="1981080"/>
            <a:ext cx="3833640" cy="3834000"/>
          </a:xfrm>
          <a:prstGeom prst="pie">
            <a:avLst/>
          </a:prstGeom>
          <a:gradFill rotWithShape="0">
            <a:gsLst>
              <a:gs pos="0">
                <a:srgbClr val="94cae8"/>
              </a:gs>
              <a:gs pos="50000">
                <a:srgbClr val="bedff1">
                  <a:alpha val="12156"/>
                </a:srgbClr>
              </a:gs>
              <a:gs pos="100000">
                <a:srgbClr val="94cae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af4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cfe"/>
              </a:gs>
              <a:gs pos="100000">
                <a:srgbClr val="94cae8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af4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cfe"/>
              </a:gs>
              <a:gs pos="100000">
                <a:srgbClr val="94cae8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af4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页脚占位符 10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4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795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796" name="AutoShape 5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AutoShape 6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AutoShape 7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8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800" name="AutoShape 9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AutoShape 11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3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5" name="Group 14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806" name="AutoShape 15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AutoShape 16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AutoShape 17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d440e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9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0" name="Group 19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811" name="AutoShape 20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AutoShape 22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4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5" name="页脚占位符 23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2:02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58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