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0BEE-A7B0-4E3E-A95E-B3CAB8A80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CE20-4AB3-484E-981A-38CCC126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FA00-5AA7-44E1-A8ED-6E44C93B7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141B-A575-4E4F-96F7-23281BED3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24B94-B045-4FCF-826C-5EB05F1BE3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D4D84-5A5D-4E57-99E2-081B0A10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A7F33-DBAF-4C14-9114-F3C216B2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C6BB10-080E-452E-B78C-254F0311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34E2B0-16CB-47D8-8F42-6797A4CBB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F0515-7831-446B-9FAE-CDFE5270A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1A21C0-248F-470D-B914-BADCF446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E94B-5193-4D1E-AC4C-4AF41D49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B6E2B-9428-46E2-88F0-D3C28C48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0FF982-576A-4F55-A4E3-90C6F0F4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538EE-3A71-495B-BB70-B6EBA655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69B71-44B7-4444-AAA0-4B8579E3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0C18F1-559B-4FA6-80F2-AC1AA174DE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F2D539-C56C-4182-B876-76B8F3EC57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78EC62-AC67-482D-B92A-E5BEB80F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3DD043-F252-4D84-8F4C-35D6D0BE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EC93FF-C5E1-4ACD-912E-62E7D234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FE72BE-CFF3-4455-A196-377F2CA21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31C2-D21F-4D88-9CB5-F96198EF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03C26A-F63F-4630-A100-9E87AA2D7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DD31B2-84C9-466E-A2B5-A6D54B32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0D91FD-364C-462D-AD91-8D191492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4C8E02-78A5-4FDB-9B4F-1E705D4E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6C16CD-024A-4E86-B5EE-01E63D63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5E0D31-095D-47D1-B907-9475CFCA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B6D8F5-457D-4069-9A72-B230F185BB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7F51-7A3B-4461-A004-98EF3D92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E4D4-38DC-433F-9AF6-9EEB6B96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37EB-647B-4016-97DE-EC5CFDEB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6258-5634-47F5-A376-C4A83AED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9EC7-10AC-4347-B1D3-AF413C2E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3470-9A95-4CB6-A929-B3101F89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D025-E7DE-4401-B2B4-2DD7BEF330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28666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389E-B02E-412F-B323-F3DEDD7C8D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285768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5804-B46E-4C40-8003-A0935E8AB1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08000" y="980640"/>
            <a:ext cx="856944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武汉大学物流管理论文答辩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143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1436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X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X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X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43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XX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上凸带形 9"/>
          <p:cNvSpPr/>
          <p:nvPr/>
        </p:nvSpPr>
        <p:spPr>
          <a:xfrm>
            <a:off x="7358040" y="571680"/>
            <a:ext cx="642960" cy="214200"/>
          </a:xfrm>
          <a:custGeom>
            <a:avLst/>
            <a:gdLst>
              <a:gd name="textAreaLeft" fmla="*/ 160560 w 642960"/>
              <a:gd name="textAreaRight" fmla="*/ 482400 w 642960"/>
              <a:gd name="textAreaTop" fmla="*/ 0 h 214200"/>
              <a:gd name="textAreaBottom" fmla="*/ 178560 h 21420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b9cde5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27813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43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XX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96CE9A-F29E-480B-9DF7-CEB28E3EFFA0}" type="slidenum">
              <a:t>5</a:t>
            </a:fld>
          </a:p>
        </p:txBody>
      </p:sp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143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 XX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上凸带形 4"/>
          <p:cNvSpPr/>
          <p:nvPr/>
        </p:nvSpPr>
        <p:spPr>
          <a:xfrm>
            <a:off x="7429680" y="571680"/>
            <a:ext cx="500040" cy="214200"/>
          </a:xfrm>
          <a:custGeom>
            <a:avLst/>
            <a:gdLst>
              <a:gd name="textAreaLeft" fmla="*/ 124920 w 500040"/>
              <a:gd name="textAreaRight" fmla="*/ 375120 w 500040"/>
              <a:gd name="textAreaTop" fmla="*/ 0 h 214200"/>
              <a:gd name="textAreaBottom" fmla="*/ 178560 h 21420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b9cde5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12:34:15Z</dcterms:created>
  <dc:creator>幻灯片之家：www.eeppt.com</dc:creator>
  <dc:description>幻灯片之家：www.eeppt.com</dc:description>
  <cp:keywords>幻灯片之家：www.eeppt.com</cp:keywords>
  <dc:language>en-US</dc:language>
  <cp:lastModifiedBy>雨林木风</cp:lastModifiedBy>
  <dcterms:modified xsi:type="dcterms:W3CDTF">2015-08-12T14:35:46Z</dcterms:modified>
  <cp:revision>4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