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3178-CC34-4D50-8941-22DB1C22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D16-73CD-4FA0-90EA-4D13FB6C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863-DA91-4D31-A005-027E17DB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CD2-C47F-4685-AD0C-F5C3F530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810-92E8-4D75-9DF9-CD920FE2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518-23D4-4007-8232-31BDB9C3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7CA-A947-4A96-978B-B64DFC87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C8B-5C04-4D50-B979-F63FF2D3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195-922E-4054-8A05-279E1406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163-B189-4C86-A610-4BE71519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F80-A7D7-4B14-BC2F-2FCE0269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782-8B13-4359-9D40-56B187DE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4f81bd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4f81bd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4f81bd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4f81bd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A3A4-C5DB-475D-9884-B2234DF8359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CE25-8AA2-444B-8A87-7AEB133029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49244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6600"/>
                </a:solidFill>
                <a:latin typeface="Arial Unicode MS"/>
                <a:ea typeface="微软雅黑"/>
              </a:rPr>
              <a:t>愚人节快乐！</a:t>
            </a:r>
            <a:endParaRPr b="0" lang="en-US" sz="48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91000"/>
            <a:ext cx="640080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8989"/>
              </a:solidFill>
              <a:latin typeface="Arial Unicode MS"/>
              <a:ea typeface="Arial Unicode MS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8560" y="331920"/>
            <a:ext cx="603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P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愚人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Unicode MS"/>
              <a:ea typeface="Arial Unicode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133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66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25A-8EA0-493D-8EA9-64FA189F06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42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 Unicode MS"/>
                <a:ea typeface="Arial Unicode MS"/>
              </a:rPr>
              <a:t>Thank you!</a:t>
            </a:r>
            <a:endParaRPr b="0" lang="en-US" sz="2800" spc="-1" strike="noStrike">
              <a:solidFill>
                <a:srgbClr val="cc6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1:16:00Z</dcterms:created>
  <dc:creator>幻灯片之家：www.eeppt.com</dc:creator>
  <dc:description>幻灯片之家：www.eeppt.com</dc:description>
  <cp:keywords>幻灯片之家：www.eeppt.com</cp:keywords>
  <dc:language>en-US</dc:language>
  <cp:lastModifiedBy>Administrator</cp:lastModifiedBy>
  <dcterms:modified xsi:type="dcterms:W3CDTF">2015-08-12T14:33:46Z</dcterms:modified>
  <cp:revision>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