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B96-883E-4439-A993-E3C70221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975-55E2-4FDF-9ED4-2367B19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BE4-8E33-495F-B729-F79D8B04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004-BB8D-4016-8E81-4E0E0B0F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8C2-80CD-4F6F-A1AD-180E3F9B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DB8-1A26-48A0-AF70-4C90194B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D0D-3398-4207-A331-4640561E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552-26C1-474C-9C0F-6AC3FB6D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53F-404D-47F4-B0EF-5F73BCF4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2C1-DE36-422D-80F3-C37CD19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B3D-D954-47A8-B9FF-17BF7274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C3E-B306-42A0-AB33-7269D1E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单圆角矩形 8"/>
          <p:cNvSpPr/>
          <p:nvPr/>
        </p:nvSpPr>
        <p:spPr>
          <a:xfrm flipV="1">
            <a:off x="8172360" y="4800600"/>
            <a:ext cx="863640" cy="7920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单圆角矩形 9"/>
          <p:cNvSpPr/>
          <p:nvPr/>
        </p:nvSpPr>
        <p:spPr>
          <a:xfrm>
            <a:off x="8172360" y="120600"/>
            <a:ext cx="863640" cy="4680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3319-844A-4A42-AB83-889729DA301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ABE7-F847-4AF2-8D25-B668871D4B5D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8320" y="735120"/>
            <a:ext cx="76629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新东方述职报告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4756680" y="46576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9"/>
          <p:cNvSpPr/>
          <p:nvPr/>
        </p:nvSpPr>
        <p:spPr>
          <a:xfrm>
            <a:off x="6813720" y="46864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接连接符 11"/>
          <p:cNvSpPr/>
          <p:nvPr/>
        </p:nvSpPr>
        <p:spPr>
          <a:xfrm>
            <a:off x="7772400" y="46864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4718160" y="3289320"/>
            <a:ext cx="4273560" cy="15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5080" y="5224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单圆角矩形 12"/>
          <p:cNvSpPr/>
          <p:nvPr/>
        </p:nvSpPr>
        <p:spPr>
          <a:xfrm flipH="1" flipV="1">
            <a:off x="249840" y="3001320"/>
            <a:ext cx="7777080" cy="1942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70000" y="880920"/>
            <a:ext cx="7758000" cy="19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6DE-B2BC-41D3-A166-2BEE1AE4F8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0" y="677880"/>
            <a:ext cx="3419640" cy="1630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2809800" y="1940040"/>
            <a:ext cx="3524400" cy="1833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4"/>
          <a:stretch/>
        </p:blipFill>
        <p:spPr>
          <a:xfrm>
            <a:off x="5275440" y="3311640"/>
            <a:ext cx="3525840" cy="1806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EC3-4D2C-4EA4-ACD0-DBC37B81E8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图表 6"/>
          <p:cNvSpPr/>
          <p:nvPr/>
        </p:nvSpPr>
        <p:spPr>
          <a:xfrm>
            <a:off x="0" y="520560"/>
            <a:ext cx="9144000" cy="435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6E9-F034-49F3-822B-49FB438570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图表 4"/>
          <p:cNvSpPr/>
          <p:nvPr/>
        </p:nvSpPr>
        <p:spPr>
          <a:xfrm>
            <a:off x="0" y="336600"/>
            <a:ext cx="9136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377-1216-4C62-A783-160106B9DA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图表 3"/>
          <p:cNvSpPr/>
          <p:nvPr/>
        </p:nvSpPr>
        <p:spPr>
          <a:xfrm>
            <a:off x="0" y="336600"/>
            <a:ext cx="91360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70A-55EE-4326-AE65-8DE30F6A4E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入司欢迎仪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1"/>
          <p:cNvSpPr/>
          <p:nvPr/>
        </p:nvSpPr>
        <p:spPr>
          <a:xfrm>
            <a:off x="250920" y="91296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滞后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方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管指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见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进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访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场跟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-33480" y="1057320"/>
            <a:ext cx="9141120" cy="38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746-3CD7-4B9B-8BBC-E4FB1FEFC2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晋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250920" y="822240"/>
            <a:ext cx="323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分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培训板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 rot="699000">
            <a:off x="4447800" y="547560"/>
            <a:ext cx="3774960" cy="486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5AD-AC46-4E10-AE3B-3845C5F200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0560" y="3001680"/>
            <a:ext cx="7777080" cy="1942920"/>
            <a:chOff x="250560" y="3001680"/>
            <a:chExt cx="7777080" cy="1942920"/>
          </a:xfrm>
        </p:grpSpPr>
        <p:sp>
          <p:nvSpPr>
            <p:cNvPr id="133" name="单圆角矩形 12"/>
            <p:cNvSpPr/>
            <p:nvPr/>
          </p:nvSpPr>
          <p:spPr>
            <a:xfrm flipH="1" flipV="1">
              <a:off x="249840" y="3001320"/>
              <a:ext cx="7777080" cy="19429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14"/>
            <p:cNvSpPr/>
            <p:nvPr/>
          </p:nvSpPr>
          <p:spPr>
            <a:xfrm>
              <a:off x="269640" y="3106440"/>
              <a:ext cx="323856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271440" y="865080"/>
            <a:ext cx="7685280" cy="166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807-2A18-49E7-9F4D-ADA4A441A913}" type="slidenum">
              <a:t>17</a:t>
            </a:fld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-163080" y="30996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职场</a:t>
            </a: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24000" y="944640"/>
            <a:ext cx="53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介绍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型组织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身优势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生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39840" y="1917720"/>
            <a:ext cx="769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期：春秋两季，每季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长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：教师委员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：详见文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57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822-7764-4945-89A4-1773F60A4E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560" y="3001680"/>
            <a:ext cx="7777080" cy="1942920"/>
            <a:chOff x="250560" y="3001680"/>
            <a:chExt cx="7777080" cy="1942920"/>
          </a:xfrm>
        </p:grpSpPr>
        <p:sp>
          <p:nvSpPr>
            <p:cNvPr id="144" name="单圆角矩形 12"/>
            <p:cNvSpPr/>
            <p:nvPr/>
          </p:nvSpPr>
          <p:spPr>
            <a:xfrm flipH="1" flipV="1">
              <a:off x="249840" y="3001320"/>
              <a:ext cx="7777080" cy="19429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4"/>
            <p:cNvSpPr/>
            <p:nvPr/>
          </p:nvSpPr>
          <p:spPr>
            <a:xfrm>
              <a:off x="269640" y="3106440"/>
              <a:ext cx="323856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264960" y="880920"/>
            <a:ext cx="7685280" cy="18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F65-0407-4C93-8DF8-3A4880787627}" type="slidenum">
              <a:t>19</a:t>
            </a:fld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020-26D0-4D84-9476-1A4C24620731}" type="slidenum">
              <a:t>20</a:t>
            </a:fld>
          </a:p>
        </p:txBody>
      </p:sp>
    </p:spTree>
  </p:cSld>
  <p:transition spd="slow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单圆角矩形 12"/>
          <p:cNvSpPr/>
          <p:nvPr/>
        </p:nvSpPr>
        <p:spPr>
          <a:xfrm flipH="1" flipV="1">
            <a:off x="249840" y="3001320"/>
            <a:ext cx="7777080" cy="1942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活动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季旅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2"/>
          <a:stretch/>
        </p:blipFill>
        <p:spPr>
          <a:xfrm>
            <a:off x="268200" y="1057320"/>
            <a:ext cx="7759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2E5-FBBC-4F9C-B0AE-A8F0A1FDAEF1}" type="slidenum">
              <a:t>22</a:t>
            </a:fld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EE4-584D-44EE-8C0A-AEA7027F47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D26-037D-48CD-A4B0-DB4FF6A925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E89-B097-4BC1-A4FD-57799B2F63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单圆角矩形 16"/>
          <p:cNvSpPr/>
          <p:nvPr/>
        </p:nvSpPr>
        <p:spPr>
          <a:xfrm flipH="1" flipV="1">
            <a:off x="3923640" y="3217320"/>
            <a:ext cx="4173480" cy="17269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单圆角矩形 3"/>
          <p:cNvSpPr/>
          <p:nvPr/>
        </p:nvSpPr>
        <p:spPr>
          <a:xfrm flipH="1">
            <a:off x="141120" y="120600"/>
            <a:ext cx="7956720" cy="2664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2484360" y="4176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介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250920" y="264960"/>
            <a:ext cx="1946160" cy="241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2227320" y="985680"/>
            <a:ext cx="5657760" cy="2016360"/>
            <a:chOff x="2227320" y="985680"/>
            <a:chExt cx="5657760" cy="2016360"/>
          </a:xfrm>
        </p:grpSpPr>
        <p:sp>
          <p:nvSpPr>
            <p:cNvPr id="65" name="圆角矩形 9"/>
            <p:cNvSpPr/>
            <p:nvPr/>
          </p:nvSpPr>
          <p:spPr>
            <a:xfrm>
              <a:off x="2408040" y="985680"/>
              <a:ext cx="5477040" cy="2016360"/>
            </a:xfrm>
            <a:prstGeom prst="roundRect">
              <a:avLst>
                <a:gd name="adj" fmla="val 7056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6200000">
              <a:off x="2168280" y="1389960"/>
              <a:ext cx="360360" cy="24264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矩形 10"/>
          <p:cNvSpPr/>
          <p:nvPr/>
        </p:nvSpPr>
        <p:spPr>
          <a:xfrm>
            <a:off x="2484360" y="1128600"/>
            <a:ext cx="5381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刘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岛新东方人力资源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专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-639360" y="31449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79280" y="3578400"/>
            <a:ext cx="367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-0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学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|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教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3206880" y="3424320"/>
            <a:ext cx="24973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接阶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4106880" y="3936960"/>
            <a:ext cx="367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16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3"/>
          <p:cNvSpPr/>
          <p:nvPr/>
        </p:nvSpPr>
        <p:spPr>
          <a:xfrm>
            <a:off x="204840" y="901800"/>
            <a:ext cx="5437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企业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订和执行企业、人员培训计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善和监督执行企业的培训制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内部培训师队伍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实施培训，管理培训人员材料并建立培训档案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踪培训计划执行情况，培训后续效果的评估和反馈工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9280" y="431640"/>
            <a:ext cx="5835600" cy="636840"/>
            <a:chOff x="179280" y="431640"/>
            <a:chExt cx="5835600" cy="636840"/>
          </a:xfrm>
        </p:grpSpPr>
        <p:sp>
          <p:nvSpPr>
            <p:cNvPr id="74" name="Rectangle 14"/>
            <p:cNvSpPr/>
            <p:nvPr/>
          </p:nvSpPr>
          <p:spPr>
            <a:xfrm>
              <a:off x="429840" y="556560"/>
              <a:ext cx="558504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14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培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单圆角矩形 13"/>
            <p:cNvSpPr/>
            <p:nvPr/>
          </p:nvSpPr>
          <p:spPr>
            <a:xfrm>
              <a:off x="179280" y="431640"/>
              <a:ext cx="144360" cy="636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27160" y="2703600"/>
            <a:ext cx="5929200" cy="647640"/>
            <a:chOff x="227160" y="2703600"/>
            <a:chExt cx="5929200" cy="647640"/>
          </a:xfrm>
        </p:grpSpPr>
        <p:sp>
          <p:nvSpPr>
            <p:cNvPr id="77" name="Rectangle 15"/>
            <p:cNvSpPr/>
            <p:nvPr/>
          </p:nvSpPr>
          <p:spPr>
            <a:xfrm>
              <a:off x="468360" y="2703600"/>
              <a:ext cx="56880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14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团队建设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单圆角矩形 14"/>
            <p:cNvSpPr/>
            <p:nvPr/>
          </p:nvSpPr>
          <p:spPr>
            <a:xfrm>
              <a:off x="227160" y="2712960"/>
              <a:ext cx="144360" cy="6382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Rectangle 13"/>
          <p:cNvSpPr/>
          <p:nvPr/>
        </p:nvSpPr>
        <p:spPr>
          <a:xfrm>
            <a:off x="203040" y="3336840"/>
            <a:ext cx="5435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参与学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组织的团队活动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正向的企业价值观，宣扬新东方文化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级交办的其他工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F72-B8D7-436D-83C6-165CE029EE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201-B5EF-458F-8D13-F26570B66B1D}" type="slidenum">
              <a:t>6</a:t>
            </a:fld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"/>
          <p:cNvSpPr/>
          <p:nvPr/>
        </p:nvSpPr>
        <p:spPr>
          <a:xfrm>
            <a:off x="395280" y="1371600"/>
            <a:ext cx="557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554040"/>
            <a:ext cx="5940360" cy="690480"/>
            <a:chOff x="179280" y="554040"/>
            <a:chExt cx="5940360" cy="690480"/>
          </a:xfrm>
        </p:grpSpPr>
        <p:sp>
          <p:nvSpPr>
            <p:cNvPr id="88" name="TextBox 8"/>
            <p:cNvSpPr/>
            <p:nvPr/>
          </p:nvSpPr>
          <p:spPr>
            <a:xfrm>
              <a:off x="363240" y="554040"/>
              <a:ext cx="57564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14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试用期考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单圆角矩形 11"/>
            <p:cNvSpPr/>
            <p:nvPr/>
          </p:nvSpPr>
          <p:spPr>
            <a:xfrm>
              <a:off x="179280" y="607680"/>
              <a:ext cx="144360" cy="636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195640" y="3260880"/>
            <a:ext cx="5317920" cy="637920"/>
            <a:chOff x="2195640" y="3260880"/>
            <a:chExt cx="5317920" cy="637920"/>
          </a:xfrm>
        </p:grpSpPr>
        <p:sp>
          <p:nvSpPr>
            <p:cNvPr id="91" name="Rectangle 10"/>
            <p:cNvSpPr/>
            <p:nvPr/>
          </p:nvSpPr>
          <p:spPr>
            <a:xfrm>
              <a:off x="2411280" y="3402000"/>
              <a:ext cx="51022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14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新员工入职培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单圆角矩形 12"/>
            <p:cNvSpPr/>
            <p:nvPr/>
          </p:nvSpPr>
          <p:spPr>
            <a:xfrm>
              <a:off x="2195640" y="3260880"/>
              <a:ext cx="144360" cy="637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3"/>
          <p:cNvSpPr/>
          <p:nvPr/>
        </p:nvSpPr>
        <p:spPr>
          <a:xfrm>
            <a:off x="2270160" y="4081320"/>
            <a:ext cx="557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/>
          <a:stretch/>
        </p:blipFill>
        <p:spPr>
          <a:xfrm>
            <a:off x="179280" y="3086280"/>
            <a:ext cx="1898640" cy="151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508720" y="246240"/>
            <a:ext cx="3120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09A-5199-47FF-A95A-5FC5B6E4DD5B}" type="slidenum">
              <a:t>8</a:t>
            </a:fld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单圆角矩形 12"/>
          <p:cNvSpPr/>
          <p:nvPr/>
        </p:nvSpPr>
        <p:spPr>
          <a:xfrm flipH="1" flipV="1">
            <a:off x="249840" y="3001320"/>
            <a:ext cx="7777080" cy="1942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70000" y="880920"/>
            <a:ext cx="775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0:45:00Z</dcterms:created>
  <dc:creator>幻灯片之家：www.eeppt.com</dc:creator>
  <dc:description>幻灯片之家：www.eeppt.com</dc:description>
  <cp:keywords>幻灯片之家：www.eeppt.com</cp:keywords>
  <dc:language>en-US</dc:language>
  <cp:lastModifiedBy>刘晓峰</cp:lastModifiedBy>
  <dcterms:modified xsi:type="dcterms:W3CDTF">2015-08-12T14:35:43Z</dcterms:modified>
  <cp:revision>7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