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DEAB9-125C-4B96-AEAC-B0BD0D451C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492F-8661-4EA5-997C-BB7BA40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037D0-F9BE-49BF-9741-8775DC76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05344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57336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05344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357336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54EA-99DE-456A-AD8C-B62FF58445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5902-3F1A-4C4B-BC95-FA443BAF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05344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573360" y="335232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352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05344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3573360" y="3511440"/>
            <a:ext cx="1447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828B-81A0-4FC7-99C7-4E2CF920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24714-DD4E-4514-A7BA-8FD8652E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05494-26BD-4418-B68A-F3DA6E5FA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7920"/>
            <a:ext cx="66294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E52D-3E63-486D-9333-A020F57A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7F236-ECD2-4671-B202-88F047AF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837520" y="351144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898E-D78E-4BF8-B40E-8AA7DA4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837520" y="3352320"/>
            <a:ext cx="21938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511440"/>
            <a:ext cx="44956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9305-4AC0-4742-B036-4DCCF51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86400" y="5943600"/>
            <a:ext cx="1969920" cy="925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22748" t="0" r="0" b="0"/>
          <a:stretch/>
        </p:blipFill>
        <p:spPr>
          <a:xfrm>
            <a:off x="6248520" y="4886280"/>
            <a:ext cx="2895480" cy="1971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33523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0456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965d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28be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5965d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65d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>
            <a:off x="7772400" y="6338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1519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5965db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72D-2FD2-4A4E-A1A4-DF151FF14B7B}" type="slidenum">
              <a:rPr b="0" lang="zh-CN" sz="1000" spc="-1" strike="noStrike">
                <a:solidFill>
                  <a:srgbClr val="5965db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196200" y="304920"/>
            <a:ext cx="135000" cy="134640"/>
          </a:xfrm>
          <a:prstGeom prst="ellipse">
            <a:avLst/>
          </a:prstGeom>
          <a:solidFill>
            <a:srgbClr val="acaca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42080" y="304920"/>
            <a:ext cx="135000" cy="134640"/>
          </a:xfrm>
          <a:prstGeom prst="ellipse">
            <a:avLst/>
          </a:prstGeom>
          <a:solidFill>
            <a:srgbClr val="8ac923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197640" y="528480"/>
            <a:ext cx="135000" cy="135000"/>
          </a:xfrm>
          <a:prstGeom prst="ellipse">
            <a:avLst/>
          </a:prstGeom>
          <a:solidFill>
            <a:srgbClr val="f7bc2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45320" y="528480"/>
            <a:ext cx="135000" cy="135000"/>
          </a:xfrm>
          <a:prstGeom prst="ellipse">
            <a:avLst/>
          </a:prstGeom>
          <a:solidFill>
            <a:srgbClr val="a28b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13" name="" descr=""/>
          <p:cNvPicPr/>
          <p:nvPr/>
        </p:nvPicPr>
        <p:blipFill>
          <a:blip r:embed="rId4"/>
          <a:srcRect l="-6088" t="0" r="-3780" b="0"/>
          <a:stretch/>
        </p:blipFill>
        <p:spPr>
          <a:xfrm rot="15781800">
            <a:off x="7783200" y="165960"/>
            <a:ext cx="841320" cy="81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4486320"/>
            <a:ext cx="5046840" cy="237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5638680"/>
            <a:ext cx="3333960" cy="1228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3476520" cy="2629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34000" y="3371760"/>
            <a:ext cx="1819440" cy="3486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7448400" y="2971800"/>
            <a:ext cx="1695600" cy="3933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ftr" idx="3"/>
          </p:nvPr>
        </p:nvSpPr>
        <p:spPr>
          <a:xfrm>
            <a:off x="759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72400" y="15228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437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8258040" y="4800600"/>
            <a:ext cx="885960" cy="2066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781680" y="5695920"/>
            <a:ext cx="2152800" cy="1162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rcRect l="-6088" t="0" r="-3780" b="0"/>
          <a:stretch/>
        </p:blipFill>
        <p:spPr>
          <a:xfrm rot="4693800">
            <a:off x="5462640" y="785880"/>
            <a:ext cx="1371600" cy="1324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65d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965d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28be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965d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965d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7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65d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65d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38280" y="3352680"/>
            <a:ext cx="76320" cy="228600"/>
          </a:xfrm>
          <a:prstGeom prst="rect">
            <a:avLst/>
          </a:prstGeom>
          <a:solidFill>
            <a:srgbClr val="d7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470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470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2470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470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7643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英文简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8087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8087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838080" y="396252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a6a6a6"/>
              </a:gs>
              <a:gs pos="100000">
                <a:srgbClr val="b2b2b2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2460600" y="2003400"/>
            <a:ext cx="1536480" cy="40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5965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75000" y="33559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2597040" y="1902240"/>
            <a:ext cx="1379160" cy="390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cec2ee"/>
              </a:gs>
              <a:gs pos="100000">
                <a:srgbClr val="a28be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16200000">
            <a:off x="2534760" y="2002680"/>
            <a:ext cx="1379160" cy="385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f9db9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16200000">
            <a:off x="2526840" y="1991160"/>
            <a:ext cx="1414080" cy="384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577f16"/>
              </a:gs>
              <a:gs pos="100000">
                <a:srgbClr val="8ac923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38560" y="401004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38600" y="370368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57640" y="4143240"/>
            <a:ext cx="0" cy="11592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643280" y="4402080"/>
            <a:ext cx="0" cy="6984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400120" y="3894120"/>
            <a:ext cx="1014120" cy="830160"/>
          </a:xfrm>
          <a:prstGeom prst="line">
            <a:avLst/>
          </a:prstGeom>
          <a:ln w="1260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491200" y="1620720"/>
            <a:ext cx="1844280" cy="47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e6672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3352680"/>
            <a:ext cx="223920" cy="2955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5bc9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2500920" y="1456560"/>
            <a:ext cx="1845360" cy="471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bce8f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124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cxnSp>
        <p:nvCxnSpPr>
          <p:cNvPr id="409" name=""/>
          <p:cNvCxnSpPr>
            <a:endCxn id="408" idx="3"/>
          </p:cNvCxnSpPr>
          <p:nvPr/>
        </p:nvCxnSpPr>
        <p:spPr>
          <a:xfrm flipV="1" rot="10800000">
            <a:off x="3831480" y="269136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0" name=""/>
          <p:cNvCxnSpPr>
            <a:endCxn id="401" idx="3"/>
          </p:cNvCxnSpPr>
          <p:nvPr/>
        </p:nvCxnSpPr>
        <p:spPr>
          <a:xfrm rot="10800000">
            <a:off x="5174640" y="3855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1" name=""/>
          <p:cNvSpPr/>
          <p:nvPr/>
        </p:nvSpPr>
        <p:spPr>
          <a:xfrm>
            <a:off x="3206880" y="4124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144792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429240" y="2438280"/>
            <a:ext cx="2028960" cy="482400"/>
            <a:chOff x="6429240" y="2438280"/>
            <a:chExt cx="2028960" cy="482400"/>
          </a:xfrm>
        </p:grpSpPr>
        <p:sp>
          <p:nvSpPr>
            <p:cNvPr id="414" name=""/>
            <p:cNvSpPr/>
            <p:nvPr/>
          </p:nvSpPr>
          <p:spPr>
            <a:xfrm>
              <a:off x="6548760" y="27162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29240" y="2438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5bc9df"/>
                </a:gs>
                <a:gs pos="100000">
                  <a:srgbClr val="4497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477120" y="3962520"/>
            <a:ext cx="2028600" cy="482040"/>
            <a:chOff x="6477120" y="3962520"/>
            <a:chExt cx="2028600" cy="482040"/>
          </a:xfrm>
        </p:grpSpPr>
        <p:sp>
          <p:nvSpPr>
            <p:cNvPr id="417" name=""/>
            <p:cNvSpPr/>
            <p:nvPr/>
          </p:nvSpPr>
          <p:spPr>
            <a:xfrm>
              <a:off x="6596640" y="424008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396252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a28be1"/>
                </a:gs>
                <a:gs pos="100000">
                  <a:srgbClr val="8471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019920" y="5257800"/>
            <a:ext cx="2028600" cy="482400"/>
            <a:chOff x="6019920" y="5257800"/>
            <a:chExt cx="2028600" cy="482400"/>
          </a:xfrm>
        </p:grpSpPr>
        <p:sp>
          <p:nvSpPr>
            <p:cNvPr id="420" name=""/>
            <p:cNvSpPr/>
            <p:nvPr/>
          </p:nvSpPr>
          <p:spPr>
            <a:xfrm>
              <a:off x="6139440" y="553572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19920" y="5257800"/>
              <a:ext cx="2028600" cy="423360"/>
            </a:xfrm>
            <a:prstGeom prst="rect">
              <a:avLst/>
            </a:prstGeom>
            <a:gradFill rotWithShape="0">
              <a:gsLst>
                <a:gs pos="0">
                  <a:srgbClr val="f7bc29"/>
                </a:gs>
                <a:gs pos="100000">
                  <a:srgbClr val="c9992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66680" y="5410080"/>
            <a:ext cx="2028960" cy="482400"/>
            <a:chOff x="1066680" y="5410080"/>
            <a:chExt cx="2028960" cy="482400"/>
          </a:xfrm>
        </p:grpSpPr>
        <p:sp>
          <p:nvSpPr>
            <p:cNvPr id="423" name=""/>
            <p:cNvSpPr/>
            <p:nvPr/>
          </p:nvSpPr>
          <p:spPr>
            <a:xfrm>
              <a:off x="1186200" y="568800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66680" y="54100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8ac923"/>
                </a:gs>
                <a:gs pos="100000">
                  <a:srgbClr val="4f73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cxnSp>
        <p:nvCxnSpPr>
          <p:cNvPr id="425" name=""/>
          <p:cNvCxnSpPr/>
          <p:nvPr/>
        </p:nvCxnSpPr>
        <p:spPr>
          <a:xfrm rot="10800000">
            <a:off x="4723560" y="4266360"/>
            <a:ext cx="1296360" cy="122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/>
          <p:nvPr/>
        </p:nvCxnSpPr>
        <p:spPr>
          <a:xfrm flipV="1">
            <a:off x="3095640" y="441936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H="1" rot="2712600">
            <a:off x="4617360" y="165564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aaae8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56080" y="266544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0f0f0f"/>
              </a:gs>
              <a:gs pos="50000">
                <a:srgbClr val="ffffff"/>
              </a:gs>
              <a:gs pos="100000">
                <a:srgbClr val="0f0f0f"/>
              </a:gs>
            </a:gsLst>
            <a:lin ang="8100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8887400">
            <a:off x="2349360" y="164412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bc9df"/>
              </a:gs>
              <a:gs pos="100000">
                <a:srgbClr val="95dbe9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8680" y="2660760"/>
            <a:ext cx="2028960" cy="2028600"/>
          </a:xfrm>
          <a:prstGeom prst="diamond">
            <a:avLst/>
          </a:prstGeom>
          <a:solidFill>
            <a:srgbClr val="f7bc29">
              <a:alpha val="50000"/>
            </a:srgbClr>
          </a:soli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 flipV="1" rot="18887400">
            <a:off x="4601880" y="391716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85d6e6"/>
              </a:gs>
              <a:gs pos="100000">
                <a:srgbClr val="5bc9df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905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997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790520" y="2413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83040" y="335268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Add Your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65db"/>
                </a:solidFill>
                <a:latin typeface="Arial"/>
                <a:ea typeface="宋体"/>
              </a:rPr>
              <a:t>Text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 rot="2712600">
            <a:off x="2348280" y="390996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28be1"/>
              </a:gs>
              <a:gs pos="100000">
                <a:srgbClr val="b9a8e7"/>
              </a:gs>
            </a:gsLst>
            <a:lin ang="8112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99720" y="4537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0360" y="19000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573960" y="45626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4560" y="464328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73960" y="18954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965db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1882800" y="2362320"/>
            <a:ext cx="5257080" cy="2895120"/>
            <a:chOff x="1882800" y="2362320"/>
            <a:chExt cx="5257080" cy="2895120"/>
          </a:xfrm>
        </p:grpSpPr>
        <p:sp>
          <p:nvSpPr>
            <p:cNvPr id="445" name=""/>
            <p:cNvSpPr/>
            <p:nvPr/>
          </p:nvSpPr>
          <p:spPr>
            <a:xfrm>
              <a:off x="2675160" y="385200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10720" y="2362320"/>
              <a:ext cx="361980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2800" y="2758680"/>
              <a:ext cx="1977840" cy="201276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806480" y="2286000"/>
            <a:ext cx="5333760" cy="2819520"/>
            <a:chOff x="1806480" y="2286000"/>
            <a:chExt cx="5333760" cy="2819520"/>
          </a:xfrm>
        </p:grpSpPr>
        <p:sp>
          <p:nvSpPr>
            <p:cNvPr id="450" name=""/>
            <p:cNvSpPr/>
            <p:nvPr/>
          </p:nvSpPr>
          <p:spPr>
            <a:xfrm>
              <a:off x="2610360" y="373680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5bc9df"/>
                </a:gs>
                <a:gs pos="100000">
                  <a:srgbClr val="29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7800" y="2286000"/>
              <a:ext cx="367236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7bc29"/>
                </a:gs>
                <a:gs pos="100000">
                  <a:srgbClr val="7156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06480" y="26719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a28be1"/>
                </a:gs>
                <a:gs pos="100000">
                  <a:srgbClr val="baaa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448080" y="34894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69000" y="182880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26000" y="5257800"/>
            <a:ext cx="3048120" cy="853920"/>
          </a:xfrm>
          <a:noFill/>
          <a:ln w="9360">
            <a:solidFill>
              <a:srgbClr val="5bc9d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4920" y="2330280"/>
            <a:ext cx="2192040" cy="965520"/>
          </a:xfrm>
          <a:noFill/>
          <a:ln w="9360">
            <a:solidFill>
              <a:srgbClr val="5965d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3205080" y="1143000"/>
            <a:ext cx="2641680" cy="2644920"/>
          </a:xfrm>
          <a:prstGeom prst="ellipse">
            <a:avLst/>
          </a:pr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145040" y="2535120"/>
            <a:ext cx="2643120" cy="2643480"/>
          </a:xfrm>
          <a:prstGeom prst="ellipse">
            <a:avLst/>
          </a:prstGeom>
          <a:solidFill>
            <a:srgbClr val="f7bc2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62160" y="2500200"/>
            <a:ext cx="2644920" cy="2643480"/>
          </a:xfrm>
          <a:prstGeom prst="ellipse">
            <a:avLst/>
          </a:pr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2514600" y="2046240"/>
            <a:ext cx="1386000" cy="9748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6360" y="2198520"/>
            <a:ext cx="1677960" cy="7876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4457880" y="4170240"/>
            <a:ext cx="25200" cy="1043280"/>
          </a:xfrm>
          <a:prstGeom prst="line">
            <a:avLst/>
          </a:prstGeom>
          <a:ln w="19080">
            <a:solidFill>
              <a:srgbClr val="4d4d4d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33560" y="311616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16653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ac923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629400" y="196992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5bc9df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343320" y="515628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a28be1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19440" y="14796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367000" y="358920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62916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7092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7040" y="36529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8ac92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0627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58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5400000">
            <a:off x="3452400" y="3730680"/>
            <a:ext cx="2181240" cy="202860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44920" y="36511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0592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2908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6157800" y="37303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8c8c8">
                  <a:alpha val="98039"/>
                </a:srgbClr>
              </a:gs>
              <a:gs pos="50000">
                <a:srgbClr val="ffffff"/>
              </a:gs>
              <a:gs pos="100000">
                <a:srgbClr val="c8c8c8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510960" y="37400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34120" y="4330800"/>
            <a:ext cx="20113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 is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a Design Digital Content 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&amp; Contents mall developed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3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346560" y="1676520"/>
            <a:ext cx="2382840" cy="538200"/>
            <a:chOff x="3346560" y="1676520"/>
            <a:chExt cx="2382840" cy="538200"/>
          </a:xfrm>
        </p:grpSpPr>
        <p:sp>
          <p:nvSpPr>
            <p:cNvPr id="484" name=""/>
            <p:cNvSpPr/>
            <p:nvPr/>
          </p:nvSpPr>
          <p:spPr>
            <a:xfrm>
              <a:off x="3346560" y="16765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75000" y="1706760"/>
              <a:ext cx="23259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c9df">
                    <a:alpha val="90196"/>
                  </a:srgbClr>
                </a:gs>
                <a:gs pos="50000">
                  <a:srgbClr val="c6ebf3"/>
                </a:gs>
                <a:gs pos="100000">
                  <a:srgbClr val="5bc9df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81708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6073920" y="1676520"/>
            <a:ext cx="2384280" cy="538200"/>
            <a:chOff x="6073920" y="1676520"/>
            <a:chExt cx="2384280" cy="538200"/>
          </a:xfrm>
        </p:grpSpPr>
        <p:sp>
          <p:nvSpPr>
            <p:cNvPr id="488" name=""/>
            <p:cNvSpPr/>
            <p:nvPr/>
          </p:nvSpPr>
          <p:spPr>
            <a:xfrm>
              <a:off x="60739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041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8be1">
                    <a:alpha val="90196"/>
                  </a:srgbClr>
                </a:gs>
                <a:gs pos="50000">
                  <a:srgbClr val="ded7f3"/>
                </a:gs>
                <a:gs pos="100000">
                  <a:srgbClr val="a28be1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65466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54120" y="1676520"/>
            <a:ext cx="2384280" cy="538200"/>
            <a:chOff x="654120" y="1676520"/>
            <a:chExt cx="2384280" cy="538200"/>
          </a:xfrm>
        </p:grpSpPr>
        <p:sp>
          <p:nvSpPr>
            <p:cNvPr id="492" name=""/>
            <p:cNvSpPr/>
            <p:nvPr/>
          </p:nvSpPr>
          <p:spPr>
            <a:xfrm>
              <a:off x="654120" y="16765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480c"/>
                </a:gs>
                <a:gs pos="50000">
                  <a:srgbClr val="8ac923"/>
                </a:gs>
                <a:gs pos="100000">
                  <a:srgbClr val="31480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84360" y="170676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923">
                    <a:alpha val="90196"/>
                  </a:srgbClr>
                </a:gs>
                <a:gs pos="50000">
                  <a:srgbClr val="d6ebb4"/>
                </a:gs>
                <a:gs pos="100000">
                  <a:srgbClr val="8ac923">
                    <a:alpha val="9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126800" y="1746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83988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5067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6249960" y="22510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28be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0600" y="3651120"/>
            <a:ext cx="200160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622440" y="52135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315120" y="516888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310440" y="412272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0880" y="414180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606760" y="439740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 rot="5400000">
            <a:off x="3259800" y="4426200"/>
            <a:ext cx="418680" cy="419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0926193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0926193"/>
              </a:path>
            </a:pathLst>
          </a:custGeom>
          <a:solidFill>
            <a:srgbClr val="5bc9df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98840" y="549900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9670200">
            <a:off x="2918160" y="5178600"/>
            <a:ext cx="763560" cy="71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a28be1"/>
          </a:solidFill>
          <a:ln w="9360">
            <a:solidFill>
              <a:srgbClr val="b2b2b2"/>
            </a:solidFill>
            <a:miter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92600" y="5468760"/>
            <a:ext cx="9604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89720" y="4387680"/>
            <a:ext cx="958680" cy="45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5400000">
            <a:off x="5933520" y="5397840"/>
            <a:ext cx="505800" cy="5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solidFill>
            <a:srgbClr val="993366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70520" y="4427640"/>
            <a:ext cx="691920" cy="69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solidFill>
            <a:srgbClr val="8ac923"/>
          </a:solidFill>
          <a:ln w="9360">
            <a:solidFill>
              <a:srgbClr val="8ac923"/>
            </a:solidFill>
            <a:miter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36920" y="44337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02240" y="5508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17840" y="55450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491080" y="44323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913120" y="123192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913120" y="1227240"/>
            <a:ext cx="3313080" cy="33066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2913480" y="1227240"/>
            <a:ext cx="329616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9" y="1"/>
                </a:moveTo>
                <a:arcTo wR="10800" hR="10800" stAng="-5451245" swAng="3177992"/>
                <a:lnTo>
                  <a:pt x="10800" y="10800"/>
                </a:lnTo>
                <a:close/>
              </a:path>
              <a:path fill="none" w="21600" h="21600">
                <a:moveTo>
                  <a:pt x="10639" y="1"/>
                </a:moveTo>
                <a:arcTo wR="10800" hR="10800" stAng="-5451245" swAng="3177992"/>
              </a:path>
            </a:pathLst>
          </a:custGeom>
          <a:solidFill>
            <a:srgbClr val="8ac923">
              <a:alpha val="50000"/>
            </a:srgbClr>
          </a:solidFill>
          <a:ln w="936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5400000">
            <a:off x="2921040" y="1228320"/>
            <a:ext cx="3301920" cy="329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32" y="2384"/>
                </a:moveTo>
                <a:arcTo wR="10800" hR="10800" stAng="-7728407" swAng="5716793"/>
                <a:lnTo>
                  <a:pt x="10800" y="10800"/>
                </a:lnTo>
                <a:close/>
              </a:path>
              <a:path fill="none" w="21600" h="21600">
                <a:moveTo>
                  <a:pt x="4032" y="2384"/>
                </a:moveTo>
                <a:arcTo wR="10800" hR="10800" stAng="-7728407" swAng="5716793"/>
              </a:path>
            </a:pathLst>
          </a:custGeom>
          <a:solidFill>
            <a:srgbClr val="99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flipV="1" rot="5400000">
            <a:off x="2928960" y="1232280"/>
            <a:ext cx="3284280" cy="329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" y="11240"/>
                </a:moveTo>
                <a:arcTo wR="10800" hR="10800" stAng="10660061" swAng="10878067"/>
                <a:lnTo>
                  <a:pt x="10800" y="10800"/>
                </a:lnTo>
                <a:close/>
              </a:path>
              <a:path fill="none" w="21600" h="21600">
                <a:moveTo>
                  <a:pt x="9" y="11240"/>
                </a:moveTo>
                <a:arcTo wR="10800" hR="10800" stAng="10660061" swAng="10878067"/>
              </a:path>
            </a:pathLst>
          </a:custGeom>
          <a:solidFill>
            <a:srgbClr val="5bc9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873880" y="2910240"/>
            <a:ext cx="1886400" cy="1779480"/>
            <a:chOff x="2873880" y="2910240"/>
            <a:chExt cx="1886400" cy="1779480"/>
          </a:xfrm>
        </p:grpSpPr>
        <p:sp>
          <p:nvSpPr>
            <p:cNvPr id="522" name=""/>
            <p:cNvSpPr/>
            <p:nvPr/>
          </p:nvSpPr>
          <p:spPr>
            <a:xfrm flipV="1" rot="19510800">
              <a:off x="3315240" y="28666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18694800">
              <a:off x="3482640" y="3087720"/>
              <a:ext cx="36972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18399600">
              <a:off x="3603960" y="3190320"/>
              <a:ext cx="369720" cy="1662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17867400">
              <a:off x="3753360" y="330624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 rot="9670200">
            <a:off x="2919240" y="1223640"/>
            <a:ext cx="3299400" cy="330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1879222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1879222"/>
              </a:path>
            </a:pathLst>
          </a:custGeom>
          <a:solidFill>
            <a:srgbClr val="a28b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002120" y="2327400"/>
            <a:ext cx="1123920" cy="1123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951280" y="26272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332320" y="28224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99000" y="167472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99000" y="380700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9280" y="418788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c9df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62600" y="520524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2560" y="528624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8be1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75560" y="414504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ac923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332240" y="1234440"/>
            <a:ext cx="1823760" cy="1508040"/>
            <a:chOff x="4332240" y="1234440"/>
            <a:chExt cx="1823760" cy="1508040"/>
          </a:xfrm>
        </p:grpSpPr>
        <p:grpSp>
          <p:nvGrpSpPr>
            <p:cNvPr id="537" name=""/>
            <p:cNvGrpSpPr/>
            <p:nvPr/>
          </p:nvGrpSpPr>
          <p:grpSpPr>
            <a:xfrm>
              <a:off x="4730760" y="1234440"/>
              <a:ext cx="1425240" cy="1508040"/>
              <a:chOff x="4730760" y="1234440"/>
              <a:chExt cx="1425240" cy="1508040"/>
            </a:xfrm>
          </p:grpSpPr>
          <p:sp>
            <p:nvSpPr>
              <p:cNvPr id="538" name=""/>
              <p:cNvSpPr/>
              <p:nvPr/>
            </p:nvSpPr>
            <p:spPr>
              <a:xfrm flipV="1" rot="8983800">
                <a:off x="5544720" y="1428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 rot="8167800">
                <a:off x="5425920" y="1241640"/>
                <a:ext cx="29628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 rot="7872600">
                <a:off x="5335200" y="11534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 rot="7340400">
                <a:off x="5223240" y="1049760"/>
                <a:ext cx="295920" cy="132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4332240" y="1241640"/>
              <a:ext cx="1743120" cy="1049400"/>
              <a:chOff x="4332240" y="1241640"/>
              <a:chExt cx="1743120" cy="1049400"/>
            </a:xfrm>
          </p:grpSpPr>
          <p:sp>
            <p:nvSpPr>
              <p:cNvPr id="543" name=""/>
              <p:cNvSpPr/>
              <p:nvPr/>
            </p:nvSpPr>
            <p:spPr>
              <a:xfrm flipV="1" rot="7630800">
                <a:off x="5306400" y="11052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 rot="6814800">
                <a:off x="5124960" y="97776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 rot="6519600">
                <a:off x="5006880" y="93096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 rot="5987400">
                <a:off x="4863960" y="87912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952880" y="274320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5bc9d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1425600" y="274320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a28be1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016520" y="1905120"/>
            <a:ext cx="790560" cy="1976400"/>
            <a:chOff x="4016520" y="1905120"/>
            <a:chExt cx="790560" cy="1976400"/>
          </a:xfrm>
        </p:grpSpPr>
        <p:sp>
          <p:nvSpPr>
            <p:cNvPr id="551" name=""/>
            <p:cNvSpPr/>
            <p:nvPr/>
          </p:nvSpPr>
          <p:spPr>
            <a:xfrm>
              <a:off x="420876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01652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654200" y="2971800"/>
            <a:ext cx="2438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692680" y="297180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930920" y="1905120"/>
            <a:ext cx="790560" cy="1976400"/>
            <a:chOff x="4930920" y="1905120"/>
            <a:chExt cx="790560" cy="1976400"/>
          </a:xfrm>
        </p:grpSpPr>
        <p:sp>
          <p:nvSpPr>
            <p:cNvPr id="556" name=""/>
            <p:cNvSpPr/>
            <p:nvPr/>
          </p:nvSpPr>
          <p:spPr>
            <a:xfrm>
              <a:off x="5123160" y="190512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30920" y="235116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"/>
          <p:cNvSpPr/>
          <p:nvPr/>
        </p:nvSpPr>
        <p:spPr>
          <a:xfrm>
            <a:off x="5969160" y="2674800"/>
            <a:ext cx="2273040" cy="2111400"/>
          </a:xfrm>
          <a:custGeom>
            <a:avLst/>
            <a:gdLst>
              <a:gd name="textAreaLeft" fmla="*/ 0 w 2273040"/>
              <a:gd name="textAreaRight" fmla="*/ 2273400 w 2273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25124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451240" y="2666880"/>
            <a:ext cx="2435040" cy="2111400"/>
          </a:xfrm>
          <a:custGeom>
            <a:avLst/>
            <a:gdLst>
              <a:gd name="textAreaLeft" fmla="*/ 0 w 2435040"/>
              <a:gd name="textAreaRight" fmla="*/ 2435400 w 243504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2084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7156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990720" y="2297160"/>
            <a:ext cx="2081160" cy="248760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0609c"/>
              </a:gs>
              <a:gs pos="100000">
                <a:srgbClr val="a28be1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098720" y="2884320"/>
            <a:ext cx="1652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08440" y="23223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873680" y="312408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482920" y="4892760"/>
            <a:ext cx="17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18120" y="4892760"/>
            <a:ext cx="178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03320" y="17524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7e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137040" y="313380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64200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6246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28be1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19360" y="3151080"/>
            <a:ext cx="198144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8ac923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9536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7" name=""/>
          <p:cNvSpPr/>
          <p:nvPr/>
        </p:nvSpPr>
        <p:spPr>
          <a:xfrm>
            <a:off x="34513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62720" y="33415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647120" y="30351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114640"/>
            <a:ext cx="693900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710320" y="5513400"/>
            <a:ext cx="178092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530360" y="4267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76240" y="16272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241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716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0280" y="4294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3400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533520" y="2494080"/>
            <a:ext cx="4586040" cy="4173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44440" y="3132000"/>
            <a:ext cx="3389400" cy="308448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2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28920" y="3613320"/>
            <a:ext cx="2503440" cy="227772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3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1120" y="3998880"/>
            <a:ext cx="1806480" cy="1641600"/>
          </a:xfrm>
          <a:prstGeom prst="blockArc">
            <a:avLst>
              <a:gd name="adj1" fmla="val 10780681"/>
              <a:gd name="adj2" fmla="val 19319"/>
              <a:gd name="adj3" fmla="val 21991"/>
            </a:avLst>
          </a:pr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772240" y="4092480"/>
            <a:ext cx="314964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88120" y="3174840"/>
            <a:ext cx="34002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62520" y="2341440"/>
            <a:ext cx="338760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59080" y="1523880"/>
            <a:ext cx="3370320" cy="60984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9160" y="5045040"/>
            <a:ext cx="2412720" cy="106668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fae3aa"/>
              </a:gs>
              <a:gs pos="100000">
                <a:srgbClr val="f7bc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91120" y="5038560"/>
            <a:ext cx="2438280" cy="10670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9d0f2"/>
              </a:gs>
              <a:gs pos="100000">
                <a:srgbClr val="a28b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89040" y="5032440"/>
            <a:ext cx="2387880" cy="1066680"/>
          </a:xfrm>
          <a:custGeom>
            <a:avLst/>
            <a:gdLst>
              <a:gd name="textAreaLeft" fmla="*/ 0 w 2387880"/>
              <a:gd name="textAreaRight" fmla="*/ 2388240 w 2387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d0e8a8"/>
              </a:gs>
              <a:gs pos="100000">
                <a:srgbClr val="8ac9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62120" y="5032440"/>
            <a:ext cx="2286000" cy="1066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bde8f1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9204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20840" y="53910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8772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92760" y="539604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7e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98360"/>
            <a:ext cx="65530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1905120"/>
            <a:ext cx="723924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5909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7dd78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31240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5b7eb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65760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f7bc29"/>
              </a:gs>
              <a:gs pos="50000">
                <a:srgbClr val="f9d57c"/>
              </a:gs>
              <a:gs pos="100000">
                <a:srgbClr val="f7bc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4191120"/>
            <a:ext cx="510516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a28be1"/>
              </a:gs>
              <a:gs pos="50000">
                <a:srgbClr val="c5b7eb"/>
              </a:gs>
              <a:gs pos="100000">
                <a:srgbClr val="a28b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4724280"/>
            <a:ext cx="510516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923"/>
              </a:gs>
              <a:gs pos="50000">
                <a:srgbClr val="b7dd78"/>
              </a:gs>
              <a:gs pos="100000">
                <a:srgbClr val="8ac9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1488960"/>
            <a:ext cx="6553080" cy="56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28be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965db"/>
              </a:solidFill>
              <a:latin typeface="Verdana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7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3381-51A4-4079-BDB5-D2214D2D866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6840" y="34286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Verdana"/>
              <a:ea typeface="宋体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80880" y="2666880"/>
            <a:ext cx="4191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8ac923"/>
                </a:soli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000000"/>
                </a:solidFill>
                <a:miter/>
              </a:ln>
              <a:solidFill>
                <a:srgbClr val="8ac923"/>
              </a:solidFill>
              <a:latin typeface="Verdana"/>
              <a:ea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2362320"/>
            <a:ext cx="196920" cy="196560"/>
          </a:xfrm>
          <a:prstGeom prst="ellipse">
            <a:avLst/>
          </a:prstGeom>
          <a:solidFill>
            <a:srgbClr val="aca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2362320"/>
            <a:ext cx="196920" cy="196560"/>
          </a:xfrm>
          <a:prstGeom prst="ellipse">
            <a:avLst/>
          </a:prstGeom>
          <a:solidFill>
            <a:srgbClr val="8ac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2362320"/>
            <a:ext cx="196920" cy="196560"/>
          </a:xfrm>
          <a:prstGeom prst="ellipse">
            <a:avLst/>
          </a:prstGeom>
          <a:solidFill>
            <a:srgbClr val="f7b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52480" y="2362320"/>
            <a:ext cx="196920" cy="196560"/>
          </a:xfrm>
          <a:prstGeom prst="ellipse">
            <a:avLst/>
          </a:prstGeom>
          <a:solidFill>
            <a:srgbClr val="a28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5040" y="1157400"/>
            <a:ext cx="740736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8087e"/>
              </a:buClr>
              <a:buFont typeface="Wingdings" charset="2"/>
              <a:buChar char="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5965db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5965d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965db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965db"/>
              </a:buClr>
              <a:buFont typeface="Wingdings" charset="2"/>
              <a:buChar char=""/>
              <a:tabLst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5bc9df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5965db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400" spc="-1" strike="noStrike">
              <a:solidFill>
                <a:srgbClr val="5965db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4876920"/>
            <a:ext cx="6400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  <a:p>
            <a:pPr>
              <a:tabLst>
                <a:tab algn="l" pos="0"/>
                <a:tab algn="l" pos="5091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81120"/>
            <a:ext cx="6750000" cy="338616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2209680"/>
            <a:ext cx="1838160" cy="3309840"/>
            <a:chOff x="685800" y="2209680"/>
            <a:chExt cx="1838160" cy="3309840"/>
          </a:xfrm>
        </p:grpSpPr>
        <p:sp>
          <p:nvSpPr>
            <p:cNvPr id="120" name=""/>
            <p:cNvSpPr/>
            <p:nvPr/>
          </p:nvSpPr>
          <p:spPr>
            <a:xfrm>
              <a:off x="68580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212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78320" y="2209680"/>
            <a:ext cx="1838160" cy="3309840"/>
            <a:chOff x="3478320" y="2209680"/>
            <a:chExt cx="1838160" cy="3309840"/>
          </a:xfrm>
        </p:grpSpPr>
        <p:sp>
          <p:nvSpPr>
            <p:cNvPr id="123" name=""/>
            <p:cNvSpPr/>
            <p:nvPr/>
          </p:nvSpPr>
          <p:spPr>
            <a:xfrm>
              <a:off x="34783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923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140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15120" y="2209680"/>
            <a:ext cx="1838160" cy="3309840"/>
            <a:chOff x="6315120" y="2209680"/>
            <a:chExt cx="1838160" cy="3309840"/>
          </a:xfrm>
        </p:grpSpPr>
        <p:sp>
          <p:nvSpPr>
            <p:cNvPr id="126" name=""/>
            <p:cNvSpPr/>
            <p:nvPr/>
          </p:nvSpPr>
          <p:spPr>
            <a:xfrm>
              <a:off x="6315120" y="220968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8be1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91440" y="22572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762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286704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819520" y="3733920"/>
            <a:ext cx="504000" cy="495720"/>
            <a:chOff x="2819520" y="3733920"/>
            <a:chExt cx="504000" cy="495720"/>
          </a:xfrm>
        </p:grpSpPr>
        <p:grpSp>
          <p:nvGrpSpPr>
            <p:cNvPr id="132" name=""/>
            <p:cNvGrpSpPr/>
            <p:nvPr/>
          </p:nvGrpSpPr>
          <p:grpSpPr>
            <a:xfrm>
              <a:off x="3021120" y="3733920"/>
              <a:ext cx="302400" cy="495720"/>
              <a:chOff x="3021120" y="3733920"/>
              <a:chExt cx="302400" cy="495720"/>
            </a:xfrm>
          </p:grpSpPr>
          <p:sp>
            <p:nvSpPr>
              <p:cNvPr id="133" name=""/>
              <p:cNvSpPr/>
              <p:nvPr/>
            </p:nvSpPr>
            <p:spPr>
              <a:xfrm>
                <a:off x="30211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219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227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219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11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819520" y="3733920"/>
              <a:ext cx="302400" cy="495720"/>
              <a:chOff x="2819520" y="3733920"/>
              <a:chExt cx="302400" cy="495720"/>
            </a:xfrm>
          </p:grpSpPr>
          <p:sp>
            <p:nvSpPr>
              <p:cNvPr id="139" name=""/>
              <p:cNvSpPr/>
              <p:nvPr/>
            </p:nvSpPr>
            <p:spPr>
              <a:xfrm>
                <a:off x="28195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203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0211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203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8195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5562720" y="3733920"/>
            <a:ext cx="504000" cy="495720"/>
            <a:chOff x="5562720" y="3733920"/>
            <a:chExt cx="504000" cy="495720"/>
          </a:xfrm>
        </p:grpSpPr>
        <p:grpSp>
          <p:nvGrpSpPr>
            <p:cNvPr id="145" name=""/>
            <p:cNvGrpSpPr/>
            <p:nvPr/>
          </p:nvGrpSpPr>
          <p:grpSpPr>
            <a:xfrm>
              <a:off x="5764320" y="3733920"/>
              <a:ext cx="302400" cy="495720"/>
              <a:chOff x="5764320" y="3733920"/>
              <a:chExt cx="302400" cy="495720"/>
            </a:xfrm>
          </p:grpSpPr>
          <p:sp>
            <p:nvSpPr>
              <p:cNvPr id="146" name=""/>
              <p:cNvSpPr/>
              <p:nvPr/>
            </p:nvSpPr>
            <p:spPr>
              <a:xfrm>
                <a:off x="57643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51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659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51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643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562720" y="3733920"/>
              <a:ext cx="302400" cy="495720"/>
              <a:chOff x="5562720" y="3733920"/>
              <a:chExt cx="302400" cy="495720"/>
            </a:xfrm>
          </p:grpSpPr>
          <p:sp>
            <p:nvSpPr>
              <p:cNvPr id="152" name=""/>
              <p:cNvSpPr/>
              <p:nvPr/>
            </p:nvSpPr>
            <p:spPr>
              <a:xfrm>
                <a:off x="5562720" y="37339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663520" y="38332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64320" y="39322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63520" y="40316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62720" y="41310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85800" y="14479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28be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8087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1219320" y="4495680"/>
            <a:ext cx="6319800" cy="1219320"/>
            <a:chOff x="1219320" y="4495680"/>
            <a:chExt cx="6319800" cy="1219320"/>
          </a:xfrm>
        </p:grpSpPr>
        <p:sp>
          <p:nvSpPr>
            <p:cNvPr id="160" name=""/>
            <p:cNvSpPr/>
            <p:nvPr/>
          </p:nvSpPr>
          <p:spPr>
            <a:xfrm>
              <a:off x="1219320" y="46479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ac923"/>
                </a:gs>
                <a:gs pos="100000">
                  <a:srgbClr val="c2e2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44956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8ac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219320" y="50288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8ac9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219320" y="2994120"/>
            <a:ext cx="6319800" cy="1218600"/>
            <a:chOff x="1219320" y="2994120"/>
            <a:chExt cx="6319800" cy="1218600"/>
          </a:xfrm>
        </p:grpSpPr>
        <p:sp>
          <p:nvSpPr>
            <p:cNvPr id="164" name=""/>
            <p:cNvSpPr/>
            <p:nvPr/>
          </p:nvSpPr>
          <p:spPr>
            <a:xfrm>
              <a:off x="1219320" y="314604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bc9df"/>
                </a:gs>
                <a:gs pos="100000">
                  <a:srgbClr val="aae2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2994120"/>
              <a:ext cx="6319800" cy="823680"/>
            </a:xfrm>
            <a:prstGeom prst="roundRect">
              <a:avLst>
                <a:gd name="adj" fmla="val 16667"/>
              </a:avLst>
            </a:prstGeom>
            <a:solidFill>
              <a:srgbClr val="5bc9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219320" y="3526200"/>
              <a:ext cx="631512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5bc9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219320" y="1523880"/>
            <a:ext cx="6319800" cy="1219320"/>
            <a:chOff x="1219320" y="1523880"/>
            <a:chExt cx="6319800" cy="1219320"/>
          </a:xfrm>
        </p:grpSpPr>
        <p:sp>
          <p:nvSpPr>
            <p:cNvPr id="168" name=""/>
            <p:cNvSpPr/>
            <p:nvPr/>
          </p:nvSpPr>
          <p:spPr>
            <a:xfrm>
              <a:off x="1219320" y="167616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28be1"/>
                </a:gs>
                <a:gs pos="100000">
                  <a:srgbClr val="cec2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19320" y="15238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a28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219320" y="20570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a28be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371240" y="16002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71240" y="307008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71240" y="45720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0968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a28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36576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5bc9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16096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8ac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965db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600200"/>
            <a:ext cx="2743200" cy="441972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b2b2b2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590920"/>
            <a:ext cx="22096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7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21832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8ac92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1676520"/>
            <a:ext cx="5105160" cy="419076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81280" y="1828800"/>
            <a:ext cx="4924440" cy="1228680"/>
            <a:chOff x="3581280" y="1828800"/>
            <a:chExt cx="4924440" cy="1228680"/>
          </a:xfrm>
        </p:grpSpPr>
        <p:sp>
          <p:nvSpPr>
            <p:cNvPr id="183" name=""/>
            <p:cNvSpPr/>
            <p:nvPr/>
          </p:nvSpPr>
          <p:spPr>
            <a:xfrm>
              <a:off x="3628800" y="182880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bf2f7"/>
                </a:gs>
                <a:gs pos="100000">
                  <a:srgbClr val="5bc9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280" y="228600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81280" y="3191040"/>
            <a:ext cx="4924440" cy="1228680"/>
            <a:chOff x="3581280" y="3191040"/>
            <a:chExt cx="4924440" cy="1228680"/>
          </a:xfrm>
        </p:grpSpPr>
        <p:sp>
          <p:nvSpPr>
            <p:cNvPr id="186" name=""/>
            <p:cNvSpPr/>
            <p:nvPr/>
          </p:nvSpPr>
          <p:spPr>
            <a:xfrm>
              <a:off x="3628800" y="319104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ae5f7"/>
                </a:gs>
                <a:gs pos="100000">
                  <a:srgbClr val="a28b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3657600"/>
              <a:ext cx="533520" cy="381240"/>
            </a:xfrm>
            <a:prstGeom prst="rightArrow">
              <a:avLst>
                <a:gd name="adj1" fmla="val 50000"/>
                <a:gd name="adj2" fmla="val 5831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581280" y="4495680"/>
            <a:ext cx="4924440" cy="1228680"/>
            <a:chOff x="3581280" y="4495680"/>
            <a:chExt cx="4924440" cy="1228680"/>
          </a:xfrm>
        </p:grpSpPr>
        <p:sp>
          <p:nvSpPr>
            <p:cNvPr id="189" name=""/>
            <p:cNvSpPr/>
            <p:nvPr/>
          </p:nvSpPr>
          <p:spPr>
            <a:xfrm>
              <a:off x="3628800" y="4495680"/>
              <a:ext cx="487692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5f2cf"/>
                </a:gs>
                <a:gs pos="100000">
                  <a:srgbClr val="8ac9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81280" y="4952880"/>
              <a:ext cx="533520" cy="380880"/>
            </a:xfrm>
            <a:prstGeom prst="rightArrow">
              <a:avLst>
                <a:gd name="adj1" fmla="val 50000"/>
                <a:gd name="adj2" fmla="val 583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267080" y="4660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335592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994040"/>
            <a:ext cx="40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 flipV="1">
            <a:off x="3413160" y="4992480"/>
            <a:ext cx="2116080" cy="66492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385800" y="1849320"/>
            <a:ext cx="3095640" cy="920880"/>
          </a:xfrm>
          <a:prstGeom prst="line">
            <a:avLst/>
          </a:prstGeom>
          <a:ln w="12600">
            <a:solidFill>
              <a:srgbClr val="7368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13120" y="3106800"/>
            <a:ext cx="2605320" cy="2641680"/>
          </a:xfrm>
          <a:prstGeom prst="ellipse">
            <a:avLst/>
          </a:prstGeom>
          <a:gradFill rotWithShape="0">
            <a:gsLst>
              <a:gs pos="0">
                <a:srgbClr val="5bc9df"/>
              </a:gs>
              <a:gs pos="100000">
                <a:srgbClr val="32707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6625200">
            <a:off x="4489200" y="2655720"/>
            <a:ext cx="2976840" cy="2976480"/>
          </a:xfrm>
          <a:prstGeom prst="blockArc">
            <a:avLst>
              <a:gd name="adj1" fmla="val 20619484"/>
              <a:gd name="adj2" fmla="val 11780516"/>
              <a:gd name="adj3" fmla="val 44028"/>
            </a:avLst>
          </a:prstGeom>
          <a:gradFill rotWithShape="0">
            <a:gsLst>
              <a:gs pos="0">
                <a:srgbClr val="6e5f99"/>
              </a:gs>
              <a:gs pos="100000">
                <a:srgbClr val="a28be1"/>
              </a:gs>
            </a:gsLst>
            <a:lin ang="6876000"/>
          </a:gradFill>
          <a:ln w="9360">
            <a:solidFill>
              <a:srgbClr val="0808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34160" y="4010040"/>
            <a:ext cx="344520" cy="344520"/>
          </a:xfrm>
          <a:prstGeom prst="ellipse">
            <a:avLst/>
          </a:prstGeom>
          <a:solidFill>
            <a:srgbClr val="453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21400" y="35701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7%</a:t>
            </a:r>
            <a:endParaRPr b="0" lang="en-US" sz="2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75320" y="3940200"/>
            <a:ext cx="555840" cy="688680"/>
            <a:chOff x="6475320" y="3940200"/>
            <a:chExt cx="555840" cy="688680"/>
          </a:xfrm>
        </p:grpSpPr>
        <p:sp>
          <p:nvSpPr>
            <p:cNvPr id="201" name=""/>
            <p:cNvSpPr/>
            <p:nvPr/>
          </p:nvSpPr>
          <p:spPr>
            <a:xfrm>
              <a:off x="6680520" y="3940200"/>
              <a:ext cx="145440" cy="141840"/>
            </a:xfrm>
            <a:prstGeom prst="ellipse">
              <a:avLst/>
            </a:pr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75320" y="3960720"/>
              <a:ext cx="555840" cy="66816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1c1c1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35360" y="4146480"/>
            <a:ext cx="129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6680" y="1839960"/>
            <a:ext cx="2365560" cy="3171600"/>
          </a:xfrm>
          <a:prstGeom prst="rect">
            <a:avLst/>
          </a:prstGeom>
          <a:noFill/>
          <a:ln cap="rnd" w="38160">
            <a:solidFill>
              <a:srgbClr val="73683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1160" y="2290680"/>
            <a:ext cx="227484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62080" y="1523880"/>
            <a:ext cx="2151000" cy="594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9280" y="16462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892400" y="2390760"/>
            <a:ext cx="641160" cy="942840"/>
            <a:chOff x="4892400" y="2390760"/>
            <a:chExt cx="641160" cy="942840"/>
          </a:xfrm>
        </p:grpSpPr>
        <p:sp>
          <p:nvSpPr>
            <p:cNvPr id="209" name=""/>
            <p:cNvSpPr/>
            <p:nvPr/>
          </p:nvSpPr>
          <p:spPr>
            <a:xfrm flipH="1">
              <a:off x="5123520" y="2390760"/>
              <a:ext cx="172440" cy="19692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892040" y="2583000"/>
              <a:ext cx="641160" cy="75060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543640" y="2427120"/>
            <a:ext cx="612720" cy="901800"/>
            <a:chOff x="5543640" y="2427120"/>
            <a:chExt cx="612720" cy="901800"/>
          </a:xfrm>
        </p:grpSpPr>
        <p:sp>
          <p:nvSpPr>
            <p:cNvPr id="212" name=""/>
            <p:cNvSpPr/>
            <p:nvPr/>
          </p:nvSpPr>
          <p:spPr>
            <a:xfrm>
              <a:off x="5543640" y="2608200"/>
              <a:ext cx="612720" cy="72072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70800" y="2427120"/>
              <a:ext cx="161640" cy="18576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031080" y="4668840"/>
            <a:ext cx="129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15840" y="3205080"/>
            <a:ext cx="9159480" cy="109800"/>
            <a:chOff x="-15840" y="3205080"/>
            <a:chExt cx="9159480" cy="109800"/>
          </a:xfrm>
        </p:grpSpPr>
        <p:sp>
          <p:nvSpPr>
            <p:cNvPr id="218" name=""/>
            <p:cNvSpPr/>
            <p:nvPr/>
          </p:nvSpPr>
          <p:spPr>
            <a:xfrm>
              <a:off x="-15840" y="3205080"/>
              <a:ext cx="9159480" cy="42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-15840" y="3247200"/>
              <a:ext cx="9159480" cy="6768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074600" y="2685960"/>
            <a:ext cx="1931760" cy="3265200"/>
            <a:chOff x="1074600" y="2685960"/>
            <a:chExt cx="1931760" cy="3265200"/>
          </a:xfrm>
        </p:grpSpPr>
        <p:grpSp>
          <p:nvGrpSpPr>
            <p:cNvPr id="221" name=""/>
            <p:cNvGrpSpPr/>
            <p:nvPr/>
          </p:nvGrpSpPr>
          <p:grpSpPr>
            <a:xfrm>
              <a:off x="1480320" y="3526560"/>
              <a:ext cx="1526040" cy="2424600"/>
              <a:chOff x="1480320" y="3526560"/>
              <a:chExt cx="1526040" cy="24246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480320" y="3684240"/>
                <a:ext cx="1420200" cy="2266920"/>
                <a:chOff x="1480320" y="3684240"/>
                <a:chExt cx="1420200" cy="2266920"/>
              </a:xfrm>
            </p:grpSpPr>
            <p:sp>
              <p:nvSpPr>
                <p:cNvPr id="223" name=""/>
                <p:cNvSpPr/>
                <p:nvPr/>
              </p:nvSpPr>
              <p:spPr>
                <a:xfrm rot="3876600">
                  <a:off x="10526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rot="3876600">
                  <a:off x="241992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916640" y="3526560"/>
                <a:ext cx="1089720" cy="1739520"/>
                <a:chOff x="1916640" y="3526560"/>
                <a:chExt cx="1089720" cy="1739520"/>
              </a:xfrm>
            </p:grpSpPr>
            <p:sp>
              <p:nvSpPr>
                <p:cNvPr id="226" name=""/>
                <p:cNvSpPr/>
                <p:nvPr/>
              </p:nvSpPr>
              <p:spPr>
                <a:xfrm flipV="1" rot="3876600">
                  <a:off x="158796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 rot="3876600">
                  <a:off x="262188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074600" y="2685960"/>
              <a:ext cx="1270440" cy="1309320"/>
              <a:chOff x="1074600" y="2685960"/>
              <a:chExt cx="1270440" cy="1309320"/>
            </a:xfrm>
          </p:grpSpPr>
          <p:sp>
            <p:nvSpPr>
              <p:cNvPr id="229" name=""/>
              <p:cNvSpPr/>
              <p:nvPr/>
            </p:nvSpPr>
            <p:spPr>
              <a:xfrm>
                <a:off x="10746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746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5848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5848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1320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1228320" y="2844360"/>
                <a:ext cx="962280" cy="992880"/>
                <a:chOff x="1228320" y="2844360"/>
                <a:chExt cx="962280" cy="9928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2832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4056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25028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0284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 rot="3925800">
              <a:off x="144144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3925800">
              <a:off x="19029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22400" y="2685960"/>
            <a:ext cx="1931040" cy="3265200"/>
            <a:chOff x="2822400" y="2685960"/>
            <a:chExt cx="1931040" cy="3265200"/>
          </a:xfrm>
        </p:grpSpPr>
        <p:grpSp>
          <p:nvGrpSpPr>
            <p:cNvPr id="242" name=""/>
            <p:cNvGrpSpPr/>
            <p:nvPr/>
          </p:nvGrpSpPr>
          <p:grpSpPr>
            <a:xfrm>
              <a:off x="3227040" y="3526560"/>
              <a:ext cx="1526400" cy="2424600"/>
              <a:chOff x="3227040" y="3526560"/>
              <a:chExt cx="1526400" cy="242460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3227040" y="3684240"/>
                <a:ext cx="1420200" cy="2266920"/>
                <a:chOff x="3227040" y="3684240"/>
                <a:chExt cx="1420200" cy="2266920"/>
              </a:xfrm>
            </p:grpSpPr>
            <p:sp>
              <p:nvSpPr>
                <p:cNvPr id="244" name=""/>
                <p:cNvSpPr/>
                <p:nvPr/>
              </p:nvSpPr>
              <p:spPr>
                <a:xfrm rot="3876600">
                  <a:off x="279936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rot="3876600">
                  <a:off x="4166640" y="545004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663360" y="3526560"/>
                <a:ext cx="1090080" cy="1739520"/>
                <a:chOff x="3663360" y="3526560"/>
                <a:chExt cx="1090080" cy="1739520"/>
              </a:xfrm>
            </p:grpSpPr>
            <p:sp>
              <p:nvSpPr>
                <p:cNvPr id="247" name=""/>
                <p:cNvSpPr/>
                <p:nvPr/>
              </p:nvSpPr>
              <p:spPr>
                <a:xfrm flipV="1" rot="3876600">
                  <a:off x="3335040" y="4207320"/>
                  <a:ext cx="1746360" cy="37764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 rot="3876600">
                  <a:off x="4368960" y="4888440"/>
                  <a:ext cx="274320" cy="3092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2822400" y="2685960"/>
              <a:ext cx="1270440" cy="1309320"/>
              <a:chOff x="2822400" y="2685960"/>
              <a:chExt cx="1270440" cy="1309320"/>
            </a:xfrm>
          </p:grpSpPr>
          <p:sp>
            <p:nvSpPr>
              <p:cNvPr id="250" name=""/>
              <p:cNvSpPr/>
              <p:nvPr/>
            </p:nvSpPr>
            <p:spPr>
              <a:xfrm>
                <a:off x="28224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22400" y="2685960"/>
                <a:ext cx="12704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06280" y="277092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06280" y="2773800"/>
                <a:ext cx="110196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961000" y="2828880"/>
                <a:ext cx="99288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976120" y="2844360"/>
                <a:ext cx="962280" cy="992880"/>
                <a:chOff x="2976120" y="2844360"/>
                <a:chExt cx="962280" cy="992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976120" y="2844360"/>
                  <a:ext cx="96228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988360" y="2849760"/>
                  <a:ext cx="9392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98080" y="2859120"/>
                  <a:ext cx="89316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050640" y="2884680"/>
                  <a:ext cx="79380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 rot="3925800">
              <a:off x="318276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3925800">
              <a:off x="364500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26000" y="2685960"/>
            <a:ext cx="1931760" cy="3265200"/>
            <a:chOff x="4626000" y="2685960"/>
            <a:chExt cx="1931760" cy="3265200"/>
          </a:xfrm>
        </p:grpSpPr>
        <p:grpSp>
          <p:nvGrpSpPr>
            <p:cNvPr id="263" name=""/>
            <p:cNvGrpSpPr/>
            <p:nvPr/>
          </p:nvGrpSpPr>
          <p:grpSpPr>
            <a:xfrm>
              <a:off x="5031720" y="3526560"/>
              <a:ext cx="1526040" cy="2424600"/>
              <a:chOff x="5031720" y="3526560"/>
              <a:chExt cx="1526040" cy="242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5031720" y="3684240"/>
                <a:ext cx="1420200" cy="2266920"/>
                <a:chOff x="5031720" y="3684240"/>
                <a:chExt cx="1420200" cy="2266920"/>
              </a:xfrm>
            </p:grpSpPr>
            <p:sp>
              <p:nvSpPr>
                <p:cNvPr id="265" name=""/>
                <p:cNvSpPr/>
                <p:nvPr/>
              </p:nvSpPr>
              <p:spPr>
                <a:xfrm rot="3876600">
                  <a:off x="4604040" y="45712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087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rot="3876600">
                  <a:off x="5971320" y="54504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468040" y="3526560"/>
                <a:ext cx="1089720" cy="1739520"/>
                <a:chOff x="5468040" y="3526560"/>
                <a:chExt cx="1089720" cy="1739520"/>
              </a:xfrm>
            </p:grpSpPr>
            <p:sp>
              <p:nvSpPr>
                <p:cNvPr id="268" name=""/>
                <p:cNvSpPr/>
                <p:nvPr/>
              </p:nvSpPr>
              <p:spPr>
                <a:xfrm flipV="1" rot="3876600">
                  <a:off x="5139360" y="42073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5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 rot="3876600">
                  <a:off x="6173280" y="48895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4626000" y="2685960"/>
              <a:ext cx="1272240" cy="1309320"/>
              <a:chOff x="4626000" y="2685960"/>
              <a:chExt cx="1272240" cy="1309320"/>
            </a:xfrm>
          </p:grpSpPr>
          <p:sp>
            <p:nvSpPr>
              <p:cNvPr id="271" name=""/>
              <p:cNvSpPr/>
              <p:nvPr/>
            </p:nvSpPr>
            <p:spPr>
              <a:xfrm>
                <a:off x="462600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3a6a7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626000" y="2685960"/>
                <a:ext cx="1272240" cy="130932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3a6a7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710240" y="277092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46595a"/>
                  </a:gs>
                  <a:gs pos="50000">
                    <a:srgbClr val="83a6a7"/>
                  </a:gs>
                  <a:gs pos="100000">
                    <a:srgbClr val="46595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10240" y="2773800"/>
                <a:ext cx="1103400" cy="113724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0"/>
                    </a:srgbClr>
                  </a:gs>
                  <a:gs pos="100000">
                    <a:srgbClr val="52696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64960" y="2828880"/>
                <a:ext cx="993960" cy="10231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780080" y="2844360"/>
                <a:ext cx="963720" cy="992880"/>
                <a:chOff x="4780080" y="2844360"/>
                <a:chExt cx="963720" cy="9928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780080" y="2844360"/>
                  <a:ext cx="963720" cy="99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792320" y="2849760"/>
                  <a:ext cx="94068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802400" y="2859120"/>
                  <a:ext cx="894240" cy="90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854600" y="2884680"/>
                  <a:ext cx="795240" cy="734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" name=""/>
            <p:cNvSpPr/>
            <p:nvPr/>
          </p:nvSpPr>
          <p:spPr>
            <a:xfrm rot="3925800">
              <a:off x="4996080" y="4502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3925800">
              <a:off x="5457960" y="422388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402240" y="2541600"/>
            <a:ext cx="2122560" cy="3476160"/>
            <a:chOff x="6402240" y="2541600"/>
            <a:chExt cx="2122560" cy="3476160"/>
          </a:xfrm>
        </p:grpSpPr>
        <p:grpSp>
          <p:nvGrpSpPr>
            <p:cNvPr id="284" name=""/>
            <p:cNvGrpSpPr/>
            <p:nvPr/>
          </p:nvGrpSpPr>
          <p:grpSpPr>
            <a:xfrm>
              <a:off x="6998760" y="3593160"/>
              <a:ext cx="1526040" cy="2424600"/>
              <a:chOff x="6998760" y="3593160"/>
              <a:chExt cx="1526040" cy="242460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6998760" y="3750840"/>
                <a:ext cx="1420200" cy="2266920"/>
                <a:chOff x="6998760" y="3750840"/>
                <a:chExt cx="1420200" cy="2266920"/>
              </a:xfrm>
            </p:grpSpPr>
            <p:sp>
              <p:nvSpPr>
                <p:cNvPr id="286" name=""/>
                <p:cNvSpPr/>
                <p:nvPr/>
              </p:nvSpPr>
              <p:spPr>
                <a:xfrm rot="3876600">
                  <a:off x="6571080" y="4637880"/>
                  <a:ext cx="2275560" cy="49212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00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876600">
                  <a:off x="7938360" y="5517000"/>
                  <a:ext cx="357480" cy="40284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435080" y="3593160"/>
                <a:ext cx="1089720" cy="1739520"/>
                <a:chOff x="7435080" y="3593160"/>
                <a:chExt cx="1089720" cy="1739520"/>
              </a:xfrm>
            </p:grpSpPr>
            <p:sp>
              <p:nvSpPr>
                <p:cNvPr id="289" name=""/>
                <p:cNvSpPr/>
                <p:nvPr/>
              </p:nvSpPr>
              <p:spPr>
                <a:xfrm flipV="1" rot="3876600">
                  <a:off x="7106400" y="4273920"/>
                  <a:ext cx="1746360" cy="377280"/>
                </a:xfrm>
                <a:custGeom>
                  <a:avLst/>
                  <a:gdLst/>
                  <a:ahLst/>
                  <a:rect l="l" t="t" r="r" b="b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 rot="3876600">
                  <a:off x="8140320" y="4956120"/>
                  <a:ext cx="274320" cy="308880"/>
                </a:xfrm>
                <a:custGeom>
                  <a:avLst/>
                  <a:gdLst/>
                  <a:ahLst/>
                  <a:rect l="l" t="t" r="r" b="b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7e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6402240" y="2541600"/>
              <a:ext cx="1526760" cy="1569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2240" y="2541600"/>
              <a:ext cx="1526760" cy="1569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03760" y="2644920"/>
              <a:ext cx="1326240" cy="1362960"/>
            </a:xfrm>
            <a:prstGeom prst="ellipse">
              <a:avLst/>
            </a:prstGeom>
            <a:gradFill rotWithShape="0">
              <a:gsLst>
                <a:gs pos="0">
                  <a:srgbClr val="1b5289"/>
                </a:gs>
                <a:gs pos="50000">
                  <a:srgbClr val="3399ff"/>
                </a:gs>
                <a:gs pos="100000">
                  <a:srgbClr val="1b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05560" y="2647800"/>
              <a:ext cx="1325880" cy="136332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68920" y="2712960"/>
              <a:ext cx="1194480" cy="1226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588000" y="2732040"/>
              <a:ext cx="1157760" cy="1190160"/>
              <a:chOff x="6588000" y="2732040"/>
              <a:chExt cx="1157760" cy="1190160"/>
            </a:xfrm>
          </p:grpSpPr>
          <p:sp>
            <p:nvSpPr>
              <p:cNvPr id="297" name=""/>
              <p:cNvSpPr/>
              <p:nvPr/>
            </p:nvSpPr>
            <p:spPr>
              <a:xfrm>
                <a:off x="6588000" y="2732040"/>
                <a:ext cx="1157760" cy="1190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02760" y="2738520"/>
                <a:ext cx="1129680" cy="1160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614640" y="2750040"/>
                <a:ext cx="1074600" cy="108432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677640" y="2780280"/>
                <a:ext cx="955080" cy="88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rot="3925800">
              <a:off x="6948720" y="464616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3925800">
              <a:off x="7409160" y="4366800"/>
              <a:ext cx="100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Your Text</a:t>
              </a:r>
              <a:endParaRPr b="0" lang="en-US" sz="1400" spc="-1" strike="noStrike">
                <a:solidFill>
                  <a:srgbClr val="08087e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414440" y="1828800"/>
            <a:ext cx="6056640" cy="407880"/>
            <a:chOff x="1414440" y="1828800"/>
            <a:chExt cx="6056640" cy="407880"/>
          </a:xfrm>
        </p:grpSpPr>
        <p:sp>
          <p:nvSpPr>
            <p:cNvPr id="304" name=""/>
            <p:cNvSpPr/>
            <p:nvPr/>
          </p:nvSpPr>
          <p:spPr>
            <a:xfrm>
              <a:off x="141444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68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4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1472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5</a:t>
              </a:r>
              <a:endParaRPr b="0" lang="en-US" sz="1800" spc="-1" strike="noStrike">
                <a:solidFill>
                  <a:srgbClr val="08087e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0500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965db"/>
                  </a:solidFill>
                  <a:latin typeface="Verdana"/>
                  <a:ea typeface="宋体"/>
                </a:rPr>
                <a:t>2006</a:t>
              </a:r>
              <a:endParaRPr b="0" lang="en-US" sz="2000" spc="-1" strike="noStrike">
                <a:solidFill>
                  <a:srgbClr val="08087e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4" idx="3"/>
              <a:endCxn id="305" idx="1"/>
            </p:cNvCxnSpPr>
            <p:nvPr/>
          </p:nvCxnSpPr>
          <p:spPr>
            <a:xfrm>
              <a:off x="2150640" y="2052360"/>
              <a:ext cx="98676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5" idx="3"/>
              <a:endCxn id="306" idx="1"/>
            </p:cNvCxnSpPr>
            <p:nvPr/>
          </p:nvCxnSpPr>
          <p:spPr>
            <a:xfrm>
              <a:off x="3905280" y="205236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/>
            <p:nvPr/>
          </p:nvCxnSpPr>
          <p:spPr>
            <a:xfrm>
              <a:off x="5651640" y="2057040"/>
              <a:ext cx="978480" cy="1080"/>
            </a:xfrm>
            <a:prstGeom prst="straightConnector1">
              <a:avLst/>
            </a:prstGeom>
            <a:ln w="9360">
              <a:solidFill>
                <a:srgbClr val="5965db"/>
              </a:solidFill>
              <a:miter/>
              <a:tailEnd len="med" type="triangle" w="med"/>
            </a:ln>
          </p:spPr>
        </p:cxn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4772160" y="3657600"/>
            <a:ext cx="1834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65320" y="4146480"/>
            <a:ext cx="1806840" cy="43200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36520" y="4640400"/>
            <a:ext cx="1825920" cy="431640"/>
          </a:xfrm>
          <a:prstGeom prst="rect">
            <a:avLst/>
          </a:prstGeom>
          <a:gradFill rotWithShape="0">
            <a:gsLst>
              <a:gs pos="0">
                <a:srgbClr val="f7bc29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532800" y="40273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f7bc29">
                  <a:alpha val="50196"/>
                </a:srgbClr>
              </a:gs>
              <a:gs pos="100000">
                <a:srgbClr val="f9d989">
                  <a:alpha val="82352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2346480" y="351792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a6e1ec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52600" y="351936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295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59080" y="300204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f9da8b"/>
              </a:gs>
              <a:gs pos="100000">
                <a:srgbClr val="f7bc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156200" y="299736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f7bc29"/>
              </a:gs>
              <a:gs pos="100000">
                <a:srgbClr val="7156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152360" y="418140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1065240" y="3220920"/>
            <a:ext cx="1152360" cy="1140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065240" y="32209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f7bc29">
                  <a:alpha val="45098"/>
                </a:srgbClr>
              </a:gs>
              <a:gs pos="50000">
                <a:srgbClr val="f9d989">
                  <a:alpha val="90196"/>
                </a:srgbClr>
              </a:gs>
              <a:gs pos="100000">
                <a:srgbClr val="f7bc29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4400" y="32446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2995560" y="3678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2908440" y="2717640"/>
            <a:ext cx="1152360" cy="1140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908440" y="2717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7343a">
                  <a:alpha val="90196"/>
                </a:srgbClr>
              </a:gs>
              <a:gs pos="50000">
                <a:srgbClr val="5bc9df">
                  <a:alpha val="45098"/>
                </a:srgbClr>
              </a:gs>
              <a:gs pos="100000">
                <a:srgbClr val="1734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27240" y="274176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4916520" y="3191040"/>
            <a:ext cx="1008000" cy="28080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4829040" y="223056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829040" y="22305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40310a">
                  <a:alpha val="90196"/>
                </a:srgbClr>
              </a:gs>
              <a:gs pos="50000">
                <a:srgbClr val="f7bc29">
                  <a:alpha val="45098"/>
                </a:srgbClr>
              </a:gs>
              <a:gs pos="100000">
                <a:srgbClr val="40310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948200" y="225432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7bc2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214280" y="3654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52800" y="31496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78440" y="26528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08160" y="4842000"/>
            <a:ext cx="169056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965db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30480" y="4365720"/>
            <a:ext cx="174168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7e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35520" y="399096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125360" y="3952800"/>
            <a:ext cx="1076040" cy="428400"/>
            <a:chOff x="1125360" y="3952800"/>
            <a:chExt cx="1076040" cy="428400"/>
          </a:xfrm>
        </p:grpSpPr>
        <p:grpSp>
          <p:nvGrpSpPr>
            <p:cNvPr id="339" name=""/>
            <p:cNvGrpSpPr/>
            <p:nvPr/>
          </p:nvGrpSpPr>
          <p:grpSpPr>
            <a:xfrm>
              <a:off x="1314000" y="3952800"/>
              <a:ext cx="887400" cy="403560"/>
              <a:chOff x="1314000" y="3952800"/>
              <a:chExt cx="887400" cy="403560"/>
            </a:xfrm>
          </p:grpSpPr>
          <p:sp>
            <p:nvSpPr>
              <p:cNvPr id="340" name=""/>
              <p:cNvSpPr/>
              <p:nvPr/>
            </p:nvSpPr>
            <p:spPr>
              <a:xfrm flipH="1" flipV="1" rot="3964800">
                <a:off x="1797480" y="38314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 rot="4780200">
                <a:off x="1697040" y="3871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 rot="5076000">
                <a:off x="1636560" y="38797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 rot="5608200">
                <a:off x="1562760" y="388728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1125360" y="3958200"/>
              <a:ext cx="886680" cy="423000"/>
              <a:chOff x="1125360" y="3958200"/>
              <a:chExt cx="886680" cy="423000"/>
            </a:xfrm>
          </p:grpSpPr>
          <p:sp>
            <p:nvSpPr>
              <p:cNvPr id="345" name=""/>
              <p:cNvSpPr/>
              <p:nvPr/>
            </p:nvSpPr>
            <p:spPr>
              <a:xfrm flipH="1" flipV="1" rot="5317800">
                <a:off x="1609560" y="3886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 rot="6133800">
                <a:off x="1501920" y="388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 rot="6429000">
                <a:off x="1441800" y="3868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 rot="6961200">
                <a:off x="1371600" y="3846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3016440" y="3478680"/>
            <a:ext cx="1075680" cy="428400"/>
            <a:chOff x="3016440" y="3478680"/>
            <a:chExt cx="1075680" cy="428400"/>
          </a:xfrm>
        </p:grpSpPr>
        <p:grpSp>
          <p:nvGrpSpPr>
            <p:cNvPr id="350" name=""/>
            <p:cNvGrpSpPr/>
            <p:nvPr/>
          </p:nvGrpSpPr>
          <p:grpSpPr>
            <a:xfrm>
              <a:off x="3204720" y="3478680"/>
              <a:ext cx="887400" cy="403560"/>
              <a:chOff x="3204720" y="3478680"/>
              <a:chExt cx="887400" cy="403560"/>
            </a:xfrm>
          </p:grpSpPr>
          <p:sp>
            <p:nvSpPr>
              <p:cNvPr id="351" name=""/>
              <p:cNvSpPr/>
              <p:nvPr/>
            </p:nvSpPr>
            <p:spPr>
              <a:xfrm flipH="1" flipV="1" rot="3964800">
                <a:off x="3687840" y="3357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 flipV="1" rot="4780200">
                <a:off x="3588120" y="33976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 rot="5076000">
                <a:off x="3526920" y="3405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 rot="5608200">
                <a:off x="3453480" y="34128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16440" y="3484080"/>
              <a:ext cx="886680" cy="423000"/>
              <a:chOff x="3016440" y="3484080"/>
              <a:chExt cx="886680" cy="423000"/>
            </a:xfrm>
          </p:grpSpPr>
          <p:sp>
            <p:nvSpPr>
              <p:cNvPr id="356" name=""/>
              <p:cNvSpPr/>
              <p:nvPr/>
            </p:nvSpPr>
            <p:spPr>
              <a:xfrm flipH="1" flipV="1" rot="5317800">
                <a:off x="3500640" y="3412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flipV="1" rot="6133800">
                <a:off x="3392640" y="34113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 rot="6429000">
                <a:off x="3332880" y="33948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 rot="6961200">
                <a:off x="3262680" y="3372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4865760" y="2975760"/>
            <a:ext cx="1075320" cy="428040"/>
            <a:chOff x="4865760" y="2975760"/>
            <a:chExt cx="1075320" cy="428040"/>
          </a:xfrm>
        </p:grpSpPr>
        <p:grpSp>
          <p:nvGrpSpPr>
            <p:cNvPr id="361" name=""/>
            <p:cNvGrpSpPr/>
            <p:nvPr/>
          </p:nvGrpSpPr>
          <p:grpSpPr>
            <a:xfrm>
              <a:off x="5053320" y="2975760"/>
              <a:ext cx="887760" cy="403560"/>
              <a:chOff x="5053320" y="2975760"/>
              <a:chExt cx="887760" cy="403560"/>
            </a:xfrm>
          </p:grpSpPr>
          <p:sp>
            <p:nvSpPr>
              <p:cNvPr id="362" name=""/>
              <p:cNvSpPr/>
              <p:nvPr/>
            </p:nvSpPr>
            <p:spPr>
              <a:xfrm flipH="1" flipV="1" rot="3964800">
                <a:off x="5536440" y="28544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4780200">
                <a:off x="5436720" y="28947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flipV="1" rot="5076000">
                <a:off x="5375160" y="2902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 rot="5608200">
                <a:off x="5301720" y="2909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865760" y="2980800"/>
              <a:ext cx="886680" cy="423000"/>
              <a:chOff x="4865760" y="2980800"/>
              <a:chExt cx="886680" cy="423000"/>
            </a:xfrm>
          </p:grpSpPr>
          <p:sp>
            <p:nvSpPr>
              <p:cNvPr id="367" name=""/>
              <p:cNvSpPr/>
              <p:nvPr/>
            </p:nvSpPr>
            <p:spPr>
              <a:xfrm flipH="1" flipV="1" rot="5317800">
                <a:off x="5349960" y="2909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 flipV="1" rot="6133800">
                <a:off x="5241960" y="29080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 rot="6429000">
                <a:off x="5182200" y="28915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 rot="6961200">
                <a:off x="5112000" y="28692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822240" y="1508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65db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07080" y="3164040"/>
            <a:ext cx="1835280" cy="431640"/>
          </a:xfrm>
          <a:prstGeom prst="rect">
            <a:avLst/>
          </a:prstGeom>
          <a:gradFill rotWithShape="0">
            <a:gsLst>
              <a:gs pos="0">
                <a:srgbClr val="5bc9d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993640" y="250812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6e1ec"/>
              </a:gs>
              <a:gs pos="100000">
                <a:srgbClr val="5bc9d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991120" y="250344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bc9df"/>
              </a:gs>
              <a:gs pos="100000">
                <a:srgbClr val="295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6751800" y="269712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8"/>
          <a:stretch/>
        </p:blipFill>
        <p:spPr>
          <a:xfrm>
            <a:off x="6664320" y="173664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664320" y="17366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7343a">
                  <a:alpha val="90196"/>
                </a:srgbClr>
              </a:gs>
              <a:gs pos="50000">
                <a:srgbClr val="5bc9df">
                  <a:alpha val="45098"/>
                </a:srgbClr>
              </a:gs>
              <a:gs pos="100000">
                <a:srgbClr val="17343a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783480" y="17604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bc9d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13720" y="215892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8087e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70800" y="3497400"/>
            <a:ext cx="176184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0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8087e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700680" y="2481120"/>
            <a:ext cx="1076040" cy="428400"/>
            <a:chOff x="6700680" y="2481120"/>
            <a:chExt cx="1076040" cy="428400"/>
          </a:xfrm>
        </p:grpSpPr>
        <p:grpSp>
          <p:nvGrpSpPr>
            <p:cNvPr id="382" name=""/>
            <p:cNvGrpSpPr/>
            <p:nvPr/>
          </p:nvGrpSpPr>
          <p:grpSpPr>
            <a:xfrm>
              <a:off x="6889320" y="2481120"/>
              <a:ext cx="887400" cy="403560"/>
              <a:chOff x="6889320" y="2481120"/>
              <a:chExt cx="887400" cy="403560"/>
            </a:xfrm>
          </p:grpSpPr>
          <p:sp>
            <p:nvSpPr>
              <p:cNvPr id="383" name=""/>
              <p:cNvSpPr/>
              <p:nvPr/>
            </p:nvSpPr>
            <p:spPr>
              <a:xfrm flipH="1" flipV="1" rot="3964800">
                <a:off x="7372800" y="23598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 flipV="1" rot="4780200">
                <a:off x="7272360" y="24001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 flipV="1" rot="5076000">
                <a:off x="7211880" y="24080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 flipV="1" rot="5608200">
                <a:off x="7138080" y="241560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700680" y="2486520"/>
              <a:ext cx="886680" cy="423000"/>
              <a:chOff x="6700680" y="2486520"/>
              <a:chExt cx="886680" cy="423000"/>
            </a:xfrm>
          </p:grpSpPr>
          <p:sp>
            <p:nvSpPr>
              <p:cNvPr id="388" name=""/>
              <p:cNvSpPr/>
              <p:nvPr/>
            </p:nvSpPr>
            <p:spPr>
              <a:xfrm flipH="1" flipV="1" rot="5317800">
                <a:off x="7184880" y="2415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flipV="1" rot="6133800">
                <a:off x="7077240" y="2413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 rot="6429000">
                <a:off x="7017120" y="23972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 rot="6961200">
                <a:off x="6946920" y="2374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7e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"/>
          <p:cNvSpPr/>
          <p:nvPr/>
        </p:nvSpPr>
        <p:spPr>
          <a:xfrm>
            <a:off x="533520" y="401148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fadd96"/>
              </a:gs>
              <a:gs pos="100000">
                <a:srgbClr val="f7bc29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7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02:38:48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6:1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