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58DE-8EEA-47F7-A8A0-BBA4B31D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70AD-7FDD-42C4-BDAE-48D36B06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1FD-9D42-4ECF-BA3C-568D2FBE9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8B3-A321-4FCA-9C6A-53C06995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EDA-5B46-44FE-88A8-DE4067BE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0E8-E836-4273-BCCE-ADB297C8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764-A799-43F4-BD1B-9434E725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B64-30C4-4460-B2C5-A42C13FB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977-E2FC-4D57-B627-D0B9B364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74F-5724-4544-8D37-BA193ED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493E-7FC5-4AED-9AA4-0ADA997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0B5-1918-495F-A82B-0BB0AF94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C5A0-D0E1-45B1-A43D-4C13CF4F5C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05000" y="0"/>
            <a:ext cx="4653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Connecteur droit 5"/>
          <p:cNvSpPr/>
          <p:nvPr/>
        </p:nvSpPr>
        <p:spPr>
          <a:xfrm>
            <a:off x="2205000" y="5292720"/>
            <a:ext cx="0" cy="3851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onnecteur droit 7"/>
          <p:cNvSpPr/>
          <p:nvPr/>
        </p:nvSpPr>
        <p:spPr>
          <a:xfrm>
            <a:off x="1989000" y="6084720"/>
            <a:ext cx="0" cy="3059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onnecteur droit 9"/>
          <p:cNvSpPr/>
          <p:nvPr/>
        </p:nvSpPr>
        <p:spPr>
          <a:xfrm>
            <a:off x="1773360" y="7380360"/>
            <a:ext cx="0" cy="1763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자유형 38"/>
          <p:cNvSpPr/>
          <p:nvPr/>
        </p:nvSpPr>
        <p:spPr>
          <a:xfrm rot="19792800">
            <a:off x="-747720" y="2697120"/>
            <a:ext cx="8143920" cy="3624480"/>
          </a:xfrm>
          <a:custGeom>
            <a:avLst/>
            <a:gdLst/>
            <a:ahLst/>
            <a:rect l="l" t="t" r="r" b="b"/>
            <a:pathLst>
              <a:path w="8143875" h="3162300">
                <a:moveTo>
                  <a:pt x="0" y="3162300"/>
                </a:moveTo>
                <a:cubicBezTo>
                  <a:pt x="1740694" y="2840037"/>
                  <a:pt x="3481388" y="2517775"/>
                  <a:pt x="4838700" y="1990725"/>
                </a:cubicBezTo>
                <a:cubicBezTo>
                  <a:pt x="6196012" y="1463675"/>
                  <a:pt x="7169943" y="731837"/>
                  <a:pt x="814387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  <a:effectLst>
            <a:outerShdw dist="63639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5"/>
          <p:cNvSpPr/>
          <p:nvPr/>
        </p:nvSpPr>
        <p:spPr>
          <a:xfrm>
            <a:off x="115920" y="7905600"/>
            <a:ext cx="216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ter degree – Engineer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: AC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matism and system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à coins arrondis 26"/>
          <p:cNvSpPr/>
          <p:nvPr/>
        </p:nvSpPr>
        <p:spPr>
          <a:xfrm>
            <a:off x="1052640" y="7719840"/>
            <a:ext cx="215640" cy="1429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7"/>
          <p:cNvSpPr/>
          <p:nvPr/>
        </p:nvSpPr>
        <p:spPr>
          <a:xfrm>
            <a:off x="115920" y="7667640"/>
            <a:ext cx="79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4061"/>
                </a:solidFill>
                <a:latin typeface="Calibri"/>
                <a:ea typeface="宋体"/>
              </a:rPr>
              <a:t>SUPE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8"/>
          <p:cNvSpPr/>
          <p:nvPr/>
        </p:nvSpPr>
        <p:spPr>
          <a:xfrm>
            <a:off x="121680" y="7451640"/>
            <a:ext cx="148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  <a:ea typeface="宋体"/>
              </a:rPr>
              <a:t>Sept. 2005 – Sept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2375640" y="181080"/>
            <a:ext cx="6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EXPE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33"/>
          <p:cNvSpPr/>
          <p:nvPr/>
        </p:nvSpPr>
        <p:spPr>
          <a:xfrm>
            <a:off x="4581360" y="377208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à coins arrondis 35"/>
          <p:cNvSpPr/>
          <p:nvPr/>
        </p:nvSpPr>
        <p:spPr>
          <a:xfrm>
            <a:off x="5516640" y="1692360"/>
            <a:ext cx="21600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1"/>
          <p:cNvSpPr/>
          <p:nvPr/>
        </p:nvSpPr>
        <p:spPr>
          <a:xfrm>
            <a:off x="189000" y="2168640"/>
            <a:ext cx="475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roposition of a piloting methodology and a group of tools to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ppor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loyment of the eco design practices in the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ing on the working flow and decisional schema of in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rnal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of the classification of eco design tools and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ise database &amp; Interface definition &amp; Template/T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o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usiness intelligence/Distributed discussion/informati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2"/>
          <p:cNvSpPr/>
          <p:nvPr/>
        </p:nvSpPr>
        <p:spPr>
          <a:xfrm>
            <a:off x="115920" y="1952640"/>
            <a:ext cx="396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emic Symbol"/>
              </a:rPr>
              <a:t>ECO CONVERGENCE - </a:t>
            </a:r>
            <a:r>
              <a:rPr b="0" lang="en-US" sz="1100" spc="-1" strike="noStrike">
                <a:solidFill>
                  <a:srgbClr val="000000"/>
                </a:solidFill>
                <a:latin typeface="Basemic Symbol"/>
              </a:rPr>
              <a:t>NATIONAL RESEARCH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e 51"/>
          <p:cNvGrpSpPr/>
          <p:nvPr/>
        </p:nvGrpSpPr>
        <p:grpSpPr>
          <a:xfrm>
            <a:off x="115920" y="3708360"/>
            <a:ext cx="4392720" cy="647640"/>
            <a:chOff x="115920" y="3708360"/>
            <a:chExt cx="4392720" cy="647640"/>
          </a:xfrm>
        </p:grpSpPr>
        <p:sp>
          <p:nvSpPr>
            <p:cNvPr id="56" name="Rectangle à coins arrondis 40"/>
            <p:cNvSpPr/>
            <p:nvPr/>
          </p:nvSpPr>
          <p:spPr>
            <a:xfrm>
              <a:off x="115920" y="3708360"/>
              <a:ext cx="4392720" cy="64764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34"/>
            <p:cNvSpPr/>
            <p:nvPr/>
          </p:nvSpPr>
          <p:spPr>
            <a:xfrm>
              <a:off x="2348280" y="3745800"/>
              <a:ext cx="180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SCHNEIDER ELECT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8"/>
            <p:cNvSpPr/>
            <p:nvPr/>
          </p:nvSpPr>
          <p:spPr>
            <a:xfrm>
              <a:off x="920520" y="3773520"/>
              <a:ext cx="136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ec. 2009 – Oct.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44"/>
            <p:cNvSpPr/>
            <p:nvPr/>
          </p:nvSpPr>
          <p:spPr>
            <a:xfrm>
              <a:off x="187920" y="3967200"/>
              <a:ext cx="396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EFFICIENCY et EXPERTISE - CHINA RESEARCH CEN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46"/>
          <p:cNvSpPr/>
          <p:nvPr/>
        </p:nvSpPr>
        <p:spPr>
          <a:xfrm>
            <a:off x="189000" y="4140360"/>
            <a:ext cx="33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-pacific sustainable offer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7"/>
          <p:cNvSpPr/>
          <p:nvPr/>
        </p:nvSpPr>
        <p:spPr>
          <a:xfrm>
            <a:off x="130320" y="4440240"/>
            <a:ext cx="48830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porate environment committe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of the deployment of corporate su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ainab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 program into Asia pacific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of the WG for assuring the progr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m K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ise for sustainable offer creation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sia Pacific business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9"/>
          <p:cNvSpPr/>
          <p:nvPr/>
        </p:nvSpPr>
        <p:spPr>
          <a:xfrm>
            <a:off x="2852640" y="6516720"/>
            <a:ext cx="38894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rporate environment commit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member</a:t>
            </a:r>
            <a:br>
              <a:rPr sz="1200"/>
            </a:b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ading of WG for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 performance improvem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duct Carbon Footprin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fficiency. (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enefit &amp; satisfaction, corpor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 guideline and progra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rocedure and criteria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- Realization, developme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ptimization of corporate e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sign directive, stand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cedure (life cycle analysi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nvironmental perfor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ce judgment and declaration, etc.)</a:t>
            </a:r>
            <a:br>
              <a:rPr sz="1200"/>
            </a:b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-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Legislation, standards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ors and marketing evalu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- Deployment of sust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le offer program into corporat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usiness unit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- Cooperation with 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D for guiding and organizing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f sustainable off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e 53"/>
          <p:cNvGrpSpPr/>
          <p:nvPr/>
        </p:nvGrpSpPr>
        <p:grpSpPr>
          <a:xfrm>
            <a:off x="3284640" y="5796000"/>
            <a:ext cx="3457440" cy="647640"/>
            <a:chOff x="3284640" y="5796000"/>
            <a:chExt cx="3457440" cy="647640"/>
          </a:xfrm>
        </p:grpSpPr>
        <p:sp>
          <p:nvSpPr>
            <p:cNvPr id="64" name="Rectangle à coins arrondis 52"/>
            <p:cNvSpPr/>
            <p:nvPr/>
          </p:nvSpPr>
          <p:spPr>
            <a:xfrm>
              <a:off x="3284640" y="5796000"/>
              <a:ext cx="3457440" cy="64764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2"/>
            <p:cNvSpPr/>
            <p:nvPr/>
          </p:nvSpPr>
          <p:spPr>
            <a:xfrm>
              <a:off x="3428640" y="5796000"/>
              <a:ext cx="194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SCHNEIDER ELECT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8"/>
            <p:cNvSpPr/>
            <p:nvPr/>
          </p:nvSpPr>
          <p:spPr>
            <a:xfrm>
              <a:off x="3428640" y="6011640"/>
              <a:ext cx="3169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CORPERATE INFLUENCE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ustainable offer program specialist</a:t>
              </a: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7"/>
            <p:cNvSpPr/>
            <p:nvPr/>
          </p:nvSpPr>
          <p:spPr>
            <a:xfrm>
              <a:off x="5239080" y="5827320"/>
              <a:ext cx="137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Jun. 2008 – Nov.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à coins arrondis 31"/>
          <p:cNvSpPr/>
          <p:nvPr/>
        </p:nvSpPr>
        <p:spPr>
          <a:xfrm>
            <a:off x="2997360" y="5796000"/>
            <a:ext cx="215640" cy="14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e 58"/>
          <p:cNvGrpSpPr/>
          <p:nvPr/>
        </p:nvGrpSpPr>
        <p:grpSpPr>
          <a:xfrm>
            <a:off x="2852640" y="1258920"/>
            <a:ext cx="2592360" cy="649080"/>
            <a:chOff x="2852640" y="1258920"/>
            <a:chExt cx="2592360" cy="649080"/>
          </a:xfrm>
        </p:grpSpPr>
        <p:sp>
          <p:nvSpPr>
            <p:cNvPr id="70" name="Rectangle à coins arrondis 54"/>
            <p:cNvSpPr/>
            <p:nvPr/>
          </p:nvSpPr>
          <p:spPr>
            <a:xfrm>
              <a:off x="3213000" y="1258920"/>
              <a:ext cx="2232000" cy="64908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4941000" y="130068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INP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9"/>
            <p:cNvSpPr/>
            <p:nvPr/>
          </p:nvSpPr>
          <p:spPr>
            <a:xfrm>
              <a:off x="4078440" y="1331640"/>
              <a:ext cx="74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Nov. 2010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5"/>
            <p:cNvSpPr/>
            <p:nvPr/>
          </p:nvSpPr>
          <p:spPr>
            <a:xfrm>
              <a:off x="3356640" y="1691640"/>
              <a:ext cx="201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co conception - 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6"/>
            <p:cNvSpPr/>
            <p:nvPr/>
          </p:nvSpPr>
          <p:spPr>
            <a:xfrm>
              <a:off x="2852640" y="1547280"/>
              <a:ext cx="252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G - SCOP LABORA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직사각형 54"/>
          <p:cNvSpPr/>
          <p:nvPr/>
        </p:nvSpPr>
        <p:spPr>
          <a:xfrm>
            <a:off x="163080" y="468360"/>
            <a:ext cx="247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ECO CONCEPTION / L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SUSTAINABL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"/>
          <p:cNvSpPr/>
          <p:nvPr/>
        </p:nvSpPr>
        <p:spPr>
          <a:xfrm>
            <a:off x="103320" y="858960"/>
            <a:ext cx="2520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l - fengeric.zhang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0"/>
          <p:cNvSpPr/>
          <p:nvPr/>
        </p:nvSpPr>
        <p:spPr>
          <a:xfrm>
            <a:off x="103320" y="1042920"/>
            <a:ext cx="2160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Y헤드라인M"/>
              </a:rPr>
              <a:t>Phone: 0033 6 82 45 83 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54"/>
          <p:cNvSpPr/>
          <p:nvPr/>
        </p:nvSpPr>
        <p:spPr>
          <a:xfrm>
            <a:off x="107640" y="34920"/>
            <a:ext cx="213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HY헤드라인M"/>
              </a:rPr>
              <a:t>Feng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82680" y="1187280"/>
            <a:ext cx="420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页纸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7360" y="8748720"/>
            <a:ext cx="50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09A-9313-48D4-B36B-4AA5E55F0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05000" y="0"/>
            <a:ext cx="4653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3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5"/>
          <p:cNvSpPr/>
          <p:nvPr/>
        </p:nvSpPr>
        <p:spPr>
          <a:xfrm>
            <a:off x="2205000" y="5292720"/>
            <a:ext cx="0" cy="3851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necteur droit 7"/>
          <p:cNvSpPr/>
          <p:nvPr/>
        </p:nvSpPr>
        <p:spPr>
          <a:xfrm>
            <a:off x="1989000" y="6084720"/>
            <a:ext cx="0" cy="305928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necteur droit 9"/>
          <p:cNvSpPr/>
          <p:nvPr/>
        </p:nvSpPr>
        <p:spPr>
          <a:xfrm>
            <a:off x="1773360" y="7380360"/>
            <a:ext cx="0" cy="176364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자유형 38"/>
          <p:cNvSpPr/>
          <p:nvPr/>
        </p:nvSpPr>
        <p:spPr>
          <a:xfrm rot="19792800">
            <a:off x="-747720" y="2697120"/>
            <a:ext cx="8143920" cy="3624480"/>
          </a:xfrm>
          <a:custGeom>
            <a:avLst/>
            <a:gdLst/>
            <a:ahLst/>
            <a:rect l="l" t="t" r="r" b="b"/>
            <a:pathLst>
              <a:path w="8143875" h="3162300">
                <a:moveTo>
                  <a:pt x="0" y="3162300"/>
                </a:moveTo>
                <a:cubicBezTo>
                  <a:pt x="1740694" y="2840037"/>
                  <a:pt x="3481388" y="2517775"/>
                  <a:pt x="4838700" y="1990725"/>
                </a:cubicBezTo>
                <a:cubicBezTo>
                  <a:pt x="6196012" y="1463675"/>
                  <a:pt x="7169943" y="731837"/>
                  <a:pt x="8143875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lg" type="stealth" w="lg"/>
          </a:ln>
          <a:effectLst>
            <a:outerShdw dist="63639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직사각형 54"/>
          <p:cNvSpPr/>
          <p:nvPr/>
        </p:nvSpPr>
        <p:spPr>
          <a:xfrm>
            <a:off x="107640" y="34920"/>
            <a:ext cx="213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HY헤드라인M"/>
              </a:rPr>
              <a:t>Feng ZH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115920" y="7905600"/>
            <a:ext cx="216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ter degree – Engineer 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on: ACS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omatism and system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26"/>
          <p:cNvSpPr/>
          <p:nvPr/>
        </p:nvSpPr>
        <p:spPr>
          <a:xfrm>
            <a:off x="1052640" y="7719840"/>
            <a:ext cx="215640" cy="14292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115920" y="7667640"/>
            <a:ext cx="79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4061"/>
                </a:solidFill>
                <a:latin typeface="Calibri"/>
                <a:ea typeface="宋体"/>
              </a:rPr>
              <a:t>SUPEL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121680" y="7451640"/>
            <a:ext cx="148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4061"/>
                </a:solidFill>
                <a:latin typeface="Calibri"/>
                <a:ea typeface="宋体"/>
              </a:rPr>
              <a:t>Sept. 2005 – Sept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54"/>
          <p:cNvSpPr/>
          <p:nvPr/>
        </p:nvSpPr>
        <p:spPr>
          <a:xfrm>
            <a:off x="163080" y="468360"/>
            <a:ext cx="247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ECO CONCEPTION / L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SUSTAINABLE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2375640" y="179280"/>
            <a:ext cx="66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semic Symbol"/>
                <a:ea typeface="HY헤드라인M"/>
              </a:rPr>
              <a:t>EXPE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à coins arrondis 33"/>
          <p:cNvSpPr/>
          <p:nvPr/>
        </p:nvSpPr>
        <p:spPr>
          <a:xfrm>
            <a:off x="4581360" y="3772080"/>
            <a:ext cx="216000" cy="14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35"/>
          <p:cNvSpPr/>
          <p:nvPr/>
        </p:nvSpPr>
        <p:spPr>
          <a:xfrm>
            <a:off x="5516640" y="1692360"/>
            <a:ext cx="216000" cy="142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1"/>
          <p:cNvSpPr/>
          <p:nvPr/>
        </p:nvSpPr>
        <p:spPr>
          <a:xfrm>
            <a:off x="189000" y="2168640"/>
            <a:ext cx="47527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Proposition of a piloting methodology and a group of tools to support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loyment of the eco design practices in the enter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ing on the working flow and decisional schema of internal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of the classification of eco design tools and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ise database &amp; Interface definition &amp; Template/Tool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usiness intelligence/Distributed discussion/informati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2"/>
          <p:cNvSpPr/>
          <p:nvPr/>
        </p:nvSpPr>
        <p:spPr>
          <a:xfrm>
            <a:off x="115920" y="1952640"/>
            <a:ext cx="396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semic Symbol"/>
              </a:rPr>
              <a:t>ECO CONVERGENCE - </a:t>
            </a:r>
            <a:r>
              <a:rPr b="0" lang="en-US" sz="1100" spc="-1" strike="noStrike">
                <a:solidFill>
                  <a:srgbClr val="000000"/>
                </a:solidFill>
                <a:latin typeface="Basemic Symbol"/>
              </a:rPr>
              <a:t>NATIONAL RESEARCH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51"/>
          <p:cNvGrpSpPr/>
          <p:nvPr/>
        </p:nvGrpSpPr>
        <p:grpSpPr>
          <a:xfrm>
            <a:off x="115920" y="3708360"/>
            <a:ext cx="4392720" cy="647640"/>
            <a:chOff x="115920" y="3708360"/>
            <a:chExt cx="4392720" cy="647640"/>
          </a:xfrm>
        </p:grpSpPr>
        <p:sp>
          <p:nvSpPr>
            <p:cNvPr id="102" name="Rectangle à coins arrondis 40"/>
            <p:cNvSpPr/>
            <p:nvPr/>
          </p:nvSpPr>
          <p:spPr>
            <a:xfrm>
              <a:off x="115920" y="3708360"/>
              <a:ext cx="4392720" cy="64764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4"/>
            <p:cNvSpPr/>
            <p:nvPr/>
          </p:nvSpPr>
          <p:spPr>
            <a:xfrm>
              <a:off x="2348280" y="3745800"/>
              <a:ext cx="180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SCHNEIDER ELECT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8"/>
            <p:cNvSpPr/>
            <p:nvPr/>
          </p:nvSpPr>
          <p:spPr>
            <a:xfrm>
              <a:off x="920520" y="3773520"/>
              <a:ext cx="136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Dec. 2009 – Oct.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4"/>
            <p:cNvSpPr/>
            <p:nvPr/>
          </p:nvSpPr>
          <p:spPr>
            <a:xfrm>
              <a:off x="187920" y="3967200"/>
              <a:ext cx="396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EFFICIENCY et EXPERTISE - CHINA RESEARCH CENTE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ectangle 46"/>
          <p:cNvSpPr/>
          <p:nvPr/>
        </p:nvSpPr>
        <p:spPr>
          <a:xfrm>
            <a:off x="189000" y="4140360"/>
            <a:ext cx="331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ia-pacific sustainable offer coord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7"/>
          <p:cNvSpPr/>
          <p:nvPr/>
        </p:nvSpPr>
        <p:spPr>
          <a:xfrm>
            <a:off x="130320" y="4440240"/>
            <a:ext cx="48830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porate environment committee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of the deployment of corporate sustain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 program into Asia pacific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ing of the WG for assuring the program K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tise for sustainable offer creation for Asia Pacific business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9"/>
          <p:cNvSpPr/>
          <p:nvPr/>
        </p:nvSpPr>
        <p:spPr>
          <a:xfrm>
            <a:off x="2852640" y="6516720"/>
            <a:ext cx="388944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porate environment committee mem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Leading of WG for environmental performance improvement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Carbon Footprint and Energy efficiency. (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efit &amp; satisfaction, corporate guideline and progra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dure and criteria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Realization, development and optimization of corporate e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 directive, standards and procedure (life cycle analysi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al performance judgment and declaration, etc.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Legislation, standards, competitors and marketing 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Deployment of sustainable offer program into corporat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siness uni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ooperation with R&amp;D for guiding and organizing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sustainable offer re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e 53"/>
          <p:cNvGrpSpPr/>
          <p:nvPr/>
        </p:nvGrpSpPr>
        <p:grpSpPr>
          <a:xfrm>
            <a:off x="3284640" y="5796000"/>
            <a:ext cx="3457440" cy="647640"/>
            <a:chOff x="3284640" y="5796000"/>
            <a:chExt cx="3457440" cy="647640"/>
          </a:xfrm>
        </p:grpSpPr>
        <p:sp>
          <p:nvSpPr>
            <p:cNvPr id="110" name="Rectangle à coins arrondis 52"/>
            <p:cNvSpPr/>
            <p:nvPr/>
          </p:nvSpPr>
          <p:spPr>
            <a:xfrm>
              <a:off x="3284640" y="5796000"/>
              <a:ext cx="3457440" cy="64764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2"/>
            <p:cNvSpPr/>
            <p:nvPr/>
          </p:nvSpPr>
          <p:spPr>
            <a:xfrm>
              <a:off x="3428640" y="5796000"/>
              <a:ext cx="194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SCHNEIDER ELECT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8"/>
            <p:cNvSpPr/>
            <p:nvPr/>
          </p:nvSpPr>
          <p:spPr>
            <a:xfrm>
              <a:off x="3428640" y="6011640"/>
              <a:ext cx="3169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CORPERATE INFLUENCE STRATE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ustainable offer program specialist</a:t>
              </a: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7"/>
            <p:cNvSpPr/>
            <p:nvPr/>
          </p:nvSpPr>
          <p:spPr>
            <a:xfrm>
              <a:off x="5239080" y="5827320"/>
              <a:ext cx="137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Jun. 2008 – Nov.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à coins arrondis 31"/>
          <p:cNvSpPr/>
          <p:nvPr/>
        </p:nvSpPr>
        <p:spPr>
          <a:xfrm>
            <a:off x="2997360" y="5796000"/>
            <a:ext cx="215640" cy="14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e 58"/>
          <p:cNvGrpSpPr/>
          <p:nvPr/>
        </p:nvGrpSpPr>
        <p:grpSpPr>
          <a:xfrm>
            <a:off x="2852640" y="1258920"/>
            <a:ext cx="2592360" cy="649080"/>
            <a:chOff x="2852640" y="1258920"/>
            <a:chExt cx="2592360" cy="649080"/>
          </a:xfrm>
        </p:grpSpPr>
        <p:sp>
          <p:nvSpPr>
            <p:cNvPr id="116" name="Rectangle à coins arrondis 54"/>
            <p:cNvSpPr/>
            <p:nvPr/>
          </p:nvSpPr>
          <p:spPr>
            <a:xfrm>
              <a:off x="3213000" y="1258920"/>
              <a:ext cx="2232000" cy="649080"/>
            </a:xfrm>
            <a:prstGeom prst="roundRect">
              <a:avLst>
                <a:gd name="adj" fmla="val 8731"/>
              </a:avLst>
            </a:prstGeom>
            <a:solidFill>
              <a:srgbClr val="ebf1de"/>
            </a:soli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6"/>
            <p:cNvSpPr/>
            <p:nvPr/>
          </p:nvSpPr>
          <p:spPr>
            <a:xfrm>
              <a:off x="4941000" y="1300680"/>
              <a:ext cx="43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02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b050"/>
                  </a:solidFill>
                  <a:latin typeface="Calibri"/>
                  <a:ea typeface="宋体"/>
                </a:rPr>
                <a:t>INP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9"/>
            <p:cNvSpPr/>
            <p:nvPr/>
          </p:nvSpPr>
          <p:spPr>
            <a:xfrm>
              <a:off x="4078440" y="1331640"/>
              <a:ext cx="74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Nov. 2010 –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55"/>
            <p:cNvSpPr/>
            <p:nvPr/>
          </p:nvSpPr>
          <p:spPr>
            <a:xfrm>
              <a:off x="3356640" y="1691640"/>
              <a:ext cx="201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co conception - Resear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56"/>
            <p:cNvSpPr/>
            <p:nvPr/>
          </p:nvSpPr>
          <p:spPr>
            <a:xfrm>
              <a:off x="2852640" y="1547280"/>
              <a:ext cx="252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asemic Symbol"/>
                </a:rPr>
                <a:t>G - SCOP LABORA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45"/>
          <p:cNvSpPr/>
          <p:nvPr/>
        </p:nvSpPr>
        <p:spPr>
          <a:xfrm>
            <a:off x="103320" y="858960"/>
            <a:ext cx="2520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il - fengeric.zhang@gmai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0"/>
          <p:cNvSpPr/>
          <p:nvPr/>
        </p:nvSpPr>
        <p:spPr>
          <a:xfrm>
            <a:off x="103320" y="1042920"/>
            <a:ext cx="2160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HY헤드라인M"/>
              </a:rPr>
              <a:t>Phone: 0033 6 82 45 83 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7360" y="140328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11:11:52Z</dcterms:created>
  <dc:creator>幻灯片之家：www.eeppt.com</dc:creator>
  <dc:description>幻灯片之家：www.eeppt.com</dc:description>
  <cp:keywords>幻灯片之家：www.eeppt.com</cp:keywords>
  <dc:language>en-US</dc:language>
  <cp:lastModifiedBy>ZHANG FENG</cp:lastModifiedBy>
  <dcterms:modified xsi:type="dcterms:W3CDTF">2015-08-12T14:33:4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