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08A6-9825-444B-87C3-B5C1F9C07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0B7A-136D-4F0E-8723-2A036864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71CB-EC87-4809-A842-5C7F9D47A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7DD9-D331-481B-8C15-BC365AF76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140E-F3EB-4200-8D4E-2040992D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281A-7AB9-4B74-A845-5B7CFF70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55AE-D4B5-4CC2-B3C8-DABC8CA0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1859-606A-4E43-AA70-E2E3AC99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4529-B754-4F5F-8307-31BB2CF9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0AEB-CADE-4FE7-8AAA-FE52790C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996C-703C-48B0-BE7F-ABDD5FFA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EB72-8F46-48C2-B1D3-1E77750E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0AE7-EF11-4248-AEE7-A60721AFD26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矩形 5" descr=""/>
          <p:cNvPicPr/>
          <p:nvPr/>
        </p:nvPicPr>
        <p:blipFill>
          <a:blip r:embed="rId2"/>
          <a:stretch/>
        </p:blipFill>
        <p:spPr>
          <a:xfrm>
            <a:off x="871560" y="3333600"/>
            <a:ext cx="3067200" cy="750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2720" y="11336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雅致花朵毕业论文幻灯片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9890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409F-D148-452D-A0D4-57EDDE3B74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629040" y="2746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6019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3T10:05:32Z</dcterms:created>
  <dc:creator>幻灯片之家：www.eeppt.com</dc:creator>
  <dc:description>幻灯片之家：www.eeppt.com</dc:description>
  <cp:keywords>幻灯片之家：www.eeppt.com</cp:keywords>
  <dc:language>en-US</dc:language>
  <cp:lastModifiedBy>news</cp:lastModifiedBy>
  <dcterms:modified xsi:type="dcterms:W3CDTF">2015-08-12T14:36:28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