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35E-606D-4A17-A4AC-4F12D8BF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37E-1295-4F26-8772-FEECD6BE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161-5323-4DFA-B79F-590EFD6C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476-B1A0-4356-A67F-B36E6D84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FAAF-4BAB-4526-93A9-3C61FF69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8CA6-7F64-422A-AFFE-4CA4D1C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F82C-C2BB-477F-A28C-947000F2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DC77-3C61-42C6-AAD9-3DBEE71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30F5-C425-465E-AF49-92DA545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34CD-4EC1-4058-88A7-BEC00A1E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0A93-5073-45D0-A642-9CC8259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B3D-8E2E-4FCB-88C4-6AAA857B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C9F2-49E6-430C-B8CC-14936AF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1123-66FC-47D0-8AD9-84D34162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AF5F-01CB-4D02-AA1E-D7162AC2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ADD-CAE6-4901-91A9-30CFFA4A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B57D-E01E-467B-B096-8BD786E1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94E-358E-49B9-885A-60D6E5D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506-F406-443B-9191-5CB3390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A01-3CB8-497C-AF3E-ACA7C0DE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9C4-0195-4830-81D9-F041F8A2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2BA-AF5D-4B8F-B2D5-F70452E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E31-9D80-4294-A0C8-A506094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3D3-F64D-4452-BFC5-7F04963F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04BC-9386-4BA9-BC0F-B2D605C1C8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8A10-4A47-4801-AC93-73B8D5C9D9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6B5D-8B0F-4147-A6EF-07A5A3CF42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接连接符 4"/>
          <p:cNvSpPr/>
          <p:nvPr/>
        </p:nvSpPr>
        <p:spPr>
          <a:xfrm>
            <a:off x="1128600" y="912960"/>
            <a:ext cx="792792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7" descr=""/>
          <p:cNvPicPr/>
          <p:nvPr/>
        </p:nvPicPr>
        <p:blipFill>
          <a:blip r:embed="rId2"/>
          <a:stretch/>
        </p:blipFill>
        <p:spPr>
          <a:xfrm>
            <a:off x="1146240" y="476280"/>
            <a:ext cx="1090440" cy="401760"/>
          </a:xfrm>
          <a:prstGeom prst="rect">
            <a:avLst/>
          </a:prstGeom>
          <a:ln w="0">
            <a:noFill/>
          </a:ln>
        </p:spPr>
      </p:pic>
      <p:grpSp>
        <p:nvGrpSpPr>
          <p:cNvPr id="87" name="椭圆 9"/>
          <p:cNvGrpSpPr/>
          <p:nvPr/>
        </p:nvGrpSpPr>
        <p:grpSpPr>
          <a:xfrm>
            <a:off x="2378160" y="182520"/>
            <a:ext cx="530280" cy="591840"/>
            <a:chOff x="2378160" y="182520"/>
            <a:chExt cx="530280" cy="591840"/>
          </a:xfrm>
        </p:grpSpPr>
        <p:pic>
          <p:nvPicPr>
            <p:cNvPr id="88" name="椭圆 9" descr=""/>
            <p:cNvPicPr/>
            <p:nvPr/>
          </p:nvPicPr>
          <p:blipFill>
            <a:blip r:embed="rId3"/>
            <a:stretch/>
          </p:blipFill>
          <p:spPr>
            <a:xfrm>
              <a:off x="2379240" y="185400"/>
              <a:ext cx="5274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378160" y="182520"/>
              <a:ext cx="530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TextBox 11" descr=""/>
          <p:cNvPicPr/>
          <p:nvPr/>
        </p:nvPicPr>
        <p:blipFill>
          <a:blip r:embed="rId4"/>
          <a:stretch/>
        </p:blipFill>
        <p:spPr>
          <a:xfrm>
            <a:off x="2457360" y="328680"/>
            <a:ext cx="389160" cy="244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6105600" y="50796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Age</a:t>
            </a:r>
            <a:r>
              <a:rPr b="0" lang="en-US" sz="2000" spc="-1" strike="noStrike" baseline="30000">
                <a:solidFill>
                  <a:srgbClr val="ffc000"/>
                </a:solidFill>
                <a:latin typeface="方正美黑简体"/>
                <a:ea typeface="方正美黑简体"/>
              </a:rPr>
              <a:t>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方正美黑简体"/>
                <a:ea typeface="方正美黑简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| Work Experience</a:t>
            </a:r>
            <a:r>
              <a:rPr b="0" lang="en-US" sz="2000" spc="-1" strike="noStrike" baseline="30000">
                <a:solidFill>
                  <a:srgbClr val="ffc000"/>
                </a:solidFill>
                <a:latin typeface="方正美黑简体"/>
                <a:ea typeface="方正美黑简体"/>
              </a:rPr>
              <a:t>3</a:t>
            </a:r>
            <a:r>
              <a:rPr b="0" lang="zh-CN" sz="2000" spc="-1" strike="noStrike" baseline="30000">
                <a:solidFill>
                  <a:srgbClr val="ffc000"/>
                </a:solidFill>
                <a:latin typeface="方正美黑简体"/>
                <a:ea typeface="方正美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13"/>
          <p:cNvGrpSpPr/>
          <p:nvPr/>
        </p:nvGrpSpPr>
        <p:grpSpPr>
          <a:xfrm>
            <a:off x="517320" y="1403640"/>
            <a:ext cx="4739040" cy="4375080"/>
            <a:chOff x="517320" y="1403640"/>
            <a:chExt cx="4739040" cy="4375080"/>
          </a:xfrm>
        </p:grpSpPr>
        <p:sp>
          <p:nvSpPr>
            <p:cNvPr id="93" name="椭圆 14"/>
            <p:cNvSpPr/>
            <p:nvPr/>
          </p:nvSpPr>
          <p:spPr>
            <a:xfrm>
              <a:off x="2191320" y="3078000"/>
              <a:ext cx="1026720" cy="10274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空心弧 15"/>
            <p:cNvSpPr/>
            <p:nvPr/>
          </p:nvSpPr>
          <p:spPr>
            <a:xfrm>
              <a:off x="1889280" y="2775600"/>
              <a:ext cx="1630800" cy="1631880"/>
            </a:xfrm>
            <a:custGeom>
              <a:avLst/>
              <a:gdLst/>
              <a:ahLst/>
              <a:rect l="l" t="t" r="r" b="b"/>
              <a:pathLst>
                <a:path w="2721901" h="2721902">
                  <a:moveTo>
                    <a:pt x="1279955" y="2412"/>
                  </a:moveTo>
                  <a:cubicBezTo>
                    <a:pt x="1847768" y="-31441"/>
                    <a:pt x="2376741" y="291411"/>
                    <a:pt x="2606227" y="811885"/>
                  </a:cubicBezTo>
                  <a:cubicBezTo>
                    <a:pt x="2835714" y="1332359"/>
                    <a:pt x="2717301" y="1940655"/>
                    <a:pt x="2309336" y="2337041"/>
                  </a:cubicBezTo>
                  <a:lnTo>
                    <a:pt x="2027666" y="2047142"/>
                  </a:lnTo>
                  <a:cubicBezTo>
                    <a:pt x="2314465" y="1768483"/>
                    <a:pt x="2397709" y="1340851"/>
                    <a:pt x="2236380" y="974958"/>
                  </a:cubicBezTo>
                  <a:cubicBezTo>
                    <a:pt x="2075051" y="609064"/>
                    <a:pt x="1703183" y="382099"/>
                    <a:pt x="1304011" y="405898"/>
                  </a:cubicBezTo>
                  <a:lnTo>
                    <a:pt x="1279955" y="241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空心弧 16"/>
            <p:cNvSpPr/>
            <p:nvPr/>
          </p:nvSpPr>
          <p:spPr>
            <a:xfrm rot="18658200">
              <a:off x="1586520" y="2473920"/>
              <a:ext cx="2236320" cy="2234880"/>
            </a:xfrm>
            <a:custGeom>
              <a:avLst/>
              <a:gdLst/>
              <a:ahLst/>
              <a:rect l="l" t="t" r="r" b="b"/>
              <a:pathLst>
                <a:path w="3730013" h="3730015">
                  <a:moveTo>
                    <a:pt x="3200787" y="563492"/>
                  </a:moveTo>
                  <a:cubicBezTo>
                    <a:pt x="3675760" y="1050970"/>
                    <a:pt x="3847464" y="1758480"/>
                    <a:pt x="3648777" y="2409447"/>
                  </a:cubicBezTo>
                  <a:cubicBezTo>
                    <a:pt x="3450090" y="3060414"/>
                    <a:pt x="2912567" y="3551455"/>
                    <a:pt x="2246332" y="3690616"/>
                  </a:cubicBezTo>
                  <a:cubicBezTo>
                    <a:pt x="1580097" y="3829777"/>
                    <a:pt x="890958" y="3594956"/>
                    <a:pt x="448310" y="3077948"/>
                  </a:cubicBezTo>
                  <a:lnTo>
                    <a:pt x="754458" y="2815831"/>
                  </a:lnTo>
                  <a:cubicBezTo>
                    <a:pt x="1101450" y="3221114"/>
                    <a:pt x="1641666" y="3405190"/>
                    <a:pt x="2163928" y="3296102"/>
                  </a:cubicBezTo>
                  <a:cubicBezTo>
                    <a:pt x="2686189" y="3187014"/>
                    <a:pt x="3107554" y="2802087"/>
                    <a:pt x="3263305" y="2291793"/>
                  </a:cubicBezTo>
                  <a:cubicBezTo>
                    <a:pt x="3419056" y="1781500"/>
                    <a:pt x="3284457" y="1226883"/>
                    <a:pt x="2912126" y="844749"/>
                  </a:cubicBezTo>
                  <a:lnTo>
                    <a:pt x="3200787" y="56349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空心弧 17"/>
            <p:cNvSpPr/>
            <p:nvPr/>
          </p:nvSpPr>
          <p:spPr>
            <a:xfrm rot="4125600">
              <a:off x="1265040" y="2153520"/>
              <a:ext cx="2878200" cy="2876040"/>
            </a:xfrm>
            <a:custGeom>
              <a:avLst/>
              <a:gdLst/>
              <a:ahLst/>
              <a:rect l="l" t="t" r="r" b="b"/>
              <a:pathLst>
                <a:path w="4800600" h="4800600">
                  <a:moveTo>
                    <a:pt x="115605" y="1664359"/>
                  </a:moveTo>
                  <a:cubicBezTo>
                    <a:pt x="423029" y="709975"/>
                    <a:pt x="1291297" y="47236"/>
                    <a:pt x="2292969" y="2401"/>
                  </a:cubicBezTo>
                  <a:cubicBezTo>
                    <a:pt x="3294642" y="-42434"/>
                    <a:pt x="4218647" y="540082"/>
                    <a:pt x="4610108" y="1463184"/>
                  </a:cubicBezTo>
                  <a:cubicBezTo>
                    <a:pt x="5001569" y="2386286"/>
                    <a:pt x="4777996" y="3455457"/>
                    <a:pt x="4049452" y="4144357"/>
                  </a:cubicBezTo>
                  <a:cubicBezTo>
                    <a:pt x="3320908" y="4833256"/>
                    <a:pt x="2240912" y="4996719"/>
                    <a:pt x="1341134" y="4554275"/>
                  </a:cubicBezTo>
                  <a:lnTo>
                    <a:pt x="1529899" y="4170394"/>
                  </a:lnTo>
                  <a:cubicBezTo>
                    <a:pt x="2269319" y="4533986"/>
                    <a:pt x="3156839" y="4399656"/>
                    <a:pt x="3755541" y="3833532"/>
                  </a:cubicBezTo>
                  <a:cubicBezTo>
                    <a:pt x="4354244" y="3267408"/>
                    <a:pt x="4537972" y="2388784"/>
                    <a:pt x="4216277" y="1630198"/>
                  </a:cubicBezTo>
                  <a:cubicBezTo>
                    <a:pt x="3894582" y="871611"/>
                    <a:pt x="3135253" y="392910"/>
                    <a:pt x="2312098" y="429755"/>
                  </a:cubicBezTo>
                  <a:cubicBezTo>
                    <a:pt x="1488943" y="466600"/>
                    <a:pt x="775418" y="1011226"/>
                    <a:pt x="522783" y="1795520"/>
                  </a:cubicBezTo>
                  <a:lnTo>
                    <a:pt x="115605" y="1664359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椭圆形标注 18"/>
            <p:cNvSpPr/>
            <p:nvPr/>
          </p:nvSpPr>
          <p:spPr>
            <a:xfrm rot="12828600">
              <a:off x="1128240" y="2013480"/>
              <a:ext cx="3152520" cy="3154680"/>
            </a:xfrm>
            <a:prstGeom prst="wedgeEllipseCallout">
              <a:avLst>
                <a:gd name="adj1" fmla="val -16625"/>
                <a:gd name="adj2" fmla="val 56759"/>
              </a:avLst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19"/>
            <p:cNvSpPr/>
            <p:nvPr/>
          </p:nvSpPr>
          <p:spPr>
            <a:xfrm>
              <a:off x="2141280" y="3285720"/>
              <a:ext cx="112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WHA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CAN  I D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0"/>
            <p:cNvSpPr/>
            <p:nvPr/>
          </p:nvSpPr>
          <p:spPr>
            <a:xfrm>
              <a:off x="1924200" y="21247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Offic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21"/>
            <p:cNvSpPr/>
            <p:nvPr/>
          </p:nvSpPr>
          <p:spPr>
            <a:xfrm>
              <a:off x="1628280" y="241272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2"/>
            <p:cNvSpPr/>
            <p:nvPr/>
          </p:nvSpPr>
          <p:spPr>
            <a:xfrm>
              <a:off x="1774440" y="270072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TextBox 23" descr=""/>
            <p:cNvPicPr/>
            <p:nvPr/>
          </p:nvPicPr>
          <p:blipFill>
            <a:blip r:embed="rId5"/>
            <a:stretch/>
          </p:blipFill>
          <p:spPr>
            <a:xfrm>
              <a:off x="4221360" y="2013120"/>
              <a:ext cx="1035000" cy="51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矩形 25"/>
          <p:cNvSpPr/>
          <p:nvPr/>
        </p:nvSpPr>
        <p:spPr>
          <a:xfrm>
            <a:off x="422280" y="777960"/>
            <a:ext cx="657360" cy="135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8"/>
          <p:cNvSpPr/>
          <p:nvPr/>
        </p:nvSpPr>
        <p:spPr>
          <a:xfrm>
            <a:off x="422280" y="647640"/>
            <a:ext cx="657360" cy="77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等腰三角形 30"/>
          <p:cNvSpPr/>
          <p:nvPr/>
        </p:nvSpPr>
        <p:spPr>
          <a:xfrm rot="5400000">
            <a:off x="9113760" y="593640"/>
            <a:ext cx="387360" cy="326880"/>
          </a:xfrm>
          <a:prstGeom prst="triangle">
            <a:avLst>
              <a:gd name="adj" fmla="val 50000"/>
            </a:avLst>
          </a:pr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等腰三角形 31"/>
          <p:cNvSpPr/>
          <p:nvPr/>
        </p:nvSpPr>
        <p:spPr>
          <a:xfrm rot="5400000">
            <a:off x="9276480" y="594360"/>
            <a:ext cx="387360" cy="325440"/>
          </a:xfrm>
          <a:prstGeom prst="triangle">
            <a:avLst>
              <a:gd name="adj" fmla="val 50000"/>
            </a:avLst>
          </a:pr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34"/>
          <p:cNvGrpSpPr/>
          <p:nvPr/>
        </p:nvGrpSpPr>
        <p:grpSpPr>
          <a:xfrm>
            <a:off x="6048360" y="1467000"/>
            <a:ext cx="2936880" cy="1519560"/>
            <a:chOff x="6048360" y="1467000"/>
            <a:chExt cx="2936880" cy="1519560"/>
          </a:xfrm>
        </p:grpSpPr>
        <p:sp>
          <p:nvSpPr>
            <p:cNvPr id="108" name="TextBox 32"/>
            <p:cNvSpPr/>
            <p:nvPr/>
          </p:nvSpPr>
          <p:spPr>
            <a:xfrm>
              <a:off x="6048360" y="1467000"/>
              <a:ext cx="29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Areas of </a:t>
              </a:r>
              <a:r>
                <a:rPr b="0" lang="en-US" sz="2000" spc="-1" strike="noStrike">
                  <a:solidFill>
                    <a:srgbClr val="ffc000"/>
                  </a:solidFill>
                  <a:latin typeface="方正美黑简体"/>
                  <a:ea typeface="方正美黑简体"/>
                </a:rPr>
                <a:t>E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xperti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33"/>
            <p:cNvSpPr/>
            <p:nvPr/>
          </p:nvSpPr>
          <p:spPr>
            <a:xfrm>
              <a:off x="6120360" y="1827000"/>
              <a:ext cx="2395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制作与美化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文案策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营销推广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产品优化提议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革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35"/>
          <p:cNvGrpSpPr/>
          <p:nvPr/>
        </p:nvGrpSpPr>
        <p:grpSpPr>
          <a:xfrm>
            <a:off x="6048360" y="3094200"/>
            <a:ext cx="2936880" cy="1809000"/>
            <a:chOff x="6048360" y="3094200"/>
            <a:chExt cx="2936880" cy="1809000"/>
          </a:xfrm>
        </p:grpSpPr>
        <p:sp>
          <p:nvSpPr>
            <p:cNvPr id="111" name="TextBox 36"/>
            <p:cNvSpPr/>
            <p:nvPr/>
          </p:nvSpPr>
          <p:spPr>
            <a:xfrm>
              <a:off x="6048360" y="3094200"/>
              <a:ext cx="29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Work </a:t>
              </a:r>
              <a:r>
                <a:rPr b="0" lang="en-US" sz="2000" spc="-1" strike="noStrike">
                  <a:solidFill>
                    <a:srgbClr val="ffc000"/>
                  </a:solidFill>
                  <a:latin typeface="方正美黑简体"/>
                  <a:ea typeface="方正美黑简体"/>
                </a:rPr>
                <a:t>E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37"/>
            <p:cNvSpPr/>
            <p:nvPr/>
          </p:nvSpPr>
          <p:spPr>
            <a:xfrm>
              <a:off x="6120360" y="3454200"/>
              <a:ext cx="2702160" cy="14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2009.10-2011.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广州维森置业有限公司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营销助理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2012.03-</a:t>
              </a: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至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中山市世宇实业有限公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文案策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38"/>
          <p:cNvGrpSpPr/>
          <p:nvPr/>
        </p:nvGrpSpPr>
        <p:grpSpPr>
          <a:xfrm>
            <a:off x="6048360" y="5013360"/>
            <a:ext cx="2936880" cy="1093320"/>
            <a:chOff x="6048360" y="5013360"/>
            <a:chExt cx="2936880" cy="1093320"/>
          </a:xfrm>
        </p:grpSpPr>
        <p:sp>
          <p:nvSpPr>
            <p:cNvPr id="114" name="TextBox 39"/>
            <p:cNvSpPr/>
            <p:nvPr/>
          </p:nvSpPr>
          <p:spPr>
            <a:xfrm>
              <a:off x="6048360" y="5013360"/>
              <a:ext cx="29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Job </a:t>
              </a:r>
              <a:r>
                <a:rPr b="0" lang="en-US" sz="2000" spc="-1" strike="noStrike">
                  <a:solidFill>
                    <a:srgbClr val="ffc000"/>
                  </a:solidFill>
                  <a:latin typeface="方正美黑简体"/>
                  <a:ea typeface="方正美黑简体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andidat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40"/>
            <p:cNvSpPr/>
            <p:nvPr/>
          </p:nvSpPr>
          <p:spPr>
            <a:xfrm>
              <a:off x="6120360" y="5373360"/>
              <a:ext cx="2395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设计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文案策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营销推广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48"/>
          <p:cNvSpPr/>
          <p:nvPr/>
        </p:nvSpPr>
        <p:spPr>
          <a:xfrm>
            <a:off x="5327640" y="644832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新浪</a:t>
            </a:r>
            <a:r>
              <a:rPr b="0" lang="zh-CN" sz="1400" spc="-1" strike="noStrike">
                <a:solidFill>
                  <a:srgbClr val="ffc000"/>
                </a:solidFill>
                <a:latin typeface="方正美黑简体"/>
                <a:ea typeface="方正美黑简体"/>
              </a:rPr>
              <a:t>微博</a:t>
            </a: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：</a:t>
            </a:r>
            <a:r>
              <a:rPr b="0" lang="en-US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@</a:t>
            </a: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怪唲乖  </a:t>
            </a:r>
            <a:r>
              <a:rPr b="0" lang="en-US" sz="1400" spc="-1" strike="noStrike">
                <a:solidFill>
                  <a:srgbClr val="ffc000"/>
                </a:solidFill>
                <a:latin typeface="方正美黑简体"/>
                <a:ea typeface="方正美黑简体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：</a:t>
            </a:r>
            <a:r>
              <a:rPr b="0" lang="en-US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15335777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631800" y="56610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只有想不到，没有做不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1"/>
          <p:cNvSpPr/>
          <p:nvPr/>
        </p:nvSpPr>
        <p:spPr>
          <a:xfrm>
            <a:off x="493560" y="6669000"/>
            <a:ext cx="611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8520" y="6308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884600" y="1052640"/>
            <a:ext cx="35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一纸简历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0:40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2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