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558-1E23-45ED-9761-0D5FDE58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F33-0F2B-4D2E-ACA9-CB26C042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557-F931-4115-8343-0EDEB279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F431-65A2-4F1F-B4F8-FEA173A1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C6AE-D32E-45C7-9B86-BB4E86B5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6B08-1551-4236-8F92-8379A22C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A74F-C33C-4A2E-998B-EC7183EF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976A-CF95-4529-AB53-E88A4BF0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52E4-B8CA-4F3F-AB27-D5B4DB90B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21B9-A75F-4ACD-959F-7CC8A44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ADEA-52FA-4FE2-9198-517B10DA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9B9-76DE-48E2-B3D8-2639DC5B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1FA-CC6B-421B-964B-8D0BDD3C145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1CA0-DDA7-4749-A1BD-12D9B78F4B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rcRect l="14443" t="0" r="14204" b="0"/>
          <a:stretch/>
        </p:blipFill>
        <p:spPr>
          <a:xfrm>
            <a:off x="0" y="0"/>
            <a:ext cx="12233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2735"/>
          <p:cNvSpPr/>
          <p:nvPr/>
        </p:nvSpPr>
        <p:spPr>
          <a:xfrm>
            <a:off x="3373560" y="169848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紫色商务大型会议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737"/>
          <p:cNvSpPr/>
          <p:nvPr/>
        </p:nvSpPr>
        <p:spPr>
          <a:xfrm>
            <a:off x="4925880" y="4611600"/>
            <a:ext cx="23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-21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  中国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杭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2747"/>
          <p:cNvGrpSpPr/>
          <p:nvPr/>
        </p:nvGrpSpPr>
        <p:grpSpPr>
          <a:xfrm>
            <a:off x="387360" y="216000"/>
            <a:ext cx="1900080" cy="544320"/>
            <a:chOff x="387360" y="216000"/>
            <a:chExt cx="1900080" cy="544320"/>
          </a:xfrm>
        </p:grpSpPr>
        <p:sp>
          <p:nvSpPr>
            <p:cNvPr id="45" name="文本框 2733"/>
            <p:cNvSpPr/>
            <p:nvPr/>
          </p:nvSpPr>
          <p:spPr>
            <a:xfrm>
              <a:off x="756000" y="237240"/>
              <a:ext cx="118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G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2745"/>
            <p:cNvSpPr/>
            <p:nvPr/>
          </p:nvSpPr>
          <p:spPr>
            <a:xfrm>
              <a:off x="387360" y="216000"/>
              <a:ext cx="1900080" cy="5443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文本框 6"/>
          <p:cNvSpPr/>
          <p:nvPr/>
        </p:nvSpPr>
        <p:spPr>
          <a:xfrm>
            <a:off x="9651960" y="25704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 超越 成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613-4A7B-4237-A58A-FBF4455078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7" descr=""/>
          <p:cNvPicPr/>
          <p:nvPr/>
        </p:nvPicPr>
        <p:blipFill>
          <a:blip r:embed="rId1"/>
          <a:srcRect l="14443" t="0" r="14204" b="0"/>
          <a:stretch/>
        </p:blipFill>
        <p:spPr>
          <a:xfrm>
            <a:off x="0" y="0"/>
            <a:ext cx="122331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2735"/>
          <p:cNvSpPr/>
          <p:nvPr/>
        </p:nvSpPr>
        <p:spPr>
          <a:xfrm>
            <a:off x="3993840" y="2446200"/>
            <a:ext cx="420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标题文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737"/>
          <p:cNvSpPr/>
          <p:nvPr/>
        </p:nvSpPr>
        <p:spPr>
          <a:xfrm>
            <a:off x="4416120" y="3975120"/>
            <a:ext cx="338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****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签约仪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747"/>
          <p:cNvGrpSpPr/>
          <p:nvPr/>
        </p:nvGrpSpPr>
        <p:grpSpPr>
          <a:xfrm>
            <a:off x="4641840" y="811080"/>
            <a:ext cx="2860560" cy="820800"/>
            <a:chOff x="4641840" y="811080"/>
            <a:chExt cx="2860560" cy="820800"/>
          </a:xfrm>
        </p:grpSpPr>
        <p:sp>
          <p:nvSpPr>
            <p:cNvPr id="55" name="文本框 2733"/>
            <p:cNvSpPr/>
            <p:nvPr/>
          </p:nvSpPr>
          <p:spPr>
            <a:xfrm>
              <a:off x="5365440" y="883440"/>
              <a:ext cx="160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LOG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745"/>
            <p:cNvSpPr/>
            <p:nvPr/>
          </p:nvSpPr>
          <p:spPr>
            <a:xfrm>
              <a:off x="4641840" y="811080"/>
              <a:ext cx="2860560" cy="8208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13:3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32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