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6FB-EB0B-427C-B60F-3D574659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416-2946-4C6B-AB54-C45F6DAF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A97-DC39-48EC-83D1-6BDB5E5D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7D0-DF9A-40A2-AE16-D7685A7F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3978-01B1-443C-9635-CA088C50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65C6-BE50-4D54-95B5-74595645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4B54-2D4F-41BE-9297-91150938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D60B-74AE-4ADF-ADD8-05577096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FC7F-BE17-4E5A-8C93-0E5BBF31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C361-7A56-4A31-8A96-989E5EA8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421A-1170-4B26-A834-BED8D4F4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799-7069-4352-9D11-08BE971B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2B5A-CB65-4AE2-9956-397CD306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5A42-0BE5-4614-84BB-9954ACCB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6A82-A967-4F19-A03C-C41C28A4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4084-67CC-4034-AB14-A81DB5AB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5003-A931-4806-82A7-5BFFCAB9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DFE-3F22-4F04-B70F-B17AD537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DC0-B284-4E4B-BF6B-0948697F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B9E-950E-47BD-9E0B-296A66CD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419-CBD0-4014-B18B-3422C4E7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162-C9F5-435F-A872-79E4F6D1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52C-4B47-4DE6-BE54-4D331D59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D45-2ED0-4CFE-BE85-7E513273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FCEF-6E10-47C6-9B9B-7D771AB486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绿叶" descr="">
            <a:hlinkClick r:id="" action="ppaction://hlinkshowjump?jump=firs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5943600"/>
            <a:ext cx="479520" cy="514440"/>
          </a:xfrm>
          <a:prstGeom prst="rect">
            <a:avLst/>
          </a:prstGeom>
          <a:ln w="0">
            <a:noFill/>
          </a:ln>
        </p:spPr>
      </p:pic>
      <p:pic>
        <p:nvPicPr>
          <p:cNvPr id="7" name="射手座" descr="">
            <a:hlinkClick r:id="" action="ppaction://hlinkshowjump?jump=endshow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5861160"/>
            <a:ext cx="609840" cy="52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6E8D-1BEF-40E0-9A01-81DAFDA7D0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Wingdings" charset="2"/>
              <a:buChar char="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258,3,&#24037;&#20316;&#32463;&#21382;" TargetMode="External"/><Relationship Id="rId4" Type="http://schemas.openxmlformats.org/officeDocument/2006/relationships/image" Target="../media/image4.png"/><Relationship Id="rId5" Type="http://schemas.openxmlformats.org/officeDocument/2006/relationships/hyperlink" Target="259,4,&#25152;&#21463;&#25945;&#32946;" TargetMode="External"/><Relationship Id="rId6" Type="http://schemas.openxmlformats.org/officeDocument/2006/relationships/image" Target="../media/image4.png"/><Relationship Id="rId7" Type="http://schemas.openxmlformats.org/officeDocument/2006/relationships/hyperlink" Target="260,5,&#24037;&#20316;&#25216;&#33021;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www.goeway.com/images/gallery/wmf_01/arts/ARTS0053.WMF" TargetMode="External"/><Relationship Id="rId10" Type="http://schemas.openxmlformats.org/officeDocument/2006/relationships/hyperlink" Target="http://www.goeway.com/images/gallery/wmf_01/arts/ARTS0053.WMF" TargetMode="External"/><Relationship Id="rId11" Type="http://schemas.openxmlformats.org/officeDocument/2006/relationships/hyperlink" Target="file:///tmp/home/.config/libreoffice/4/user/gallery/&#36825;&#20010;&#31179;&#22825;&#65288;&#35199;&#22478;&#31168;&#26641;&#65289;.wav" TargetMode="Externa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ookatkingcat@tom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2,7,Address" TargetMode="External"/><Relationship Id="rId2" Type="http://schemas.openxmlformats.org/officeDocument/2006/relationships/hyperlink" Target="263,8,Experience" TargetMode="External"/><Relationship Id="rId3" Type="http://schemas.openxmlformats.org/officeDocument/2006/relationships/hyperlink" Target="264,9,Education" TargetMode="External"/><Relationship Id="rId4" Type="http://schemas.openxmlformats.org/officeDocument/2006/relationships/hyperlink" Target="265,10,Skills" TargetMode="External"/><Relationship Id="rId5" Type="http://schemas.openxmlformats.org/officeDocument/2006/relationships/image" Target="../media/image8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lookatkingcat@tom.com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  <a:ea typeface="华文行楷"/>
              </a:rPr>
              <a:t>个人简历</a:t>
            </a:r>
            <a:br>
              <a:rPr sz="4400"/>
            </a:br>
            <a:r>
              <a:rPr b="0" lang="zh-CN" sz="4400" spc="-1" strike="noStrike">
                <a:solidFill>
                  <a:srgbClr val="003300"/>
                </a:solidFill>
                <a:latin typeface="Arial Black"/>
                <a:ea typeface="华文行楷"/>
              </a:rPr>
              <a:t>连黄莺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行楷"/>
              </a:rPr>
              <a:t>联系地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行楷"/>
                <a:hlinkClick r:id="rId3"/>
              </a:rPr>
              <a:t>工作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行楷"/>
                <a:hlinkClick r:id="rId5"/>
              </a:rPr>
              <a:t>所受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行楷"/>
                <a:hlinkClick r:id="rId7"/>
              </a:rPr>
              <a:t>工作技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法老头" descr=""/>
          <p:cNvPicPr/>
          <p:nvPr/>
        </p:nvPicPr>
        <p:blipFill>
          <a:blip r:embed="rId8"/>
          <a:stretch/>
        </p:blipFill>
        <p:spPr>
          <a:xfrm>
            <a:off x="685800" y="5562720"/>
            <a:ext cx="528480" cy="81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6400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gl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3139920"/>
            <a:ext cx="9144000" cy="579600"/>
            <a:chOff x="0" y="3139920"/>
            <a:chExt cx="9144000" cy="579600"/>
          </a:xfrm>
        </p:grpSpPr>
        <p:sp>
          <p:nvSpPr>
            <p:cNvPr id="91" name=""/>
            <p:cNvSpPr/>
            <p:nvPr/>
          </p:nvSpPr>
          <p:spPr>
            <a:xfrm>
              <a:off x="0" y="3139920"/>
              <a:ext cx="91440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139920"/>
              <a:ext cx="914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 u="sng">
                  <a:solidFill>
                    <a:srgbClr val="ff3300"/>
                  </a:solidFill>
                  <a:uFillTx/>
                  <a:latin typeface="Verdana"/>
                  <a:hlinkClick r:id="rId9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zh-CN" sz="600" spc="-1" strike="noStrike">
                  <a:solidFill>
                    <a:srgbClr val="000000"/>
                  </a:solidFill>
                  <a:latin typeface="Verdana"/>
                </a:rPr>
                <a:t>            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0" y="3139920"/>
            <a:ext cx="9144000" cy="579600"/>
            <a:chOff x="0" y="3139920"/>
            <a:chExt cx="9144000" cy="579600"/>
          </a:xfrm>
        </p:grpSpPr>
        <p:sp>
          <p:nvSpPr>
            <p:cNvPr id="94" name=""/>
            <p:cNvSpPr/>
            <p:nvPr/>
          </p:nvSpPr>
          <p:spPr>
            <a:xfrm>
              <a:off x="0" y="3139920"/>
              <a:ext cx="91440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139920"/>
              <a:ext cx="914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 u="sng">
                  <a:solidFill>
                    <a:srgbClr val="ff3300"/>
                  </a:solidFill>
                  <a:uFillTx/>
                  <a:latin typeface="Verdana"/>
                  <a:hlinkClick r:id="rId10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zh-CN" sz="600" spc="-1" strike="noStrike">
                  <a:solidFill>
                    <a:srgbClr val="000000"/>
                  </a:solidFill>
                  <a:latin typeface="Verdana"/>
                </a:rPr>
                <a:t>            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TN_ARTS0053" descr="ARTS0053.WM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586480" y="5715000"/>
            <a:ext cx="631800" cy="838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5319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13400" y="324000"/>
            <a:ext cx="55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竹叶背景清爽简历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320"/>
                            </p:stCondLst>
                            <p:childTnLst>
                              <p:par>
                                <p:cTn id="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640"/>
                            </p:stCondLst>
                            <p:childTnLst>
                              <p:par>
                                <p:cTn id="1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8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960"/>
                            </p:stCondLst>
                            <p:childTnLst>
                              <p:par>
                                <p:cTn id="2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8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7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3E8-7EAF-4E16-90C8-CF4CC24078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ki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skills: MS Word, Power Point, Outlook, Interne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skills: Fluent in Chinese and  Reading with help of dictionary in Japan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40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  <a:ea typeface="方正黄草简体"/>
              </a:rPr>
              <a:t>联系地址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黄草简体"/>
              </a:rPr>
              <a:t>中华人民共和国山西省忻州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PMingLiU"/>
              </a:rPr>
              <a:t>034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和平西街</a:t>
            </a: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号  忻州师范学院英语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el: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 Unicode MS"/>
              </a:rPr>
              <a:t>(86) 0350-30270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E-mail: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Monotype Corsiva"/>
                <a:ea typeface="Arial Unicode MS"/>
                <a:hlinkClick r:id="rId1"/>
              </a:rPr>
              <a:t>lookatkingcat@tom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  <a:ea typeface="隶书"/>
              </a:rPr>
              <a:t>工作经历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8/82-7/8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教师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山西省忻州市第一中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8/84-</a:t>
            </a:r>
            <a:r>
              <a:rPr b="0" lang="zh-CN" sz="3200" spc="-1" strike="noStrike">
                <a:solidFill>
                  <a:srgbClr val="000000"/>
                </a:solidFill>
                <a:latin typeface="Arial Narrow"/>
              </a:rPr>
              <a:t>至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教师，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山西省忻州师范学院英语系    精读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泛读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英语读写 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  <a:ea typeface="汉鼎繁特楷"/>
              </a:rPr>
              <a:t>所受教育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9/78-7/8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西师范大学，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华人民共和国山西省临汾市  英语语言文学学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9/88-7/8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西南师范大学，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华人民共和国重庆市       进修课程：英语语言文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7/94-8/9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取得英语强化培训课程合格证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  <a:ea typeface="楷体_GB2312"/>
              </a:rPr>
              <a:t>工作技能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电脑操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S Word, Power Point, Outlook, Interne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语言</a:t>
            </a:r>
            <a:r>
              <a:rPr b="0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借助字典阅读日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urier New"/>
              </a:rPr>
              <a:t>Lian Huangying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2895120"/>
            <a:ext cx="60958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Impact"/>
                <a:hlinkClick r:id="rId1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Impact"/>
                <a:hlinkClick r:id="rId2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Impact"/>
                <a:hlinkClick r:id="rId3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Impact"/>
                <a:hlinkClick r:id="rId4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斯巴达" descr=""/>
          <p:cNvPicPr/>
          <p:nvPr/>
        </p:nvPicPr>
        <p:blipFill>
          <a:blip r:embed="rId5"/>
          <a:stretch/>
        </p:blipFill>
        <p:spPr>
          <a:xfrm>
            <a:off x="533520" y="5791320"/>
            <a:ext cx="685800" cy="761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880" y="6477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黄草简体"/>
              </a:rPr>
              <a:t>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射手座" descr="">
            <a:hlinkClick r:id="" action="ppaction://hlinkshowjump?jump=endshow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10280" y="5861160"/>
            <a:ext cx="609840" cy="528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ddres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No 10 West Heping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Xinzhou Teachers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Xinzhou 034000, Shanxi Province, PR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(86) 0350-30270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"/>
                <a:ea typeface="Arial Unicode MS"/>
                <a:hlinkClick r:id="rId1"/>
              </a:rPr>
              <a:t>lookatkingcat@tom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400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射手座" descr="">
            <a:hlinkClick r:id="" action="ppaction://hlinkshowjump?jump=endshow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5861160"/>
            <a:ext cx="60984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xperienc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/82-7/84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first middle school, Xinzhou, Shanxi Province, PR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/84-pres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nglish Department Xinzhou Teachers University, Xinzhou, Shanxi Province, PR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Reading, Extensive Reading, Reading &amp; Writing in English, , Listening and Sp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640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射手座" descr="">
            <a:hlinkClick r:id="" action="ppaction://hlinkshowjump?jump=endshow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5861160"/>
            <a:ext cx="609840" cy="528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duc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/78-7/8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nxi Teachers University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fen, Shanxi Province, PR China  Bachelor of Arts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/88-7/8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thwest Teachers Univer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ngqing, Sichuan Province, PR China  Postgraduate course:  English Language and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/94-8/94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ificate of Achievement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ly completed the summer intensive English training course sponsored by THE STATE BUREAU OF FOREIGN EXPE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640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射手座" descr="">
            <a:hlinkClick r:id="" action="ppaction://hlinkshowjump?jump=endshow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5861160"/>
            <a:ext cx="60984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5:20:0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25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