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B57-9527-4B7A-8E16-D999B9D3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BA1-1F1D-470A-A232-87386B91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743EA-C688-4EA5-9948-475B1E74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76EC5-6AB6-4452-AA0B-C78DD25E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294F8-1363-4D5C-A99A-41FD67E8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9116E-318F-4666-A01E-8CD7C3E3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64548-33B2-4185-9AE2-936203B2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4B213-C675-492A-BF6E-B21BE991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1A393-E7D6-4AB6-9D3B-048A57ED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4EA77-4B2E-45EC-BA53-CE721C26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DC3A5-404A-4324-9705-CF8A396C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6C108-F80A-4CFE-8BA4-B3E1042C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C18-1C32-4D25-AF2F-FFB75A5D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1B8E4-C32E-4A57-B4C6-BD2F9DAD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6C3DB-7AB1-46B3-ACD5-C35BCB1A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48659-C2D1-4A10-9D78-3895260D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69CF4-C927-4186-831F-40EE25EE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6A8AB-908A-4916-9B31-6A8626B7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D1F16-7D0E-4E86-8752-CAE05638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93683-D4DC-407A-A6D0-80732D36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6F47C-F5D5-4D73-9934-A977317B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C572D-BA96-48A2-9947-F6A81941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20D9B-7826-4DCA-B8A9-8511DB78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FC0-E0C5-427D-B605-2C0D9605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BF0BA-2340-4406-AFC1-FDE8D691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FA33A-1C94-4797-B517-E22CAE42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6A551-911E-41A1-BA50-D0D96374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D3B44-0CDB-49F1-870D-47F3BA2E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A6835-209F-4683-993E-030C7A75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A73AB-4C44-48A5-8F54-D229A311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64C79-9529-4AF4-BFDA-87CAFE56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CA715-7ED2-40ED-A59D-A60132A3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A320D-1ACF-4633-AC82-0BD51FEC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FD88B-4681-43A7-AE02-C1FB3699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DD72-21F6-471B-8FF5-2CFD2350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C19CC-1C50-40F0-A06C-4C6795DE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D1041-90DE-44C3-BBF8-BE3E3474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6E888-9E25-435C-8B7A-EF914C20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5472A-E5D5-4E81-B09B-689C0D14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ADC5D-504F-4B4D-87AC-BB74C3EE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9286A-DA59-467B-B184-E05BE9D8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1B2B0-93AF-438B-8D76-22C0709E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3C76B-4B1B-4FB3-9658-1DAD1BFF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418C8-828F-40F1-82FF-84ED8910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E5B60-CC08-4716-B319-C36C33AF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0B10-BDA8-4E08-9FB1-0FB96775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88ADC-C9DD-437E-A998-E915DF9E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B915B-077D-4ED7-8599-86AF2A13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78326-F079-4550-9F4B-2B5C01B2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7EF09-8618-4726-9DBA-0682D57D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1E408-9665-4E36-A269-BEC7249D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4DE00-5238-4EDD-9412-4B4966C5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B4E88-1BD7-4DAA-90E8-99AA16ED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5112F-240A-4C77-BC88-9BF27F89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F24C4-4AF0-4F16-87C1-CB04CDA0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4F3BF-6C5E-4ADD-9F8C-84E6015A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2BD0-A832-4634-8A37-4DAA70AF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CA5AB-FD03-4CCC-9CDA-60FD1DF4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2F98B-76F2-4B6B-9C1D-45E34CB1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46005-DE64-4D97-BC76-46EC1E99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6A06F-4C11-4FC1-A0ED-ED6250E5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6DB34-3730-41E5-8E84-C226335E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B5F7D-E3DD-470A-BC9D-68150930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E4B3F-2ABF-4A01-9636-3B8C356A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788F-C0AA-46A4-BD30-37D1EB7A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849C-B0D2-4507-A6F4-7F51913A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F822-5CF2-4CC3-A8A1-1E4D1581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C888-F52C-4555-B6EF-C4E67F86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F45-B176-4BCD-ABF0-05CBE397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2BC5-CD47-4BF4-ACCD-D94D3BA2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8721-7997-4E80-BEAA-351437C4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5772-B494-4A22-9EBF-8E25E800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ADA0-4E22-41F4-82CF-8F5F41C2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0A2B-1831-43C4-9A74-33A1432D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09CF4-6F98-43C3-B57C-0729DDC3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2CF56-715A-4F9F-8796-D90CB4A1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D4E69-A602-4987-853D-D405AA92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1F4B-317C-4ACF-BF20-56026156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A6C5-C676-4E9E-89F5-BD8B47CA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559-1B32-43C1-A2D8-950D91DA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0644-605C-456A-9180-9002C3BE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2CA6A-A91C-41C5-98DF-B953DFF3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F434C-21A4-4F4E-B663-7DD7E72A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E3E0-7E46-493D-9515-016B7A68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1F17-20FD-4787-A4FA-18F2796E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01D1F-FFE7-48E9-BED8-9BEED64A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48EC-514D-4790-A005-4FDA0FE0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53893-2945-4F3C-AA34-5725AEE1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9DCC7-C74A-4652-80B5-0D453038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BA937-41E8-47EB-8A0C-F7576641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EEA-860E-4DA3-97E7-4C7A9A53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1F868-6A23-48D7-AB4B-FB64AC8F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297A6-8FC5-425A-A429-7BC07A7A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F7D18-8E7B-4138-96DF-1B60C94E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0FFAD-69BD-48BE-B425-27F9F673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83FD4-E5A9-487F-80A4-BC691567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BDEE-2626-48D7-88AF-207BE10C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91E5E-294A-46DE-B9F1-D697B73D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EA473-07DE-452A-AB32-DC26A90D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506D4-0BD1-4141-ABD1-A13BE3E2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B21CF-4E2E-4948-B57F-2D0F4B98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4E4-9B85-4A9F-B3B1-FFA78F4C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0CBFE-292B-4726-8628-C5D0D1A2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24A31-8BBF-4B1B-B543-799E3FA7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3BEC3-38E1-465B-B4A0-AB452C45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98650-29B3-4647-882A-A3D915AF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9060F-D443-495A-B26C-E75B3AAF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78320-6858-4447-8D41-3C71E098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22A22-DF98-4234-95A5-A4DBC621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6BF00-EFEC-4F6E-9B8F-4CF52AD5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1BBE6-0190-4CBE-97B9-F9411D7F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A5E9B-91B3-48F0-B4A7-645600E9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EEA-2F15-47E1-B969-A3BA6C5C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362FF-367B-49A1-8973-2ECFC220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FCC8-C8E9-4854-BB42-B58F80C7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34482-9066-4E3A-AEA1-E3F63FD7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F077D-50B8-4E23-B429-08075427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CF061-9591-49E5-8B19-ECDD08AB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05F80-2A25-49BE-914F-818CF2DD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95AFA-F87A-4F5F-B9FF-7B7FE47A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6079B-9B9B-4276-ABF4-C7CC8174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72FDF-FCF2-48BC-9CD9-6C8484CD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33C35-9015-420D-9191-78A5BA80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3FA-0FF2-45D8-889C-5457B9D8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9D3B6-1B33-4BC3-81BE-CB89405C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E9982-A0C2-476A-928A-A7D6141C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E6C1B-1047-4F3F-99D9-5B4B62F6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81E75-0A5C-4E94-B501-21463121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7EC09-F83C-4373-A592-7356A302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6C92A-3FD6-41C8-A34F-E43C5736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EEFBE-D6E8-4A99-A6F5-AB8F3225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68404-AD63-4796-B05C-7B13A5D9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EE5E8-3682-4739-AA4E-6F751B4C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742ED-4A91-41E3-A0AB-621324BA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DFC-5836-48CB-94FC-6ED017A1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1CC71-0F56-4C76-B8E2-25D84D38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87D02-3B6A-4581-8AE7-28A311CE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EE7BF-8A00-41EB-8655-260572B4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1967A-82BC-436D-8222-30CA0EDA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33F14-53D3-45BA-8446-665558A0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63482-5C82-4F08-B8A1-8C9403E5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21854-134A-4CE0-A519-778A29F6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90D1C-707B-4160-9293-150AF0C5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B0DD9-EC8A-48F6-91CD-2B05D052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BD9BF-1E81-4EEC-8E94-5A18D6A6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A01-5F99-4B73-91B7-B0DD7C1B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FD25D-9BFF-477D-A6A8-5AC75231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A3F6E-33F9-456C-9948-7227EB0F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1430E-48BA-476A-B77D-BB0C7C4A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B5856-83F8-4AE3-A117-0EBE79A0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AE060-4E5A-4B59-A8F8-523DA2F0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1DCB6-C055-495F-8CE6-A2EDDDA3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B7ED6-D481-45E5-B8A9-51C34EBF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0E115-A2C0-4C5E-BAB6-64D6A839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CFE3C-9737-403A-9B3D-1834688B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6302E-B566-4F47-BAA0-5BECAB8A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5069-C6DD-463B-A67F-A77371EB850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8E02-8CF7-4048-8A06-20E10CECF8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3BED-D2BA-4519-94F0-AEC14B2386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1D3E-0E46-46BE-B446-DDCA148810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FC4F-CB6E-4307-83D9-62BBB38DD4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4A06-1EAD-47BD-BAA1-376CAEDD98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82ED-5E1D-461B-928E-25E30913CB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FAFC-B869-400D-881E-047B5E5B5C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B0A7-12F4-47F9-B41A-4F11733417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31E3-AD73-4E68-A266-72319EE6CD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7EAE-6051-4E78-B436-B7B4CBF3734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F764-95AE-48F9-B027-EDCE2406CA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2035-82E1-4BE4-A2C7-32B83E1DB05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5792-F820-42DF-9383-A87C43315A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09A9-C1E7-4401-94BD-EA3971492C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4B4F-5695-4C1C-887C-6C8F4A8107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E832-0D86-44E9-B27D-1361D54CE2A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5E47-5E9E-4784-9AF9-65D31492FD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2AD0-4853-4FC0-84B5-738F0517C38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4EA9-2EB6-4286-BC72-40C9EECC71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CA3A-7B8F-4D73-88FF-2DC323F9892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2BEF-D4F7-406B-B392-A2FE22D8F3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EC7E-8524-4F4C-8F01-DD0680869BB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49DE-C09E-4A09-8834-AE9D4B3A42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51A4-61BB-405C-A0C0-46D62E930E9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5F8B-A726-4853-A684-42A1999AD4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4"/>
          <p:cNvSpPr/>
          <p:nvPr/>
        </p:nvSpPr>
        <p:spPr>
          <a:xfrm>
            <a:off x="3714840" y="507204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素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0" y="651204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9"/>
          <p:cNvSpPr/>
          <p:nvPr/>
        </p:nvSpPr>
        <p:spPr>
          <a:xfrm>
            <a:off x="6212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5"/>
          <p:cNvSpPr/>
          <p:nvPr/>
        </p:nvSpPr>
        <p:spPr>
          <a:xfrm>
            <a:off x="2426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5"/>
          <p:cNvSpPr/>
          <p:nvPr/>
        </p:nvSpPr>
        <p:spPr>
          <a:xfrm>
            <a:off x="1783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5"/>
          <p:cNvSpPr/>
          <p:nvPr/>
        </p:nvSpPr>
        <p:spPr>
          <a:xfrm>
            <a:off x="6569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1371600" y="63244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5"/>
          <p:cNvSpPr/>
          <p:nvPr/>
        </p:nvSpPr>
        <p:spPr>
          <a:xfrm>
            <a:off x="6283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7"/>
          <p:cNvSpPr/>
          <p:nvPr/>
        </p:nvSpPr>
        <p:spPr>
          <a:xfrm>
            <a:off x="44265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5"/>
          <p:cNvSpPr/>
          <p:nvPr/>
        </p:nvSpPr>
        <p:spPr>
          <a:xfrm>
            <a:off x="6640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"/>
          <p:cNvSpPr/>
          <p:nvPr/>
        </p:nvSpPr>
        <p:spPr>
          <a:xfrm>
            <a:off x="4426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5"/>
          <p:cNvSpPr/>
          <p:nvPr/>
        </p:nvSpPr>
        <p:spPr>
          <a:xfrm>
            <a:off x="3140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7"/>
          <p:cNvSpPr/>
          <p:nvPr/>
        </p:nvSpPr>
        <p:spPr>
          <a:xfrm>
            <a:off x="3140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76320" y="61722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5"/>
          <p:cNvSpPr/>
          <p:nvPr/>
        </p:nvSpPr>
        <p:spPr>
          <a:xfrm>
            <a:off x="628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5"/>
          <p:cNvSpPr/>
          <p:nvPr/>
        </p:nvSpPr>
        <p:spPr>
          <a:xfrm>
            <a:off x="20689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7"/>
          <p:cNvSpPr/>
          <p:nvPr/>
        </p:nvSpPr>
        <p:spPr>
          <a:xfrm>
            <a:off x="4426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8"/>
          <p:cNvSpPr/>
          <p:nvPr/>
        </p:nvSpPr>
        <p:spPr>
          <a:xfrm>
            <a:off x="30690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"/>
          <p:cNvSpPr/>
          <p:nvPr/>
        </p:nvSpPr>
        <p:spPr>
          <a:xfrm>
            <a:off x="5140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"/>
          <p:cNvSpPr/>
          <p:nvPr/>
        </p:nvSpPr>
        <p:spPr>
          <a:xfrm>
            <a:off x="3211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"/>
          <p:cNvSpPr/>
          <p:nvPr/>
        </p:nvSpPr>
        <p:spPr>
          <a:xfrm>
            <a:off x="1854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2120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76320" y="61722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6"/>
          <p:cNvSpPr/>
          <p:nvPr/>
        </p:nvSpPr>
        <p:spPr>
          <a:xfrm>
            <a:off x="6712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5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"/>
          <p:cNvSpPr/>
          <p:nvPr/>
        </p:nvSpPr>
        <p:spPr>
          <a:xfrm>
            <a:off x="28548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5"/>
          <p:cNvSpPr/>
          <p:nvPr/>
        </p:nvSpPr>
        <p:spPr>
          <a:xfrm>
            <a:off x="24260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"/>
          <p:cNvSpPr/>
          <p:nvPr/>
        </p:nvSpPr>
        <p:spPr>
          <a:xfrm>
            <a:off x="4354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"/>
          <p:cNvSpPr/>
          <p:nvPr/>
        </p:nvSpPr>
        <p:spPr>
          <a:xfrm>
            <a:off x="3283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41:55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