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D26-85A1-4804-B1A4-8800DA8B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C6C-1874-43F9-8341-9DA35D84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DAC-ECA9-4BAE-86CE-BD88D1BC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385-ED80-4117-B46F-A41F4F0C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6B0-72E6-40FF-A7AC-343F10EF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7F1-9A18-410C-B76B-B429D3A1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910-8B39-4400-A12A-CA88209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773-2220-4088-8F93-49B0E77F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C4C-DF8A-4749-BA91-2779B7F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59C-8C75-4287-9669-3B9B4E9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278-08FC-4704-BB03-D1E4E947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F48-AE0C-4F13-8AD5-746CB20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F847-C102-4179-BC06-C48DD6DE8F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013-9448-475B-9CE7-1A774288FC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6300720" y="-95400"/>
            <a:ext cx="8636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7"/>
          <p:cNvSpPr/>
          <p:nvPr/>
        </p:nvSpPr>
        <p:spPr>
          <a:xfrm rot="5400000">
            <a:off x="6113880" y="3210480"/>
            <a:ext cx="1320480" cy="43668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7388280" y="1052640"/>
            <a:ext cx="229536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38036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82560" y="1917720"/>
            <a:ext cx="489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5219640" y="372888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2"/>
          <p:cNvSpPr/>
          <p:nvPr/>
        </p:nvSpPr>
        <p:spPr>
          <a:xfrm>
            <a:off x="-536400" y="3908520"/>
            <a:ext cx="575604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380360" y="1413000"/>
            <a:ext cx="1771560" cy="402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0200" y="441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4"/>
          <p:cNvSpPr/>
          <p:nvPr/>
        </p:nvSpPr>
        <p:spPr>
          <a:xfrm>
            <a:off x="6300720" y="-95400"/>
            <a:ext cx="8636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6"/>
          <p:cNvSpPr/>
          <p:nvPr/>
        </p:nvSpPr>
        <p:spPr>
          <a:xfrm rot="5400000">
            <a:off x="6113880" y="3210480"/>
            <a:ext cx="1320480" cy="43668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-320760" y="1052640"/>
            <a:ext cx="640548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0"/>
          <p:cNvSpPr/>
          <p:nvPr/>
        </p:nvSpPr>
        <p:spPr>
          <a:xfrm>
            <a:off x="5727600" y="851040"/>
            <a:ext cx="3589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3"/>
          <p:cNvSpPr/>
          <p:nvPr/>
        </p:nvSpPr>
        <p:spPr>
          <a:xfrm>
            <a:off x="7388280" y="1052640"/>
            <a:ext cx="229536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6"/>
          <p:cNvSpPr/>
          <p:nvPr/>
        </p:nvSpPr>
        <p:spPr>
          <a:xfrm>
            <a:off x="738036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240000" y="53028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22578" t="0" r="-171" b="0"/>
          <a:stretch/>
        </p:blipFill>
        <p:spPr>
          <a:xfrm>
            <a:off x="0" y="1417680"/>
            <a:ext cx="6086520" cy="402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7369200" y="1413000"/>
            <a:ext cx="1774800" cy="40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6300720" y="-95400"/>
            <a:ext cx="8636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7"/>
          <p:cNvSpPr/>
          <p:nvPr/>
        </p:nvSpPr>
        <p:spPr>
          <a:xfrm rot="5400000">
            <a:off x="6113880" y="3210480"/>
            <a:ext cx="1320480" cy="43668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0"/>
          <p:cNvSpPr/>
          <p:nvPr/>
        </p:nvSpPr>
        <p:spPr>
          <a:xfrm>
            <a:off x="-320760" y="1052640"/>
            <a:ext cx="640548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5727600" y="851040"/>
            <a:ext cx="3589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2"/>
          <p:cNvSpPr/>
          <p:nvPr/>
        </p:nvSpPr>
        <p:spPr>
          <a:xfrm>
            <a:off x="7388280" y="1052640"/>
            <a:ext cx="229536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738036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3240000" y="53028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导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22514" t="0" r="-102" b="0"/>
          <a:stretch/>
        </p:blipFill>
        <p:spPr>
          <a:xfrm>
            <a:off x="0" y="1413000"/>
            <a:ext cx="6091200" cy="40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rcRect l="0" t="0" r="0" b="-89"/>
          <a:stretch/>
        </p:blipFill>
        <p:spPr>
          <a:xfrm>
            <a:off x="7372440" y="1413000"/>
            <a:ext cx="17715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6300720" y="-95400"/>
            <a:ext cx="8636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等腰三角形 7"/>
          <p:cNvSpPr/>
          <p:nvPr/>
        </p:nvSpPr>
        <p:spPr>
          <a:xfrm rot="5400000">
            <a:off x="6113880" y="3210480"/>
            <a:ext cx="1320480" cy="43668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>
            <a:off x="-320760" y="1052640"/>
            <a:ext cx="640548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1"/>
          <p:cNvSpPr/>
          <p:nvPr/>
        </p:nvSpPr>
        <p:spPr>
          <a:xfrm>
            <a:off x="5727600" y="851040"/>
            <a:ext cx="3589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2"/>
          <p:cNvSpPr/>
          <p:nvPr/>
        </p:nvSpPr>
        <p:spPr>
          <a:xfrm>
            <a:off x="7388280" y="1052640"/>
            <a:ext cx="229536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3"/>
          <p:cNvSpPr/>
          <p:nvPr/>
        </p:nvSpPr>
        <p:spPr>
          <a:xfrm>
            <a:off x="738036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3240000" y="53028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22686" t="0" r="-229" b="-89"/>
          <a:stretch/>
        </p:blipFill>
        <p:spPr>
          <a:xfrm>
            <a:off x="0" y="1413000"/>
            <a:ext cx="6080040" cy="40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372440" y="1411200"/>
            <a:ext cx="177156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2"/>
          <p:cNvSpPr/>
          <p:nvPr/>
        </p:nvSpPr>
        <p:spPr>
          <a:xfrm>
            <a:off x="1415880" y="32972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6300720" y="-95400"/>
            <a:ext cx="8636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等腰三角形 4"/>
          <p:cNvSpPr/>
          <p:nvPr/>
        </p:nvSpPr>
        <p:spPr>
          <a:xfrm rot="5400000">
            <a:off x="6113880" y="3210480"/>
            <a:ext cx="1320480" cy="43668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7"/>
          <p:cNvSpPr/>
          <p:nvPr/>
        </p:nvSpPr>
        <p:spPr>
          <a:xfrm>
            <a:off x="-320760" y="1052640"/>
            <a:ext cx="640548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8"/>
          <p:cNvSpPr/>
          <p:nvPr/>
        </p:nvSpPr>
        <p:spPr>
          <a:xfrm>
            <a:off x="5727600" y="851040"/>
            <a:ext cx="3589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9"/>
          <p:cNvSpPr/>
          <p:nvPr/>
        </p:nvSpPr>
        <p:spPr>
          <a:xfrm>
            <a:off x="7388280" y="1052640"/>
            <a:ext cx="229536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0"/>
          <p:cNvSpPr/>
          <p:nvPr/>
        </p:nvSpPr>
        <p:spPr>
          <a:xfrm>
            <a:off x="738036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3240000" y="53028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rcRect l="22578" t="0" r="-23" b="0"/>
          <a:stretch/>
        </p:blipFill>
        <p:spPr>
          <a:xfrm>
            <a:off x="0" y="1409760"/>
            <a:ext cx="608472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8317080" y="-95400"/>
            <a:ext cx="86328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等腰三角形 4"/>
          <p:cNvSpPr/>
          <p:nvPr/>
        </p:nvSpPr>
        <p:spPr>
          <a:xfrm rot="5400000">
            <a:off x="8130600" y="3210840"/>
            <a:ext cx="1320480" cy="436320"/>
          </a:xfrm>
          <a:prstGeom prst="triangle">
            <a:avLst>
              <a:gd name="adj" fmla="val 5000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7"/>
          <p:cNvSpPr/>
          <p:nvPr/>
        </p:nvSpPr>
        <p:spPr>
          <a:xfrm>
            <a:off x="-392040" y="1052640"/>
            <a:ext cx="820260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7451640" y="85104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965840" y="46836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舒体"/>
                <a:ea typeface="方正舒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547640" y="1436760"/>
            <a:ext cx="2051280" cy="205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556160" y="4406760"/>
            <a:ext cx="1671480" cy="167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5003640" y="207792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4"/>
          <a:stretch/>
        </p:blipFill>
        <p:spPr>
          <a:xfrm>
            <a:off x="1979640" y="4610160"/>
            <a:ext cx="1944720" cy="1946160"/>
          </a:xfrm>
          <a:prstGeom prst="rect">
            <a:avLst/>
          </a:prstGeom>
          <a:ln w="0">
            <a:noFill/>
          </a:ln>
        </p:spPr>
      </p:pic>
      <p:sp>
        <p:nvSpPr>
          <p:cNvPr id="98" name="直接连接符 19"/>
          <p:cNvSpPr/>
          <p:nvPr/>
        </p:nvSpPr>
        <p:spPr>
          <a:xfrm>
            <a:off x="3495600" y="2852640"/>
            <a:ext cx="1292400" cy="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0"/>
          <p:cNvSpPr/>
          <p:nvPr/>
        </p:nvSpPr>
        <p:spPr>
          <a:xfrm>
            <a:off x="3276720" y="3357720"/>
            <a:ext cx="1063440" cy="107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2"/>
          <p:cNvSpPr/>
          <p:nvPr/>
        </p:nvSpPr>
        <p:spPr>
          <a:xfrm>
            <a:off x="2573280" y="4005360"/>
            <a:ext cx="127080" cy="79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29C-11F1-42AE-B270-1FDF988DE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直接连接符 2"/>
          <p:cNvSpPr/>
          <p:nvPr/>
        </p:nvSpPr>
        <p:spPr>
          <a:xfrm>
            <a:off x="395280" y="1052640"/>
            <a:ext cx="5689440" cy="1440"/>
          </a:xfrm>
          <a:prstGeom prst="line">
            <a:avLst/>
          </a:prstGeom>
          <a:ln w="381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3"/>
          <p:cNvSpPr/>
          <p:nvPr/>
        </p:nvSpPr>
        <p:spPr>
          <a:xfrm>
            <a:off x="5727600" y="851040"/>
            <a:ext cx="35892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2560" y="1917720"/>
            <a:ext cx="4897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Floating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2011-12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-825480" y="-95400"/>
            <a:ext cx="861840" cy="7124760"/>
          </a:xfrm>
          <a:prstGeom prst="rect">
            <a:avLst/>
          </a:prstGeom>
          <a:noFill/>
          <a:ln w="57240">
            <a:solidFill>
              <a:srgbClr val="538cd5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"/>
          <p:cNvSpPr/>
          <p:nvPr/>
        </p:nvSpPr>
        <p:spPr>
          <a:xfrm>
            <a:off x="395280" y="858960"/>
            <a:ext cx="360360" cy="360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48:39Z</dcterms:modified>
  <cp:revision>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