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49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zcool.com.cn/pic/coolphoto/new_coolphoto2/jpg/051_1600x1200_zcool.com.cn.jpg"/>
          <p:cNvPicPr/>
          <p:nvPr/>
        </p:nvPicPr>
        <p:blipFill>
          <a:blip r:embed="rId4"/>
          <a:srcRect l="19511" t="0" r="17999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4"/>
          <p:cNvSpPr/>
          <p:nvPr/>
        </p:nvSpPr>
        <p:spPr>
          <a:xfrm>
            <a:off x="249120" y="285840"/>
            <a:ext cx="8645760" cy="6143400"/>
          </a:xfrm>
          <a:custGeom>
            <a:avLst/>
            <a:gdLst>
              <a:gd name="textAreaLeft" fmla="*/ 115560 w 8645760"/>
              <a:gd name="textAreaRight" fmla="*/ 8530200 w 8645760"/>
              <a:gd name="textAreaTop" fmla="*/ 115560 h 6143400"/>
              <a:gd name="textAreaBottom" fmla="*/ 6143760 h 6143400"/>
            </a:gdLst>
            <a:ahLst/>
            <a:rect l="textAreaLeft" t="textAreaTop" r="textAreaRight" b="textAreaBottom"/>
            <a:pathLst>
              <a:path w="8643998" h="6143668">
                <a:moveTo>
                  <a:pt x="395345" y="0"/>
                </a:moveTo>
                <a:lnTo>
                  <a:pt x="8248653" y="0"/>
                </a:lnTo>
                <a:cubicBezTo>
                  <a:pt x="8466996" y="0"/>
                  <a:pt x="8643998" y="177001"/>
                  <a:pt x="8643998" y="395345"/>
                </a:cubicBezTo>
                <a:cubicBezTo>
                  <a:pt x="8643998" y="395345"/>
                  <a:pt x="8643997" y="395345"/>
                  <a:pt x="8643997" y="395346"/>
                </a:cubicBezTo>
                <a:lnTo>
                  <a:pt x="8643998" y="6143668"/>
                </a:lnTo>
                <a:lnTo>
                  <a:pt x="0" y="6143668"/>
                </a:lnTo>
                <a:lnTo>
                  <a:pt x="0" y="395345"/>
                </a:lnTo>
                <a:cubicBezTo>
                  <a:pt x="0" y="177001"/>
                  <a:pt x="177001" y="0"/>
                  <a:pt x="395345" y="0"/>
                </a:cubicBezTo>
                <a:cubicBezTo>
                  <a:pt x="395345" y="0"/>
                  <a:pt x="395345" y="0"/>
                  <a:pt x="395345" y="0"/>
                </a:cubicBezTo>
                <a:close/>
              </a:path>
            </a:pathLst>
          </a:cu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93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5DE6-89E3-4AD4-862C-9DBC3AAA3C8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101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8389800" y="516960"/>
              <a:ext cx="2329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5969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Calibri"/>
              <a:ea typeface="汉真广标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2625120" y="620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爱心简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6"/>
          <p:cNvSpPr/>
          <p:nvPr/>
        </p:nvSpPr>
        <p:spPr>
          <a:xfrm>
            <a:off x="90792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8"/>
          <p:cNvSpPr/>
          <p:nvPr/>
        </p:nvSpPr>
        <p:spPr>
          <a:xfrm>
            <a:off x="1181160" y="4494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9"/>
          <p:cNvSpPr/>
          <p:nvPr/>
        </p:nvSpPr>
        <p:spPr>
          <a:xfrm>
            <a:off x="1181160" y="4954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814320" y="3133800"/>
            <a:ext cx="2305080" cy="720720"/>
            <a:chOff x="814320" y="3133800"/>
            <a:chExt cx="2305080" cy="720720"/>
          </a:xfrm>
        </p:grpSpPr>
        <p:sp>
          <p:nvSpPr>
            <p:cNvPr id="157" name="AutoShape 3"/>
            <p:cNvSpPr/>
            <p:nvPr/>
          </p:nvSpPr>
          <p:spPr>
            <a:xfrm>
              <a:off x="814320" y="313380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"/>
            <p:cNvSpPr/>
            <p:nvPr/>
          </p:nvSpPr>
          <p:spPr>
            <a:xfrm>
              <a:off x="814320" y="3223800"/>
              <a:ext cx="23050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29"/>
          <p:cNvSpPr/>
          <p:nvPr/>
        </p:nvSpPr>
        <p:spPr>
          <a:xfrm>
            <a:off x="1554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61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3938400" y="2314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2"/>
          <p:cNvSpPr/>
          <p:nvPr/>
        </p:nvSpPr>
        <p:spPr>
          <a:xfrm>
            <a:off x="887400" y="3835440"/>
            <a:ext cx="2158920" cy="74520"/>
          </a:xfrm>
          <a:custGeom>
            <a:avLst/>
            <a:gdLst>
              <a:gd name="textAreaLeft" fmla="*/ 220320 w 2158920"/>
              <a:gd name="textAreaRight" fmla="*/ 1938600 w 21589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96"/>
          <p:cNvSpPr/>
          <p:nvPr/>
        </p:nvSpPr>
        <p:spPr>
          <a:xfrm>
            <a:off x="3390840" y="3900600"/>
            <a:ext cx="2119320" cy="219528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74">
                <a:moveTo>
                  <a:pt x="805" y="0"/>
                </a:moveTo>
                <a:arcTo wR="805" hR="805" stAng="16200000" swAng="-5400000"/>
                <a:lnTo>
                  <a:pt x="0" y="21569"/>
                </a:lnTo>
                <a:arcTo wR="805" hR="805" stAng="10800000" swAng="-5400000"/>
                <a:lnTo>
                  <a:pt x="20795" y="22374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8"/>
          <p:cNvSpPr/>
          <p:nvPr/>
        </p:nvSpPr>
        <p:spPr>
          <a:xfrm>
            <a:off x="3665520" y="449424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9"/>
          <p:cNvSpPr/>
          <p:nvPr/>
        </p:nvSpPr>
        <p:spPr>
          <a:xfrm>
            <a:off x="3665520" y="495468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9"/>
          <p:cNvGrpSpPr/>
          <p:nvPr/>
        </p:nvGrpSpPr>
        <p:grpSpPr>
          <a:xfrm>
            <a:off x="3298680" y="3133800"/>
            <a:ext cx="2303640" cy="720720"/>
            <a:chOff x="3298680" y="3133800"/>
            <a:chExt cx="2303640" cy="720720"/>
          </a:xfrm>
        </p:grpSpPr>
        <p:sp>
          <p:nvSpPr>
            <p:cNvPr id="169" name="AutoShape 3"/>
            <p:cNvSpPr/>
            <p:nvPr/>
          </p:nvSpPr>
          <p:spPr>
            <a:xfrm>
              <a:off x="3298680" y="3133800"/>
              <a:ext cx="23036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3"/>
            <p:cNvSpPr/>
            <p:nvPr/>
          </p:nvSpPr>
          <p:spPr>
            <a:xfrm>
              <a:off x="3298680" y="3223800"/>
              <a:ext cx="230364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29"/>
          <p:cNvSpPr/>
          <p:nvPr/>
        </p:nvSpPr>
        <p:spPr>
          <a:xfrm>
            <a:off x="403884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2"/>
          <p:cNvSpPr/>
          <p:nvPr/>
        </p:nvSpPr>
        <p:spPr>
          <a:xfrm>
            <a:off x="3370320" y="3835440"/>
            <a:ext cx="2160360" cy="74520"/>
          </a:xfrm>
          <a:custGeom>
            <a:avLst/>
            <a:gdLst>
              <a:gd name="textAreaLeft" fmla="*/ 220320 w 2160360"/>
              <a:gd name="textAreaRight" fmla="*/ 1940040 w 216036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6"/>
          <p:cNvSpPr/>
          <p:nvPr/>
        </p:nvSpPr>
        <p:spPr>
          <a:xfrm>
            <a:off x="5900760" y="3900600"/>
            <a:ext cx="2117880" cy="219528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280"/>
              <a:gd name="textAreaBottom" fmla="*/ 2172240 h 2195280"/>
            </a:gdLst>
            <a:ahLst/>
            <a:rect l="textAreaLeft" t="textAreaTop" r="textAreaRight" b="textAreaBottom"/>
            <a:pathLst>
              <a:path w="21600" h="22389">
                <a:moveTo>
                  <a:pt x="805" y="0"/>
                </a:moveTo>
                <a:arcTo wR="805" hR="805" stAng="16200000" swAng="-5400000"/>
                <a:lnTo>
                  <a:pt x="0" y="21584"/>
                </a:lnTo>
                <a:arcTo wR="805" hR="805" stAng="10800000" swAng="-5400000"/>
                <a:lnTo>
                  <a:pt x="20795" y="22389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6173640" y="4494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9"/>
          <p:cNvSpPr/>
          <p:nvPr/>
        </p:nvSpPr>
        <p:spPr>
          <a:xfrm>
            <a:off x="6173640" y="4954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5807160" y="3133800"/>
            <a:ext cx="2303280" cy="720720"/>
            <a:chOff x="5807160" y="3133800"/>
            <a:chExt cx="2303280" cy="720720"/>
          </a:xfrm>
        </p:grpSpPr>
        <p:sp>
          <p:nvSpPr>
            <p:cNvPr id="177" name="AutoShape 3"/>
            <p:cNvSpPr/>
            <p:nvPr/>
          </p:nvSpPr>
          <p:spPr>
            <a:xfrm>
              <a:off x="5807160" y="313380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"/>
            <p:cNvSpPr/>
            <p:nvPr/>
          </p:nvSpPr>
          <p:spPr>
            <a:xfrm>
              <a:off x="5807160" y="3223800"/>
              <a:ext cx="2303280" cy="54072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29"/>
          <p:cNvSpPr/>
          <p:nvPr/>
        </p:nvSpPr>
        <p:spPr>
          <a:xfrm>
            <a:off x="6546960" y="33559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22"/>
          <p:cNvSpPr/>
          <p:nvPr/>
        </p:nvSpPr>
        <p:spPr>
          <a:xfrm>
            <a:off x="5878440" y="3835440"/>
            <a:ext cx="2160720" cy="74520"/>
          </a:xfrm>
          <a:custGeom>
            <a:avLst/>
            <a:gdLst>
              <a:gd name="textAreaLeft" fmla="*/ 220320 w 2160720"/>
              <a:gd name="textAreaRight" fmla="*/ 1940400 w 2160720"/>
              <a:gd name="textAreaTop" fmla="*/ 7560 h 74520"/>
              <a:gd name="textAreaBottom" fmla="*/ 6696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" y="21600"/>
                </a:lnTo>
                <a:lnTo>
                  <a:pt x="207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6840"/>
            <a:ext cx="82072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413080" y="59500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2:19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