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176480" y="75564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3"/>
          <p:cNvSpPr/>
          <p:nvPr/>
        </p:nvSpPr>
        <p:spPr>
          <a:xfrm rot="5400000">
            <a:off x="1007280" y="4037760"/>
            <a:ext cx="727200" cy="225576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AutoShape 4"/>
          <p:cNvSpPr/>
          <p:nvPr/>
        </p:nvSpPr>
        <p:spPr>
          <a:xfrm rot="5400000">
            <a:off x="4193280" y="4037760"/>
            <a:ext cx="727200" cy="225576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AutoShape 5"/>
          <p:cNvSpPr/>
          <p:nvPr/>
        </p:nvSpPr>
        <p:spPr>
          <a:xfrm rot="5400000">
            <a:off x="7463520" y="4037760"/>
            <a:ext cx="727200" cy="2255760"/>
          </a:xfrm>
          <a:prstGeom prst="cube">
            <a:avLst>
              <a:gd name="adj" fmla="val 11666"/>
            </a:avLst>
          </a:prstGeom>
          <a:solidFill>
            <a:srgbClr val="a3a9fd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AutoShape 6"/>
          <p:cNvSpPr/>
          <p:nvPr/>
        </p:nvSpPr>
        <p:spPr>
          <a:xfrm>
            <a:off x="2355840" y="5002200"/>
            <a:ext cx="932040" cy="326880"/>
          </a:xfrm>
          <a:prstGeom prst="rightArrow">
            <a:avLst>
              <a:gd name="adj1" fmla="val 50000"/>
              <a:gd name="adj2" fmla="val 97869"/>
            </a:avLst>
          </a:prstGeom>
          <a:solidFill>
            <a:srgbClr val="37939f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5632560" y="5022720"/>
            <a:ext cx="931680" cy="325440"/>
          </a:xfrm>
          <a:prstGeom prst="rightArrow">
            <a:avLst>
              <a:gd name="adj1" fmla="val 50000"/>
              <a:gd name="adj2" fmla="val 98264"/>
            </a:avLst>
          </a:prstGeom>
          <a:solidFill>
            <a:srgbClr val="37939f"/>
          </a:solidFill>
          <a:ln w="0">
            <a:noFill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AutoShape 8"/>
          <p:cNvSpPr/>
          <p:nvPr/>
        </p:nvSpPr>
        <p:spPr>
          <a:xfrm rot="5400000">
            <a:off x="4165200" y="-93600"/>
            <a:ext cx="823680" cy="3395880"/>
          </a:xfrm>
          <a:prstGeom prst="cube">
            <a:avLst>
              <a:gd name="adj" fmla="val 11666"/>
            </a:avLst>
          </a:prstGeom>
          <a:solidFill>
            <a:srgbClr val="47e0ff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AutoShape 9"/>
          <p:cNvSpPr/>
          <p:nvPr/>
        </p:nvSpPr>
        <p:spPr>
          <a:xfrm rot="5400000">
            <a:off x="1655280" y="1061640"/>
            <a:ext cx="824040" cy="3395880"/>
          </a:xfrm>
          <a:prstGeom prst="cube">
            <a:avLst>
              <a:gd name="adj" fmla="val 11666"/>
            </a:avLst>
          </a:prstGeom>
          <a:solidFill>
            <a:srgbClr val="a3a9fd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AutoShape 10"/>
          <p:cNvSpPr/>
          <p:nvPr/>
        </p:nvSpPr>
        <p:spPr>
          <a:xfrm rot="5400000">
            <a:off x="6842520" y="1068840"/>
            <a:ext cx="825480" cy="3395880"/>
          </a:xfrm>
          <a:prstGeom prst="cube">
            <a:avLst>
              <a:gd name="adj" fmla="val 11666"/>
            </a:avLst>
          </a:prstGeom>
          <a:solidFill>
            <a:srgbClr val="61b2fb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t 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3608280" y="2606760"/>
            <a:ext cx="1973520" cy="287280"/>
          </a:xfrm>
          <a:prstGeom prst="rightArrow">
            <a:avLst>
              <a:gd name="adj1" fmla="val 50000"/>
              <a:gd name="adj2" fmla="val 92931"/>
            </a:avLst>
          </a:prstGeom>
          <a:solidFill>
            <a:srgbClr val="37939f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4245120" y="1932120"/>
            <a:ext cx="546120" cy="706320"/>
          </a:xfrm>
          <a:prstGeom prst="downArrow">
            <a:avLst>
              <a:gd name="adj1" fmla="val 50000"/>
              <a:gd name="adj2" fmla="val 27442"/>
            </a:avLst>
          </a:prstGeom>
          <a:solidFill>
            <a:srgbClr val="37939f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矩形 1"/>
          <p:cNvSpPr/>
          <p:nvPr/>
        </p:nvSpPr>
        <p:spPr>
          <a:xfrm>
            <a:off x="2424240" y="573120"/>
            <a:ext cx="46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报告常用</a:t>
            </a:r>
            <a:r>
              <a:rPr b="0" lang="en-US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概念图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572000" y="4863960"/>
            <a:ext cx="3009960" cy="819360"/>
          </a:xfrm>
          <a:prstGeom prst="rightArrow">
            <a:avLst>
              <a:gd name="adj1" fmla="val 50000"/>
              <a:gd name="adj2" fmla="val 69729"/>
            </a:avLst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62040" y="4857840"/>
            <a:ext cx="3009960" cy="819000"/>
          </a:xfrm>
          <a:prstGeom prst="leftArrow">
            <a:avLst>
              <a:gd name="adj1" fmla="val 50000"/>
              <a:gd name="adj2" fmla="val 69726"/>
            </a:avLst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27480" y="510840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777800" y="5108400"/>
            <a:ext cx="7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54120" y="1701720"/>
            <a:ext cx="1577880" cy="27687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244600" y="1701720"/>
            <a:ext cx="1578240" cy="276876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35440" y="1701720"/>
            <a:ext cx="1577880" cy="276876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425920" y="1701720"/>
            <a:ext cx="1578240" cy="276876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7007400" y="1701720"/>
            <a:ext cx="1577880" cy="276876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095480" y="3686040"/>
            <a:ext cx="1047600" cy="2352960"/>
          </a:xfrm>
          <a:prstGeom prst="downArrow">
            <a:avLst>
              <a:gd name="adj1" fmla="val 50000"/>
              <a:gd name="adj2" fmla="val 42633"/>
            </a:avLst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095480" y="1314360"/>
            <a:ext cx="1047600" cy="2352600"/>
          </a:xfrm>
          <a:prstGeom prst="upArrow">
            <a:avLst>
              <a:gd name="adj1" fmla="val 50000"/>
              <a:gd name="adj2" fmla="val 42606"/>
            </a:avLst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237320" y="605304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222920" y="88272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AutoShape 7"/>
          <p:cNvSpPr/>
          <p:nvPr/>
        </p:nvSpPr>
        <p:spPr>
          <a:xfrm rot="5400000">
            <a:off x="4703760" y="-728640"/>
            <a:ext cx="1184400" cy="4711680"/>
          </a:xfrm>
          <a:prstGeom prst="cube">
            <a:avLst>
              <a:gd name="adj" fmla="val 14578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AutoShape 8"/>
          <p:cNvSpPr/>
          <p:nvPr/>
        </p:nvSpPr>
        <p:spPr>
          <a:xfrm rot="5400000">
            <a:off x="4703760" y="296640"/>
            <a:ext cx="1184040" cy="4711680"/>
          </a:xfrm>
          <a:prstGeom prst="cube">
            <a:avLst>
              <a:gd name="adj" fmla="val 14578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AutoShape 9"/>
          <p:cNvSpPr/>
          <p:nvPr/>
        </p:nvSpPr>
        <p:spPr>
          <a:xfrm rot="5400000">
            <a:off x="4703760" y="1320480"/>
            <a:ext cx="1184400" cy="4711680"/>
          </a:xfrm>
          <a:prstGeom prst="cube">
            <a:avLst>
              <a:gd name="adj" fmla="val 14578"/>
            </a:avLst>
          </a:prstGeom>
          <a:solidFill>
            <a:srgbClr val="c1ce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4703760" y="2344320"/>
            <a:ext cx="1184400" cy="4711680"/>
          </a:xfrm>
          <a:prstGeom prst="cube">
            <a:avLst>
              <a:gd name="adj" fmla="val 14578"/>
            </a:avLst>
          </a:prstGeom>
          <a:solidFill>
            <a:srgbClr val="8cf4ea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AutoShape 11"/>
          <p:cNvSpPr/>
          <p:nvPr/>
        </p:nvSpPr>
        <p:spPr>
          <a:xfrm rot="5400000">
            <a:off x="4703760" y="3368520"/>
            <a:ext cx="1184040" cy="4711680"/>
          </a:xfrm>
          <a:prstGeom prst="cube">
            <a:avLst>
              <a:gd name="adj" fmla="val 14578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Transformation Proces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77840" y="892080"/>
            <a:ext cx="8788320" cy="55310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6600" y="1305000"/>
            <a:ext cx="8045280" cy="461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441600" y="3792600"/>
            <a:ext cx="2260800" cy="160164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20800" y="3786120"/>
            <a:ext cx="2260440" cy="1602000"/>
          </a:xfrm>
          <a:prstGeom prst="rect">
            <a:avLst/>
          </a:prstGeom>
          <a:gradFill rotWithShape="0">
            <a:gsLst>
              <a:gs pos="0">
                <a:srgbClr val="fdfece"/>
              </a:gs>
              <a:gs pos="100000">
                <a:srgbClr val="fcfe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049800" y="3786120"/>
            <a:ext cx="2260800" cy="160200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702240" y="947880"/>
            <a:ext cx="173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582000" y="6033960"/>
            <a:ext cx="19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41600" y="1620720"/>
            <a:ext cx="2260800" cy="1602000"/>
          </a:xfrm>
          <a:prstGeom prst="rect">
            <a:avLst/>
          </a:prstGeom>
          <a:gradFill rotWithShape="0">
            <a:gsLst>
              <a:gs pos="0">
                <a:srgbClr val="febfcb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727600" y="4586400"/>
            <a:ext cx="3780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8304120" y="4586400"/>
            <a:ext cx="3780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5729400" y="2357280"/>
            <a:ext cx="1473120" cy="1430640"/>
          </a:xfrm>
          <a:custGeom>
            <a:avLst/>
            <a:gdLst/>
            <a:ahLst/>
            <a:rect l="l" t="t" r="r" b="b"/>
            <a:pathLst>
              <a:path w="928" h="901">
                <a:moveTo>
                  <a:pt x="0" y="0"/>
                </a:moveTo>
                <a:lnTo>
                  <a:pt x="927" y="0"/>
                </a:lnTo>
                <a:lnTo>
                  <a:pt x="927" y="90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bevel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1922400" y="2357280"/>
            <a:ext cx="1473120" cy="1430640"/>
          </a:xfrm>
          <a:custGeom>
            <a:avLst/>
            <a:gdLst/>
            <a:ahLst/>
            <a:rect l="l" t="t" r="r" b="b"/>
            <a:pathLst>
              <a:path w="928" h="901">
                <a:moveTo>
                  <a:pt x="927" y="0"/>
                </a:moveTo>
                <a:lnTo>
                  <a:pt x="0" y="0"/>
                </a:lnTo>
                <a:lnTo>
                  <a:pt x="0" y="90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bevel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475280" y="2733840"/>
            <a:ext cx="90576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6733080" y="2733840"/>
            <a:ext cx="90576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6040440" y="2104920"/>
            <a:ext cx="1119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068200" y="2090880"/>
            <a:ext cx="1119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38560" y="5626080"/>
            <a:ext cx="2126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stem Boundary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4572000" y="324324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4" name="Group 21"/>
          <p:cNvGrpSpPr/>
          <p:nvPr/>
        </p:nvGrpSpPr>
        <p:grpSpPr>
          <a:xfrm>
            <a:off x="4397400" y="1833480"/>
            <a:ext cx="465120" cy="655560"/>
            <a:chOff x="4397400" y="1833480"/>
            <a:chExt cx="465120" cy="655560"/>
          </a:xfrm>
        </p:grpSpPr>
        <p:sp>
          <p:nvSpPr>
            <p:cNvPr id="165" name="未知"/>
            <p:cNvSpPr/>
            <p:nvPr/>
          </p:nvSpPr>
          <p:spPr>
            <a:xfrm>
              <a:off x="4397400" y="2071440"/>
              <a:ext cx="465120" cy="417600"/>
            </a:xfrm>
            <a:custGeom>
              <a:avLst/>
              <a:gdLst/>
              <a:ahLst/>
              <a:rect l="l" t="t" r="r" b="b"/>
              <a:pathLst>
                <a:path w="293" h="263">
                  <a:moveTo>
                    <a:pt x="97" y="0"/>
                  </a:moveTo>
                  <a:lnTo>
                    <a:pt x="12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49" y="262"/>
                  </a:lnTo>
                  <a:lnTo>
                    <a:pt x="231" y="262"/>
                  </a:lnTo>
                  <a:lnTo>
                    <a:pt x="286" y="77"/>
                  </a:lnTo>
                  <a:lnTo>
                    <a:pt x="292" y="58"/>
                  </a:lnTo>
                  <a:lnTo>
                    <a:pt x="274" y="45"/>
                  </a:lnTo>
                  <a:lnTo>
                    <a:pt x="189" y="6"/>
                  </a:lnTo>
                  <a:lnTo>
                    <a:pt x="97" y="0"/>
                  </a:lnTo>
                </a:path>
              </a:pathLst>
            </a:custGeom>
            <a:solidFill>
              <a:srgbClr val="37939f"/>
            </a:solidFill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Oval 23"/>
            <p:cNvSpPr/>
            <p:nvPr/>
          </p:nvSpPr>
          <p:spPr>
            <a:xfrm>
              <a:off x="4481640" y="1833480"/>
              <a:ext cx="276120" cy="271440"/>
            </a:xfrm>
            <a:prstGeom prst="ellipse">
              <a:avLst/>
            </a:prstGeom>
            <a:solidFill>
              <a:srgbClr val="3793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7" name="Group 24"/>
          <p:cNvGrpSpPr/>
          <p:nvPr/>
        </p:nvGrpSpPr>
        <p:grpSpPr>
          <a:xfrm>
            <a:off x="3768840" y="1833480"/>
            <a:ext cx="465120" cy="655560"/>
            <a:chOff x="3768840" y="1833480"/>
            <a:chExt cx="465120" cy="655560"/>
          </a:xfrm>
        </p:grpSpPr>
        <p:sp>
          <p:nvSpPr>
            <p:cNvPr id="168" name="未知"/>
            <p:cNvSpPr/>
            <p:nvPr/>
          </p:nvSpPr>
          <p:spPr>
            <a:xfrm>
              <a:off x="3768840" y="2071440"/>
              <a:ext cx="465120" cy="417600"/>
            </a:xfrm>
            <a:custGeom>
              <a:avLst/>
              <a:gdLst/>
              <a:ahLst/>
              <a:rect l="l" t="t" r="r" b="b"/>
              <a:pathLst>
                <a:path w="293" h="263">
                  <a:moveTo>
                    <a:pt x="97" y="0"/>
                  </a:moveTo>
                  <a:lnTo>
                    <a:pt x="12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49" y="262"/>
                  </a:lnTo>
                  <a:lnTo>
                    <a:pt x="231" y="262"/>
                  </a:lnTo>
                  <a:lnTo>
                    <a:pt x="286" y="77"/>
                  </a:lnTo>
                  <a:lnTo>
                    <a:pt x="292" y="58"/>
                  </a:lnTo>
                  <a:lnTo>
                    <a:pt x="274" y="45"/>
                  </a:lnTo>
                  <a:lnTo>
                    <a:pt x="189" y="6"/>
                  </a:lnTo>
                  <a:lnTo>
                    <a:pt x="97" y="0"/>
                  </a:lnTo>
                </a:path>
              </a:pathLst>
            </a:custGeom>
            <a:solidFill>
              <a:srgbClr val="37939f"/>
            </a:solidFill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Oval 26"/>
            <p:cNvSpPr/>
            <p:nvPr/>
          </p:nvSpPr>
          <p:spPr>
            <a:xfrm>
              <a:off x="3853080" y="1833480"/>
              <a:ext cx="276120" cy="271440"/>
            </a:xfrm>
            <a:prstGeom prst="ellipse">
              <a:avLst/>
            </a:prstGeom>
            <a:solidFill>
              <a:srgbClr val="3793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0" name="Group 27"/>
          <p:cNvGrpSpPr/>
          <p:nvPr/>
        </p:nvGrpSpPr>
        <p:grpSpPr>
          <a:xfrm>
            <a:off x="4997520" y="1833480"/>
            <a:ext cx="465120" cy="655560"/>
            <a:chOff x="4997520" y="1833480"/>
            <a:chExt cx="465120" cy="655560"/>
          </a:xfrm>
        </p:grpSpPr>
        <p:sp>
          <p:nvSpPr>
            <p:cNvPr id="171" name="未知"/>
            <p:cNvSpPr/>
            <p:nvPr/>
          </p:nvSpPr>
          <p:spPr>
            <a:xfrm>
              <a:off x="4997520" y="2071440"/>
              <a:ext cx="465120" cy="417600"/>
            </a:xfrm>
            <a:custGeom>
              <a:avLst/>
              <a:gdLst/>
              <a:ahLst/>
              <a:rect l="l" t="t" r="r" b="b"/>
              <a:pathLst>
                <a:path w="293" h="263">
                  <a:moveTo>
                    <a:pt x="97" y="0"/>
                  </a:moveTo>
                  <a:lnTo>
                    <a:pt x="12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49" y="262"/>
                  </a:lnTo>
                  <a:lnTo>
                    <a:pt x="231" y="262"/>
                  </a:lnTo>
                  <a:lnTo>
                    <a:pt x="286" y="77"/>
                  </a:lnTo>
                  <a:lnTo>
                    <a:pt x="292" y="58"/>
                  </a:lnTo>
                  <a:lnTo>
                    <a:pt x="274" y="45"/>
                  </a:lnTo>
                  <a:lnTo>
                    <a:pt x="189" y="6"/>
                  </a:lnTo>
                  <a:lnTo>
                    <a:pt x="97" y="0"/>
                  </a:lnTo>
                </a:path>
              </a:pathLst>
            </a:custGeom>
            <a:solidFill>
              <a:srgbClr val="37939f"/>
            </a:solidFill>
            <a:ln cap="rnd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Oval 29"/>
            <p:cNvSpPr/>
            <p:nvPr/>
          </p:nvSpPr>
          <p:spPr>
            <a:xfrm>
              <a:off x="5081760" y="1833480"/>
              <a:ext cx="276120" cy="271440"/>
            </a:xfrm>
            <a:prstGeom prst="ellipse">
              <a:avLst/>
            </a:prstGeom>
            <a:solidFill>
              <a:srgbClr val="3793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3" name="Rectangle 30"/>
          <p:cNvSpPr/>
          <p:nvPr/>
        </p:nvSpPr>
        <p:spPr>
          <a:xfrm>
            <a:off x="1081800" y="3940200"/>
            <a:ext cx="168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d text o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icture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3729600" y="3940200"/>
            <a:ext cx="168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d text o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icture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6310800" y="3940200"/>
            <a:ext cx="168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d text o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icture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515880" y="4586400"/>
            <a:ext cx="3780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3092400" y="4586400"/>
            <a:ext cx="3780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04920" y="860400"/>
            <a:ext cx="8508960" cy="579132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6 x 5 Matrix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965320" y="1406520"/>
            <a:ext cx="4730760" cy="5130720"/>
            <a:chOff x="2965320" y="1406520"/>
            <a:chExt cx="4730760" cy="5130720"/>
          </a:xfrm>
        </p:grpSpPr>
        <p:sp>
          <p:nvSpPr>
            <p:cNvPr id="181" name="Rectangle 5"/>
            <p:cNvSpPr/>
            <p:nvPr/>
          </p:nvSpPr>
          <p:spPr>
            <a:xfrm>
              <a:off x="2965320" y="1406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e4e9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3908160" y="140652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fee4e9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4851360" y="1406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e4e9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Rectangle 8"/>
            <p:cNvSpPr/>
            <p:nvPr/>
          </p:nvSpPr>
          <p:spPr>
            <a:xfrm>
              <a:off x="5794200" y="140652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fee4e9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6737400" y="1406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e4e9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2965320" y="2263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bfcb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3908160" y="226368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febfcb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Rectangle 12"/>
            <p:cNvSpPr/>
            <p:nvPr/>
          </p:nvSpPr>
          <p:spPr>
            <a:xfrm>
              <a:off x="4851360" y="2263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bfcb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5794200" y="226368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febfcb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Rectangle 14"/>
            <p:cNvSpPr/>
            <p:nvPr/>
          </p:nvSpPr>
          <p:spPr>
            <a:xfrm>
              <a:off x="6737400" y="2263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febfcb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2965320" y="3121200"/>
              <a:ext cx="958680" cy="844200"/>
            </a:xfrm>
            <a:prstGeom prst="rect">
              <a:avLst/>
            </a:prstGeom>
            <a:gradFill rotWithShape="0">
              <a:gsLst>
                <a:gs pos="0">
                  <a:srgbClr val="f1de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Rectangle 16"/>
            <p:cNvSpPr/>
            <p:nvPr/>
          </p:nvSpPr>
          <p:spPr>
            <a:xfrm>
              <a:off x="3908160" y="3121200"/>
              <a:ext cx="959040" cy="844200"/>
            </a:xfrm>
            <a:prstGeom prst="rect">
              <a:avLst/>
            </a:prstGeom>
            <a:gradFill rotWithShape="0">
              <a:gsLst>
                <a:gs pos="0">
                  <a:srgbClr val="f1de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Rectangle 17"/>
            <p:cNvSpPr/>
            <p:nvPr/>
          </p:nvSpPr>
          <p:spPr>
            <a:xfrm>
              <a:off x="4851360" y="3121200"/>
              <a:ext cx="958680" cy="844200"/>
            </a:xfrm>
            <a:prstGeom prst="rect">
              <a:avLst/>
            </a:prstGeom>
            <a:gradFill rotWithShape="0">
              <a:gsLst>
                <a:gs pos="0">
                  <a:srgbClr val="f1de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Rectangle 18"/>
            <p:cNvSpPr/>
            <p:nvPr/>
          </p:nvSpPr>
          <p:spPr>
            <a:xfrm>
              <a:off x="5794200" y="3121200"/>
              <a:ext cx="959040" cy="844200"/>
            </a:xfrm>
            <a:prstGeom prst="rect">
              <a:avLst/>
            </a:prstGeom>
            <a:gradFill rotWithShape="0">
              <a:gsLst>
                <a:gs pos="0">
                  <a:srgbClr val="f1de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6737400" y="3121200"/>
              <a:ext cx="958680" cy="844200"/>
            </a:xfrm>
            <a:prstGeom prst="rect">
              <a:avLst/>
            </a:prstGeom>
            <a:gradFill rotWithShape="0">
              <a:gsLst>
                <a:gs pos="0">
                  <a:srgbClr val="f1de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2965320" y="397836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ebd1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Rectangle 21"/>
            <p:cNvSpPr/>
            <p:nvPr/>
          </p:nvSpPr>
          <p:spPr>
            <a:xfrm>
              <a:off x="3908160" y="397836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ebd1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Rectangle 22"/>
            <p:cNvSpPr/>
            <p:nvPr/>
          </p:nvSpPr>
          <p:spPr>
            <a:xfrm>
              <a:off x="4851360" y="397836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ebd1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Rectangle 23"/>
            <p:cNvSpPr/>
            <p:nvPr/>
          </p:nvSpPr>
          <p:spPr>
            <a:xfrm>
              <a:off x="5794200" y="397836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ebd1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>
              <a:off x="6737400" y="397836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ebd1ff"/>
                </a:gs>
                <a:gs pos="100000">
                  <a:srgbClr val="e3be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2965320" y="4835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d0e0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Rectangle 26"/>
            <p:cNvSpPr/>
            <p:nvPr/>
          </p:nvSpPr>
          <p:spPr>
            <a:xfrm>
              <a:off x="3908160" y="483552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d0e0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Rectangle 27"/>
            <p:cNvSpPr/>
            <p:nvPr/>
          </p:nvSpPr>
          <p:spPr>
            <a:xfrm>
              <a:off x="4851360" y="4835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d0e0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Rectangle 28"/>
            <p:cNvSpPr/>
            <p:nvPr/>
          </p:nvSpPr>
          <p:spPr>
            <a:xfrm>
              <a:off x="5794200" y="483552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d0e0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6737400" y="483552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d0e0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Rectangle 30"/>
            <p:cNvSpPr/>
            <p:nvPr/>
          </p:nvSpPr>
          <p:spPr>
            <a:xfrm>
              <a:off x="2965320" y="5692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bed3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Rectangle 31"/>
            <p:cNvSpPr/>
            <p:nvPr/>
          </p:nvSpPr>
          <p:spPr>
            <a:xfrm>
              <a:off x="3908160" y="569268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bed3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Rectangle 32"/>
            <p:cNvSpPr/>
            <p:nvPr/>
          </p:nvSpPr>
          <p:spPr>
            <a:xfrm>
              <a:off x="4851360" y="5692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bed3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Rectangle 33"/>
            <p:cNvSpPr/>
            <p:nvPr/>
          </p:nvSpPr>
          <p:spPr>
            <a:xfrm>
              <a:off x="5794200" y="5692680"/>
              <a:ext cx="959040" cy="844560"/>
            </a:xfrm>
            <a:prstGeom prst="rect">
              <a:avLst/>
            </a:prstGeom>
            <a:gradFill rotWithShape="0">
              <a:gsLst>
                <a:gs pos="0">
                  <a:srgbClr val="bed3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Rectangle 34"/>
            <p:cNvSpPr/>
            <p:nvPr/>
          </p:nvSpPr>
          <p:spPr>
            <a:xfrm>
              <a:off x="6737400" y="5692680"/>
              <a:ext cx="958680" cy="844560"/>
            </a:xfrm>
            <a:prstGeom prst="rect">
              <a:avLst/>
            </a:prstGeom>
            <a:gradFill rotWithShape="0">
              <a:gsLst>
                <a:gs pos="0">
                  <a:srgbClr val="bed3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11" name="Rectangle 35"/>
          <p:cNvSpPr/>
          <p:nvPr/>
        </p:nvSpPr>
        <p:spPr>
          <a:xfrm rot="16200000">
            <a:off x="101160" y="3576960"/>
            <a:ext cx="12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eading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087880" y="76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1431000" y="168912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1431000" y="256068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Rectangle 39"/>
          <p:cNvSpPr/>
          <p:nvPr/>
        </p:nvSpPr>
        <p:spPr>
          <a:xfrm>
            <a:off x="1431000" y="338940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1431000" y="426096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Rectangle 41"/>
          <p:cNvSpPr/>
          <p:nvPr/>
        </p:nvSpPr>
        <p:spPr>
          <a:xfrm>
            <a:off x="1431000" y="511812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1431000" y="5889600"/>
            <a:ext cx="1119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Rectangle 43"/>
          <p:cNvSpPr/>
          <p:nvPr/>
        </p:nvSpPr>
        <p:spPr>
          <a:xfrm>
            <a:off x="3155400" y="1073160"/>
            <a:ext cx="550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Rectangle 44"/>
          <p:cNvSpPr/>
          <p:nvPr/>
        </p:nvSpPr>
        <p:spPr>
          <a:xfrm>
            <a:off x="4112640" y="1073160"/>
            <a:ext cx="550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5055480" y="1073160"/>
            <a:ext cx="550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Rectangle 46"/>
          <p:cNvSpPr/>
          <p:nvPr/>
        </p:nvSpPr>
        <p:spPr>
          <a:xfrm>
            <a:off x="5998320" y="1071720"/>
            <a:ext cx="550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Rectangle 47"/>
          <p:cNvSpPr/>
          <p:nvPr/>
        </p:nvSpPr>
        <p:spPr>
          <a:xfrm>
            <a:off x="6927120" y="1073160"/>
            <a:ext cx="550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x 3 Table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8280" y="1282680"/>
            <a:ext cx="2120760" cy="6922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502000" y="1282680"/>
            <a:ext cx="3130560" cy="6922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645160" y="1282680"/>
            <a:ext cx="3130560" cy="6922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68280" y="1987560"/>
            <a:ext cx="2120760" cy="69228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68280" y="2692440"/>
            <a:ext cx="2120760" cy="69228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68280" y="3397320"/>
            <a:ext cx="2120760" cy="69192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368280" y="4102200"/>
            <a:ext cx="2120760" cy="69192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68280" y="4807080"/>
            <a:ext cx="2120760" cy="69192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368280" y="5511960"/>
            <a:ext cx="2120760" cy="69192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t 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502000" y="1987560"/>
            <a:ext cx="3130560" cy="69228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5645160" y="1987560"/>
            <a:ext cx="3130560" cy="69228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502000" y="2692440"/>
            <a:ext cx="3130560" cy="69228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645160" y="2692440"/>
            <a:ext cx="3130560" cy="69228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2502000" y="3397320"/>
            <a:ext cx="3130560" cy="69192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5645160" y="3397320"/>
            <a:ext cx="3130560" cy="69192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2502000" y="4102200"/>
            <a:ext cx="3130560" cy="69192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645160" y="4102200"/>
            <a:ext cx="3130560" cy="69192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2502000" y="4807080"/>
            <a:ext cx="3130560" cy="69192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5645160" y="4807080"/>
            <a:ext cx="3130560" cy="69192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502000" y="5511960"/>
            <a:ext cx="3130560" cy="691920"/>
          </a:xfrm>
          <a:prstGeom prst="rect">
            <a:avLst/>
          </a:prstGeom>
          <a:gradFill rotWithShape="0">
            <a:gsLst>
              <a:gs pos="0">
                <a:srgbClr val="feebcf"/>
              </a:gs>
              <a:gs pos="100000">
                <a:srgbClr val="fde3b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5645160" y="5511960"/>
            <a:ext cx="3130560" cy="69192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Interactive Flow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537160" y="1557360"/>
            <a:ext cx="1574640" cy="4280040"/>
            <a:chOff x="5537160" y="1557360"/>
            <a:chExt cx="1574640" cy="4280040"/>
          </a:xfrm>
        </p:grpSpPr>
        <p:sp>
          <p:nvSpPr>
            <p:cNvPr id="248" name="Line 4"/>
            <p:cNvSpPr/>
            <p:nvPr/>
          </p:nvSpPr>
          <p:spPr>
            <a:xfrm>
              <a:off x="5537160" y="15573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Line 5"/>
            <p:cNvSpPr/>
            <p:nvPr/>
          </p:nvSpPr>
          <p:spPr>
            <a:xfrm>
              <a:off x="5537160" y="3044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>
              <a:off x="5537160" y="44290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>
              <a:off x="5537160" y="583740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3384720" y="1182600"/>
            <a:ext cx="2145960" cy="5014800"/>
            <a:chOff x="3384720" y="1182600"/>
            <a:chExt cx="2145960" cy="5014800"/>
          </a:xfrm>
        </p:grpSpPr>
        <p:sp>
          <p:nvSpPr>
            <p:cNvPr id="253" name="Rectangle 9"/>
            <p:cNvSpPr/>
            <p:nvPr/>
          </p:nvSpPr>
          <p:spPr>
            <a:xfrm>
              <a:off x="3384720" y="5386320"/>
              <a:ext cx="2145960" cy="811080"/>
            </a:xfrm>
            <a:prstGeom prst="rect">
              <a:avLst/>
            </a:prstGeom>
            <a:gradFill rotWithShape="0">
              <a:gsLst>
                <a:gs pos="0">
                  <a:srgbClr val="fdb6c4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384720" y="1182600"/>
              <a:ext cx="2145960" cy="812880"/>
            </a:xfrm>
            <a:prstGeom prst="rect">
              <a:avLst/>
            </a:prstGeom>
            <a:gradFill rotWithShape="0">
              <a:gsLst>
                <a:gs pos="0">
                  <a:srgbClr val="fde193"/>
                </a:gs>
                <a:gs pos="100000">
                  <a:srgbClr val="fcda7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3384720" y="2606760"/>
              <a:ext cx="2145960" cy="81252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3384720" y="3987720"/>
              <a:ext cx="2145960" cy="81288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>
              <a:off x="4471920" y="20224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>
              <a:off x="4458960" y="3425760"/>
              <a:ext cx="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>
              <a:off x="4458960" y="4809960"/>
              <a:ext cx="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657360" y="1182600"/>
            <a:ext cx="1941480" cy="5014800"/>
            <a:chOff x="657360" y="1182600"/>
            <a:chExt cx="1941480" cy="5014800"/>
          </a:xfrm>
        </p:grpSpPr>
        <p:sp>
          <p:nvSpPr>
            <p:cNvPr id="261" name="Rectangle 17"/>
            <p:cNvSpPr/>
            <p:nvPr/>
          </p:nvSpPr>
          <p:spPr>
            <a:xfrm>
              <a:off x="657360" y="5386320"/>
              <a:ext cx="1941480" cy="811080"/>
            </a:xfrm>
            <a:prstGeom prst="rect">
              <a:avLst/>
            </a:prstGeom>
            <a:gradFill rotWithShape="0">
              <a:gsLst>
                <a:gs pos="0">
                  <a:srgbClr val="fdb6c4"/>
                </a:gs>
                <a:gs pos="100000">
                  <a:srgbClr val="fda4b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Rectangle 18"/>
            <p:cNvSpPr/>
            <p:nvPr/>
          </p:nvSpPr>
          <p:spPr>
            <a:xfrm>
              <a:off x="657360" y="1182600"/>
              <a:ext cx="1941480" cy="812880"/>
            </a:xfrm>
            <a:prstGeom prst="rect">
              <a:avLst/>
            </a:prstGeom>
            <a:gradFill rotWithShape="0">
              <a:gsLst>
                <a:gs pos="0">
                  <a:srgbClr val="fde193"/>
                </a:gs>
                <a:gs pos="100000">
                  <a:srgbClr val="fcda7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Rectangle 19"/>
            <p:cNvSpPr/>
            <p:nvPr/>
          </p:nvSpPr>
          <p:spPr>
            <a:xfrm>
              <a:off x="657360" y="2606760"/>
              <a:ext cx="1941480" cy="812520"/>
            </a:xfrm>
            <a:prstGeom prst="rect">
              <a:avLst/>
            </a:prstGeom>
            <a:gradFill rotWithShape="0">
              <a:gsLst>
                <a:gs pos="0">
                  <a:srgbClr val="b5cdfe"/>
                </a:gs>
                <a:gs pos="100000">
                  <a:srgbClr val="a2c1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4" name="Rectangle 20"/>
            <p:cNvSpPr/>
            <p:nvPr/>
          </p:nvSpPr>
          <p:spPr>
            <a:xfrm>
              <a:off x="657360" y="3987720"/>
              <a:ext cx="1941480" cy="812880"/>
            </a:xfrm>
            <a:prstGeom prst="rect">
              <a:avLst/>
            </a:prstGeom>
            <a:gradFill rotWithShape="0">
              <a:gsLst>
                <a:gs pos="0">
                  <a:srgbClr val="b5f57f"/>
                </a:gs>
                <a:gs pos="100000">
                  <a:srgbClr val="a3f25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1641600" y="202248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1629000" y="3425760"/>
              <a:ext cx="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1629000" y="4809960"/>
              <a:ext cx="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8" name="AutoShape 24"/>
          <p:cNvSpPr/>
          <p:nvPr/>
        </p:nvSpPr>
        <p:spPr>
          <a:xfrm>
            <a:off x="7118280" y="1128600"/>
            <a:ext cx="1452600" cy="855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7118280" y="2620800"/>
            <a:ext cx="1452600" cy="8575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AutoShape 26"/>
          <p:cNvSpPr/>
          <p:nvPr/>
        </p:nvSpPr>
        <p:spPr>
          <a:xfrm>
            <a:off x="7118280" y="4046400"/>
            <a:ext cx="1452600" cy="855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AutoShape 27"/>
          <p:cNvSpPr/>
          <p:nvPr/>
        </p:nvSpPr>
        <p:spPr>
          <a:xfrm>
            <a:off x="7118280" y="5445000"/>
            <a:ext cx="1452600" cy="8557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Line 28"/>
          <p:cNvSpPr/>
          <p:nvPr/>
        </p:nvSpPr>
        <p:spPr>
          <a:xfrm flipH="1">
            <a:off x="5536800" y="1584360"/>
            <a:ext cx="1575000" cy="10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5536800" y="3103560"/>
            <a:ext cx="1575000" cy="89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Line 30"/>
          <p:cNvSpPr/>
          <p:nvPr/>
        </p:nvSpPr>
        <p:spPr>
          <a:xfrm flipH="1">
            <a:off x="5536800" y="4475160"/>
            <a:ext cx="1575000" cy="90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847080" y="825480"/>
            <a:ext cx="1620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 Head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3533040" y="831960"/>
            <a:ext cx="1620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 Head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7066800" y="831960"/>
            <a:ext cx="1620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 Head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949320"/>
            <a:ext cx="8991360" cy="487368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Interactive Concepts or Flow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521160" y="1068480"/>
            <a:ext cx="2044440" cy="855720"/>
          </a:xfrm>
          <a:prstGeom prst="rect">
            <a:avLst/>
          </a:prstGeom>
          <a:gradFill rotWithShape="0">
            <a:gsLst>
              <a:gs pos="0">
                <a:srgbClr val="fde193"/>
              </a:gs>
              <a:gs pos="100000">
                <a:srgbClr val="fcda78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521160" y="2567160"/>
            <a:ext cx="2044440" cy="85536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521160" y="4030560"/>
            <a:ext cx="2044440" cy="85572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4557600" y="195264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543560" y="342900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1003320" y="4030560"/>
            <a:ext cx="2044800" cy="85572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6035760" y="4030560"/>
            <a:ext cx="2044440" cy="85572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035760" y="2573280"/>
            <a:ext cx="2044440" cy="85572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136440" y="3720960"/>
            <a:ext cx="473040" cy="1473480"/>
          </a:xfrm>
          <a:prstGeom prst="rect">
            <a:avLst/>
          </a:prstGeom>
          <a:gradFill rotWithShape="0">
            <a:gsLst>
              <a:gs pos="0">
                <a:srgbClr val="febfcb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8464680" y="3720960"/>
            <a:ext cx="473040" cy="147348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未知"/>
          <p:cNvSpPr/>
          <p:nvPr/>
        </p:nvSpPr>
        <p:spPr>
          <a:xfrm>
            <a:off x="5614920" y="1500120"/>
            <a:ext cx="3073320" cy="2201760"/>
          </a:xfrm>
          <a:custGeom>
            <a:avLst/>
            <a:gdLst/>
            <a:ahLst/>
            <a:rect l="l" t="t" r="r" b="b"/>
            <a:pathLst>
              <a:path w="1936" h="1387">
                <a:moveTo>
                  <a:pt x="1935" y="1386"/>
                </a:moveTo>
                <a:lnTo>
                  <a:pt x="193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7058160" y="344340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3014640" y="445788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5610240" y="445788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8091360" y="4457880"/>
            <a:ext cx="36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647640" y="4471920"/>
            <a:ext cx="3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9600" y="2882880"/>
            <a:ext cx="65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8173800" y="5383080"/>
            <a:ext cx="65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6916680" y="1082520"/>
            <a:ext cx="65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Interactive Concepts or Flow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743200" y="2319480"/>
            <a:ext cx="3651120" cy="40748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20760" y="2319480"/>
            <a:ext cx="1787400" cy="40748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7035840" y="2319480"/>
            <a:ext cx="1787400" cy="40748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763720" y="806400"/>
            <a:ext cx="3616560" cy="13302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606600" y="2978280"/>
            <a:ext cx="1187280" cy="860400"/>
          </a:xfrm>
          <a:prstGeom prst="rect">
            <a:avLst/>
          </a:prstGeom>
          <a:gradFill rotWithShape="0">
            <a:gsLst>
              <a:gs pos="0">
                <a:srgbClr val="fec8d3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06600" y="4178160"/>
            <a:ext cx="1187280" cy="860400"/>
          </a:xfrm>
          <a:prstGeom prst="rect">
            <a:avLst/>
          </a:prstGeom>
          <a:gradFill rotWithShape="0">
            <a:gsLst>
              <a:gs pos="0">
                <a:srgbClr val="fec8d3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606600" y="5378400"/>
            <a:ext cx="1187280" cy="860400"/>
          </a:xfrm>
          <a:prstGeom prst="rect">
            <a:avLst/>
          </a:prstGeom>
          <a:gradFill rotWithShape="0">
            <a:gsLst>
              <a:gs pos="0">
                <a:srgbClr val="fec8d3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2978280" y="1112760"/>
            <a:ext cx="1187280" cy="860400"/>
          </a:xfrm>
          <a:prstGeom prst="rect">
            <a:avLst/>
          </a:prstGeom>
          <a:gradFill rotWithShape="0">
            <a:gsLst>
              <a:gs pos="0">
                <a:srgbClr val="90c9fc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4978440" y="1112760"/>
            <a:ext cx="1187280" cy="860400"/>
          </a:xfrm>
          <a:prstGeom prst="rect">
            <a:avLst/>
          </a:prstGeom>
          <a:gradFill rotWithShape="0">
            <a:gsLst>
              <a:gs pos="0">
                <a:srgbClr val="90c9fc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835520" y="2978280"/>
            <a:ext cx="1187280" cy="86040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4835520" y="4178160"/>
            <a:ext cx="1187280" cy="86040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4835520" y="5378400"/>
            <a:ext cx="1187280" cy="86040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7350120" y="2978280"/>
            <a:ext cx="1187280" cy="860400"/>
          </a:xfrm>
          <a:prstGeom prst="rect">
            <a:avLst/>
          </a:prstGeom>
          <a:gradFill rotWithShape="0">
            <a:gsLst>
              <a:gs pos="0">
                <a:srgbClr val="7ee9ff"/>
              </a:gs>
              <a:gs pos="100000">
                <a:srgbClr val="47e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7350120" y="4178160"/>
            <a:ext cx="1187280" cy="860400"/>
          </a:xfrm>
          <a:prstGeom prst="rect">
            <a:avLst/>
          </a:prstGeom>
          <a:gradFill rotWithShape="0">
            <a:gsLst>
              <a:gs pos="0">
                <a:srgbClr val="7ee9ff"/>
              </a:gs>
              <a:gs pos="100000">
                <a:srgbClr val="47e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7350120" y="5378400"/>
            <a:ext cx="1187280" cy="860400"/>
          </a:xfrm>
          <a:prstGeom prst="rect">
            <a:avLst/>
          </a:prstGeom>
          <a:gradFill rotWithShape="0">
            <a:gsLst>
              <a:gs pos="0">
                <a:srgbClr val="7ee9ff"/>
              </a:gs>
              <a:gs pos="100000">
                <a:srgbClr val="47e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3092400" y="2963880"/>
            <a:ext cx="1187640" cy="3273480"/>
          </a:xfrm>
          <a:prstGeom prst="rect">
            <a:avLst/>
          </a:prstGeom>
          <a:gradFill rotWithShape="0">
            <a:gsLst>
              <a:gs pos="0">
                <a:srgbClr val="bed3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1800360" y="3414600"/>
            <a:ext cx="12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1800360" y="4614840"/>
            <a:ext cx="12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Line 21"/>
          <p:cNvSpPr/>
          <p:nvPr/>
        </p:nvSpPr>
        <p:spPr>
          <a:xfrm>
            <a:off x="1800360" y="5829480"/>
            <a:ext cx="12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6029280" y="3414600"/>
            <a:ext cx="12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Line 23"/>
          <p:cNvSpPr/>
          <p:nvPr/>
        </p:nvSpPr>
        <p:spPr>
          <a:xfrm>
            <a:off x="6029280" y="4614840"/>
            <a:ext cx="12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6029280" y="5829480"/>
            <a:ext cx="12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2" name="Group 25"/>
          <p:cNvGrpSpPr/>
          <p:nvPr/>
        </p:nvGrpSpPr>
        <p:grpSpPr>
          <a:xfrm>
            <a:off x="4314960" y="3409920"/>
            <a:ext cx="485640" cy="2414520"/>
            <a:chOff x="4314960" y="3409920"/>
            <a:chExt cx="485640" cy="2414520"/>
          </a:xfrm>
        </p:grpSpPr>
        <p:sp>
          <p:nvSpPr>
            <p:cNvPr id="323" name="Line 26"/>
            <p:cNvSpPr/>
            <p:nvPr/>
          </p:nvSpPr>
          <p:spPr>
            <a:xfrm>
              <a:off x="4314960" y="340992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4314960" y="461016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>
              <a:off x="4314960" y="582444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26" name="Line 29"/>
          <p:cNvSpPr/>
          <p:nvPr/>
        </p:nvSpPr>
        <p:spPr>
          <a:xfrm>
            <a:off x="4172040" y="154296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Line 30"/>
          <p:cNvSpPr/>
          <p:nvPr/>
        </p:nvSpPr>
        <p:spPr>
          <a:xfrm flipV="1">
            <a:off x="4586400" y="1542600"/>
            <a:ext cx="0" cy="97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6 Part Process or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AutoShape 3"/>
          <p:cNvSpPr/>
          <p:nvPr/>
        </p:nvSpPr>
        <p:spPr>
          <a:xfrm rot="5400000">
            <a:off x="2836440" y="-61560"/>
            <a:ext cx="57456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AutoShape 4"/>
          <p:cNvSpPr/>
          <p:nvPr/>
        </p:nvSpPr>
        <p:spPr>
          <a:xfrm rot="5400000">
            <a:off x="3561840" y="664920"/>
            <a:ext cx="57456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AutoShape 5"/>
          <p:cNvSpPr/>
          <p:nvPr/>
        </p:nvSpPr>
        <p:spPr>
          <a:xfrm rot="5400000">
            <a:off x="4262040" y="1393560"/>
            <a:ext cx="57492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AutoShape 6"/>
          <p:cNvSpPr/>
          <p:nvPr/>
        </p:nvSpPr>
        <p:spPr>
          <a:xfrm rot="5400000">
            <a:off x="5052600" y="2182680"/>
            <a:ext cx="57456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AutoShape 7"/>
          <p:cNvSpPr/>
          <p:nvPr/>
        </p:nvSpPr>
        <p:spPr>
          <a:xfrm rot="5400000">
            <a:off x="5817600" y="2946240"/>
            <a:ext cx="57456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AutoShape 8"/>
          <p:cNvSpPr/>
          <p:nvPr/>
        </p:nvSpPr>
        <p:spPr>
          <a:xfrm rot="5400000">
            <a:off x="6621120" y="3722400"/>
            <a:ext cx="574920" cy="328320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. 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196920" y="882720"/>
            <a:ext cx="4692600" cy="5378400"/>
          </a:xfrm>
          <a:prstGeom prst="rtTriangl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85720" y="1297080"/>
            <a:ext cx="898560" cy="382320"/>
          </a:xfrm>
          <a:prstGeom prst="rightArrow">
            <a:avLst>
              <a:gd name="adj1" fmla="val 50000"/>
              <a:gd name="adj2" fmla="val 85992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1257480" y="2039760"/>
            <a:ext cx="898200" cy="382680"/>
          </a:xfrm>
          <a:prstGeom prst="rightArrow">
            <a:avLst>
              <a:gd name="adj1" fmla="val 50000"/>
              <a:gd name="adj2" fmla="val 8587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938240" y="277812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2619360" y="357336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3300480" y="4368960"/>
            <a:ext cx="898560" cy="382320"/>
          </a:xfrm>
          <a:prstGeom prst="rightArrow">
            <a:avLst>
              <a:gd name="adj1" fmla="val 50000"/>
              <a:gd name="adj2" fmla="val 85992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3938760" y="5135400"/>
            <a:ext cx="898200" cy="382680"/>
          </a:xfrm>
          <a:prstGeom prst="rightArrow">
            <a:avLst>
              <a:gd name="adj1" fmla="val 50000"/>
              <a:gd name="adj2" fmla="val 85877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未知"/>
          <p:cNvSpPr/>
          <p:nvPr/>
        </p:nvSpPr>
        <p:spPr>
          <a:xfrm>
            <a:off x="4668840" y="1457280"/>
            <a:ext cx="67644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5397480" y="2185920"/>
            <a:ext cx="67644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6097680" y="295740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6883560" y="371484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7655040" y="452916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7 Part Concept or Proces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AutoShape 3"/>
          <p:cNvSpPr/>
          <p:nvPr/>
        </p:nvSpPr>
        <p:spPr>
          <a:xfrm rot="5400000">
            <a:off x="2579760" y="-433440"/>
            <a:ext cx="574560" cy="328320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AutoShape 4"/>
          <p:cNvSpPr/>
          <p:nvPr/>
        </p:nvSpPr>
        <p:spPr>
          <a:xfrm rot="5400000">
            <a:off x="3304800" y="293400"/>
            <a:ext cx="57492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AutoShape 5"/>
          <p:cNvSpPr/>
          <p:nvPr/>
        </p:nvSpPr>
        <p:spPr>
          <a:xfrm rot="5400000">
            <a:off x="4005000" y="1022040"/>
            <a:ext cx="574920" cy="328320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AutoShape 6"/>
          <p:cNvSpPr/>
          <p:nvPr/>
        </p:nvSpPr>
        <p:spPr>
          <a:xfrm rot="5400000">
            <a:off x="4795920" y="1810800"/>
            <a:ext cx="574560" cy="328320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AutoShape 7"/>
          <p:cNvSpPr/>
          <p:nvPr/>
        </p:nvSpPr>
        <p:spPr>
          <a:xfrm rot="5400000">
            <a:off x="5560560" y="2574720"/>
            <a:ext cx="57456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AutoShape 8"/>
          <p:cNvSpPr/>
          <p:nvPr/>
        </p:nvSpPr>
        <p:spPr>
          <a:xfrm rot="5400000">
            <a:off x="6363720" y="3351240"/>
            <a:ext cx="57492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AutoShape 9"/>
          <p:cNvSpPr/>
          <p:nvPr/>
        </p:nvSpPr>
        <p:spPr>
          <a:xfrm rot="5400000">
            <a:off x="7032240" y="4125960"/>
            <a:ext cx="574920" cy="328284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oin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196920" y="882720"/>
            <a:ext cx="4692600" cy="5378400"/>
          </a:xfrm>
          <a:prstGeom prst="rtTriangle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328680" y="92556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1000080" y="1668600"/>
            <a:ext cx="898560" cy="382320"/>
          </a:xfrm>
          <a:prstGeom prst="rightArrow">
            <a:avLst>
              <a:gd name="adj1" fmla="val 50000"/>
              <a:gd name="adj2" fmla="val 85992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AutoShape 13"/>
          <p:cNvSpPr/>
          <p:nvPr/>
        </p:nvSpPr>
        <p:spPr>
          <a:xfrm>
            <a:off x="1681200" y="240660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2362320" y="320184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AutoShape 15"/>
          <p:cNvSpPr/>
          <p:nvPr/>
        </p:nvSpPr>
        <p:spPr>
          <a:xfrm>
            <a:off x="3043080" y="3997440"/>
            <a:ext cx="898560" cy="382320"/>
          </a:xfrm>
          <a:prstGeom prst="rightArrow">
            <a:avLst>
              <a:gd name="adj1" fmla="val 50000"/>
              <a:gd name="adj2" fmla="val 85992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AutoShape 16"/>
          <p:cNvSpPr/>
          <p:nvPr/>
        </p:nvSpPr>
        <p:spPr>
          <a:xfrm>
            <a:off x="3681360" y="4764240"/>
            <a:ext cx="898560" cy="382320"/>
          </a:xfrm>
          <a:prstGeom prst="rightArrow">
            <a:avLst>
              <a:gd name="adj1" fmla="val 50000"/>
              <a:gd name="adj2" fmla="val 85992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AutoShape 17"/>
          <p:cNvSpPr/>
          <p:nvPr/>
        </p:nvSpPr>
        <p:spPr>
          <a:xfrm>
            <a:off x="4405320" y="5545080"/>
            <a:ext cx="898560" cy="382680"/>
          </a:xfrm>
          <a:prstGeom prst="rightArrow">
            <a:avLst>
              <a:gd name="adj1" fmla="val 50000"/>
              <a:gd name="adj2" fmla="val 85911"/>
            </a:avLst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4411800" y="108576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未知"/>
          <p:cNvSpPr/>
          <p:nvPr/>
        </p:nvSpPr>
        <p:spPr>
          <a:xfrm>
            <a:off x="5140440" y="181440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未知"/>
          <p:cNvSpPr/>
          <p:nvPr/>
        </p:nvSpPr>
        <p:spPr>
          <a:xfrm>
            <a:off x="5840280" y="2585880"/>
            <a:ext cx="67644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未知"/>
          <p:cNvSpPr/>
          <p:nvPr/>
        </p:nvSpPr>
        <p:spPr>
          <a:xfrm>
            <a:off x="6626160" y="3343320"/>
            <a:ext cx="67644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未知"/>
          <p:cNvSpPr/>
          <p:nvPr/>
        </p:nvSpPr>
        <p:spPr>
          <a:xfrm>
            <a:off x="7397640" y="4157640"/>
            <a:ext cx="67644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未知"/>
          <p:cNvSpPr/>
          <p:nvPr/>
        </p:nvSpPr>
        <p:spPr>
          <a:xfrm>
            <a:off x="8197920" y="4900680"/>
            <a:ext cx="676080" cy="615960"/>
          </a:xfrm>
          <a:custGeom>
            <a:avLst/>
            <a:gdLst/>
            <a:ahLst/>
            <a:rect l="l" t="t" r="r" b="b"/>
            <a:pathLst>
              <a:path w="426" h="388">
                <a:moveTo>
                  <a:pt x="425" y="287"/>
                </a:moveTo>
                <a:lnTo>
                  <a:pt x="318" y="387"/>
                </a:lnTo>
                <a:lnTo>
                  <a:pt x="211" y="288"/>
                </a:lnTo>
                <a:lnTo>
                  <a:pt x="263" y="288"/>
                </a:lnTo>
                <a:lnTo>
                  <a:pt x="263" y="131"/>
                </a:lnTo>
                <a:lnTo>
                  <a:pt x="258" y="111"/>
                </a:lnTo>
                <a:lnTo>
                  <a:pt x="256" y="114"/>
                </a:lnTo>
                <a:lnTo>
                  <a:pt x="257" y="105"/>
                </a:lnTo>
                <a:lnTo>
                  <a:pt x="239" y="97"/>
                </a:lnTo>
                <a:lnTo>
                  <a:pt x="216" y="97"/>
                </a:lnTo>
                <a:lnTo>
                  <a:pt x="0" y="97"/>
                </a:lnTo>
                <a:lnTo>
                  <a:pt x="0" y="0"/>
                </a:lnTo>
                <a:lnTo>
                  <a:pt x="223" y="0"/>
                </a:lnTo>
                <a:lnTo>
                  <a:pt x="253" y="0"/>
                </a:lnTo>
                <a:lnTo>
                  <a:pt x="267" y="4"/>
                </a:lnTo>
                <a:lnTo>
                  <a:pt x="284" y="4"/>
                </a:lnTo>
                <a:lnTo>
                  <a:pt x="297" y="6"/>
                </a:lnTo>
                <a:lnTo>
                  <a:pt x="307" y="8"/>
                </a:lnTo>
                <a:lnTo>
                  <a:pt x="317" y="10"/>
                </a:lnTo>
                <a:lnTo>
                  <a:pt x="337" y="24"/>
                </a:lnTo>
                <a:lnTo>
                  <a:pt x="327" y="16"/>
                </a:lnTo>
                <a:lnTo>
                  <a:pt x="348" y="31"/>
                </a:lnTo>
                <a:lnTo>
                  <a:pt x="362" y="48"/>
                </a:lnTo>
                <a:lnTo>
                  <a:pt x="366" y="66"/>
                </a:lnTo>
                <a:lnTo>
                  <a:pt x="366" y="96"/>
                </a:lnTo>
                <a:lnTo>
                  <a:pt x="366" y="288"/>
                </a:lnTo>
                <a:lnTo>
                  <a:pt x="425" y="287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4572000" y="4863960"/>
            <a:ext cx="2647800" cy="819360"/>
          </a:xfrm>
          <a:prstGeom prst="rightArrow">
            <a:avLst>
              <a:gd name="adj1" fmla="val 50000"/>
              <a:gd name="adj2" fmla="val 61339"/>
            </a:avLst>
          </a:prstGeom>
          <a:gradFill rotWithShape="0">
            <a:gsLst>
              <a:gs pos="0">
                <a:srgbClr val="ffffff"/>
              </a:gs>
              <a:gs pos="100000">
                <a:srgbClr val="3793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924200" y="4857840"/>
            <a:ext cx="2647800" cy="819000"/>
          </a:xfrm>
          <a:prstGeom prst="leftArrow">
            <a:avLst>
              <a:gd name="adj1" fmla="val 50000"/>
              <a:gd name="adj2" fmla="val 61336"/>
            </a:avLst>
          </a:prstGeom>
          <a:gradFill rotWithShape="0">
            <a:gsLst>
              <a:gs pos="0">
                <a:srgbClr val="37939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27480" y="510840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77800" y="5108400"/>
            <a:ext cx="7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320840" y="1682640"/>
            <a:ext cx="2158920" cy="2768760"/>
          </a:xfrm>
          <a:prstGeom prst="rect">
            <a:avLst/>
          </a:prstGeom>
          <a:solidFill>
            <a:srgbClr val="47e0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492360" y="1682640"/>
            <a:ext cx="2159280" cy="2768760"/>
          </a:xfrm>
          <a:prstGeom prst="rect">
            <a:avLst/>
          </a:prstGeom>
          <a:solidFill>
            <a:srgbClr val="61b2f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664240" y="1682640"/>
            <a:ext cx="2158920" cy="2768760"/>
          </a:xfrm>
          <a:prstGeom prst="rect">
            <a:avLst/>
          </a:prstGeom>
          <a:solidFill>
            <a:srgbClr val="a3a9fd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未知"/>
          <p:cNvSpPr/>
          <p:nvPr/>
        </p:nvSpPr>
        <p:spPr>
          <a:xfrm>
            <a:off x="352440" y="3438360"/>
            <a:ext cx="4119480" cy="2856240"/>
          </a:xfrm>
          <a:custGeom>
            <a:avLst/>
            <a:gdLst/>
            <a:ahLst/>
            <a:rect l="l" t="t" r="r" b="b"/>
            <a:pathLst>
              <a:path w="2206" h="2638">
                <a:moveTo>
                  <a:pt x="162" y="0"/>
                </a:moveTo>
                <a:lnTo>
                  <a:pt x="162" y="774"/>
                </a:lnTo>
                <a:lnTo>
                  <a:pt x="540" y="774"/>
                </a:lnTo>
                <a:lnTo>
                  <a:pt x="540" y="684"/>
                </a:lnTo>
                <a:lnTo>
                  <a:pt x="756" y="864"/>
                </a:lnTo>
                <a:lnTo>
                  <a:pt x="549" y="1044"/>
                </a:lnTo>
                <a:lnTo>
                  <a:pt x="549" y="954"/>
                </a:lnTo>
                <a:lnTo>
                  <a:pt x="162" y="954"/>
                </a:lnTo>
                <a:lnTo>
                  <a:pt x="162" y="1602"/>
                </a:lnTo>
                <a:lnTo>
                  <a:pt x="1314" y="1602"/>
                </a:lnTo>
                <a:lnTo>
                  <a:pt x="1314" y="1512"/>
                </a:lnTo>
                <a:lnTo>
                  <a:pt x="1530" y="1692"/>
                </a:lnTo>
                <a:lnTo>
                  <a:pt x="1314" y="1872"/>
                </a:lnTo>
                <a:lnTo>
                  <a:pt x="1314" y="1782"/>
                </a:lnTo>
                <a:lnTo>
                  <a:pt x="162" y="1782"/>
                </a:lnTo>
                <a:lnTo>
                  <a:pt x="162" y="2367"/>
                </a:lnTo>
                <a:lnTo>
                  <a:pt x="1989" y="2367"/>
                </a:lnTo>
                <a:lnTo>
                  <a:pt x="1989" y="2268"/>
                </a:lnTo>
                <a:lnTo>
                  <a:pt x="2205" y="2457"/>
                </a:lnTo>
                <a:lnTo>
                  <a:pt x="1989" y="2637"/>
                </a:lnTo>
                <a:lnTo>
                  <a:pt x="1989" y="2547"/>
                </a:lnTo>
                <a:lnTo>
                  <a:pt x="0" y="2547"/>
                </a:lnTo>
                <a:lnTo>
                  <a:pt x="0" y="0"/>
                </a:lnTo>
                <a:lnTo>
                  <a:pt x="162" y="0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未知"/>
          <p:cNvSpPr/>
          <p:nvPr/>
        </p:nvSpPr>
        <p:spPr>
          <a:xfrm>
            <a:off x="3949560" y="136440"/>
            <a:ext cx="4641840" cy="3692520"/>
          </a:xfrm>
          <a:custGeom>
            <a:avLst/>
            <a:gdLst/>
            <a:ahLst/>
            <a:rect l="l" t="t" r="r" b="b"/>
            <a:pathLst>
              <a:path w="2485" h="3412">
                <a:moveTo>
                  <a:pt x="2484" y="3321"/>
                </a:moveTo>
                <a:lnTo>
                  <a:pt x="2484" y="0"/>
                </a:lnTo>
                <a:lnTo>
                  <a:pt x="2322" y="0"/>
                </a:lnTo>
                <a:lnTo>
                  <a:pt x="2322" y="774"/>
                </a:lnTo>
                <a:lnTo>
                  <a:pt x="1944" y="774"/>
                </a:lnTo>
                <a:lnTo>
                  <a:pt x="1944" y="684"/>
                </a:lnTo>
                <a:lnTo>
                  <a:pt x="1728" y="873"/>
                </a:lnTo>
                <a:lnTo>
                  <a:pt x="1935" y="1044"/>
                </a:lnTo>
                <a:lnTo>
                  <a:pt x="1935" y="954"/>
                </a:lnTo>
                <a:lnTo>
                  <a:pt x="2322" y="954"/>
                </a:lnTo>
                <a:lnTo>
                  <a:pt x="2322" y="1602"/>
                </a:lnTo>
                <a:lnTo>
                  <a:pt x="1161" y="1602"/>
                </a:lnTo>
                <a:lnTo>
                  <a:pt x="1161" y="1512"/>
                </a:lnTo>
                <a:lnTo>
                  <a:pt x="963" y="1692"/>
                </a:lnTo>
                <a:lnTo>
                  <a:pt x="1170" y="1872"/>
                </a:lnTo>
                <a:lnTo>
                  <a:pt x="1170" y="1782"/>
                </a:lnTo>
                <a:lnTo>
                  <a:pt x="2322" y="1782"/>
                </a:lnTo>
                <a:lnTo>
                  <a:pt x="2322" y="2367"/>
                </a:lnTo>
                <a:lnTo>
                  <a:pt x="495" y="2367"/>
                </a:lnTo>
                <a:lnTo>
                  <a:pt x="495" y="2268"/>
                </a:lnTo>
                <a:lnTo>
                  <a:pt x="279" y="2457"/>
                </a:lnTo>
                <a:lnTo>
                  <a:pt x="495" y="2637"/>
                </a:lnTo>
                <a:lnTo>
                  <a:pt x="504" y="2547"/>
                </a:lnTo>
                <a:lnTo>
                  <a:pt x="2322" y="2547"/>
                </a:lnTo>
                <a:lnTo>
                  <a:pt x="2322" y="3141"/>
                </a:lnTo>
                <a:lnTo>
                  <a:pt x="216" y="3141"/>
                </a:lnTo>
                <a:lnTo>
                  <a:pt x="216" y="3051"/>
                </a:lnTo>
                <a:lnTo>
                  <a:pt x="0" y="3240"/>
                </a:lnTo>
                <a:lnTo>
                  <a:pt x="216" y="3411"/>
                </a:lnTo>
                <a:lnTo>
                  <a:pt x="216" y="3321"/>
                </a:lnTo>
                <a:lnTo>
                  <a:pt x="2484" y="3321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AutoShape 4"/>
          <p:cNvSpPr/>
          <p:nvPr/>
        </p:nvSpPr>
        <p:spPr>
          <a:xfrm rot="5400000">
            <a:off x="1886760" y="1923120"/>
            <a:ext cx="550800" cy="3257280"/>
          </a:xfrm>
          <a:prstGeom prst="cube">
            <a:avLst>
              <a:gd name="adj" fmla="val 16074"/>
            </a:avLst>
          </a:prstGeom>
          <a:solidFill>
            <a:srgbClr val="fda4b5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AutoShape 5"/>
          <p:cNvSpPr/>
          <p:nvPr/>
        </p:nvSpPr>
        <p:spPr>
          <a:xfrm rot="5400000">
            <a:off x="2344680" y="1083960"/>
            <a:ext cx="549360" cy="3257280"/>
          </a:xfrm>
          <a:prstGeom prst="cube">
            <a:avLst>
              <a:gd name="adj" fmla="val 16074"/>
            </a:avLst>
          </a:prstGeom>
          <a:solidFill>
            <a:srgbClr val="a2c1fe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AutoShape 6"/>
          <p:cNvSpPr/>
          <p:nvPr/>
        </p:nvSpPr>
        <p:spPr>
          <a:xfrm rot="5400000">
            <a:off x="3181680" y="2761200"/>
            <a:ext cx="550800" cy="3257640"/>
          </a:xfrm>
          <a:prstGeom prst="cube">
            <a:avLst>
              <a:gd name="adj" fmla="val 16074"/>
            </a:avLst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AutoShape 7"/>
          <p:cNvSpPr/>
          <p:nvPr/>
        </p:nvSpPr>
        <p:spPr>
          <a:xfrm rot="5400000">
            <a:off x="3639240" y="322920"/>
            <a:ext cx="549000" cy="3255840"/>
          </a:xfrm>
          <a:prstGeom prst="cube">
            <a:avLst>
              <a:gd name="adj" fmla="val 16074"/>
            </a:avLst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AutoShape 8"/>
          <p:cNvSpPr/>
          <p:nvPr/>
        </p:nvSpPr>
        <p:spPr>
          <a:xfrm rot="5400000">
            <a:off x="4553640" y="3599640"/>
            <a:ext cx="549360" cy="3255840"/>
          </a:xfrm>
          <a:prstGeom prst="cube">
            <a:avLst>
              <a:gd name="adj" fmla="val 16074"/>
            </a:avLst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AutoShape 9"/>
          <p:cNvSpPr/>
          <p:nvPr/>
        </p:nvSpPr>
        <p:spPr>
          <a:xfrm rot="5400000">
            <a:off x="5849640" y="4437000"/>
            <a:ext cx="549000" cy="3257640"/>
          </a:xfrm>
          <a:prstGeom prst="cube">
            <a:avLst>
              <a:gd name="adj" fmla="val 16074"/>
            </a:avLst>
          </a:prstGeom>
          <a:solidFill>
            <a:srgbClr val="a3f25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AutoShape 10"/>
          <p:cNvSpPr/>
          <p:nvPr/>
        </p:nvSpPr>
        <p:spPr>
          <a:xfrm rot="5400000">
            <a:off x="5011560" y="-592200"/>
            <a:ext cx="549000" cy="3257640"/>
          </a:xfrm>
          <a:prstGeom prst="cube">
            <a:avLst>
              <a:gd name="adj" fmla="val 16074"/>
            </a:avLst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itl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and 4 Part List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9 Part Flow or Process Char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30120" y="5626080"/>
            <a:ext cx="3683160" cy="67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30120" y="4483080"/>
            <a:ext cx="3683160" cy="67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30120" y="3340080"/>
            <a:ext cx="3683160" cy="67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0120" y="2197080"/>
            <a:ext cx="3683160" cy="67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30120" y="1054080"/>
            <a:ext cx="3683160" cy="673200"/>
          </a:xfrm>
          <a:prstGeom prst="rect">
            <a:avLst/>
          </a:prstGeom>
          <a:gradFill rotWithShape="0">
            <a:gsLst>
              <a:gs pos="0">
                <a:srgbClr val="b0d8fd"/>
              </a:gs>
              <a:gs pos="100000">
                <a:srgbClr val="61b2f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a6b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2044800" y="1987560"/>
            <a:ext cx="253800" cy="25416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2044800" y="3149640"/>
            <a:ext cx="25380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2044800" y="4311720"/>
            <a:ext cx="25380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2044800" y="5473800"/>
            <a:ext cx="25380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5073480" y="5454720"/>
            <a:ext cx="3683160" cy="673200"/>
          </a:xfrm>
          <a:prstGeom prst="rect">
            <a:avLst/>
          </a:prstGeom>
          <a:gradFill rotWithShape="0">
            <a:gsLst>
              <a:gs pos="0">
                <a:srgbClr val="e9c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5073480" y="4311720"/>
            <a:ext cx="3683160" cy="673200"/>
          </a:xfrm>
          <a:prstGeom prst="rect">
            <a:avLst/>
          </a:prstGeom>
          <a:gradFill rotWithShape="0">
            <a:gsLst>
              <a:gs pos="0">
                <a:srgbClr val="e9c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5073480" y="3168720"/>
            <a:ext cx="3683160" cy="673200"/>
          </a:xfrm>
          <a:prstGeom prst="rect">
            <a:avLst/>
          </a:prstGeom>
          <a:gradFill rotWithShape="0">
            <a:gsLst>
              <a:gs pos="0">
                <a:srgbClr val="e9c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5073480" y="2025720"/>
            <a:ext cx="3683160" cy="673200"/>
          </a:xfrm>
          <a:prstGeom prst="rect">
            <a:avLst/>
          </a:prstGeom>
          <a:gradFill rotWithShape="0">
            <a:gsLst>
              <a:gs pos="0">
                <a:srgbClr val="e9c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f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6788160" y="181620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6788160" y="294012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788160" y="410220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6788160" y="5264280"/>
            <a:ext cx="254160" cy="253800"/>
          </a:xfrm>
          <a:prstGeom prst="ellipse">
            <a:avLst/>
          </a:prstGeom>
          <a:solidFill>
            <a:srgbClr val="090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2158920" y="1733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2158920" y="2889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2171880" y="4032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2171880" y="5175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6908760" y="27241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6908760" y="3854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690876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未知"/>
          <p:cNvSpPr/>
          <p:nvPr/>
        </p:nvSpPr>
        <p:spPr>
          <a:xfrm>
            <a:off x="2152800" y="1352520"/>
            <a:ext cx="4763880" cy="5221440"/>
          </a:xfrm>
          <a:custGeom>
            <a:avLst/>
            <a:gdLst/>
            <a:ahLst/>
            <a:rect l="l" t="t" r="r" b="b"/>
            <a:pathLst>
              <a:path w="3001" h="3289">
                <a:moveTo>
                  <a:pt x="0" y="3132"/>
                </a:moveTo>
                <a:lnTo>
                  <a:pt x="0" y="3288"/>
                </a:lnTo>
                <a:lnTo>
                  <a:pt x="1476" y="3288"/>
                </a:lnTo>
                <a:lnTo>
                  <a:pt x="1476" y="0"/>
                </a:lnTo>
                <a:lnTo>
                  <a:pt x="3000" y="0"/>
                </a:lnTo>
                <a:lnTo>
                  <a:pt x="3000" y="312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49f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3 Part Trends Concept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84040" y="4667400"/>
            <a:ext cx="8575920" cy="1612800"/>
          </a:xfrm>
          <a:prstGeom prst="rightArrow">
            <a:avLst>
              <a:gd name="adj1" fmla="val 50000"/>
              <a:gd name="adj2" fmla="val 52411"/>
            </a:avLst>
          </a:prstGeom>
          <a:gradFill rotWithShape="0">
            <a:gsLst>
              <a:gs pos="0">
                <a:srgbClr val="bec3fe"/>
              </a:gs>
              <a:gs pos="100000">
                <a:srgbClr val="a3a9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, Right Margin Flush for Bette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84040" y="844560"/>
            <a:ext cx="8575920" cy="1612800"/>
          </a:xfrm>
          <a:prstGeom prst="rightArrow">
            <a:avLst>
              <a:gd name="adj1" fmla="val 50000"/>
              <a:gd name="adj2" fmla="val 52411"/>
            </a:avLst>
          </a:prstGeom>
          <a:gradFill rotWithShape="0">
            <a:gsLst>
              <a:gs pos="0">
                <a:srgbClr val="7ee9ff"/>
              </a:gs>
              <a:gs pos="100000">
                <a:srgbClr val="47e0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our Text Here, Right Margin Flush for Bett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84040" y="2768760"/>
            <a:ext cx="8575920" cy="1612800"/>
          </a:xfrm>
          <a:prstGeom prst="rightArrow">
            <a:avLst>
              <a:gd name="adj1" fmla="val 50000"/>
              <a:gd name="adj2" fmla="val 52411"/>
            </a:avLst>
          </a:prstGeom>
          <a:gradFill rotWithShape="0">
            <a:gsLst>
              <a:gs pos="0">
                <a:srgbClr val="90c9fc"/>
              </a:gs>
              <a:gs pos="100000">
                <a:srgbClr val="61b2f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our Text Here, Right Margin Flush for Better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98520" y="1461960"/>
            <a:ext cx="14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e Tren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98520" y="3405240"/>
            <a:ext cx="188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econd Tren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98880" y="5310360"/>
            <a:ext cx="159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ird Trend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Diamond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835200" y="806400"/>
            <a:ext cx="7473600" cy="555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623960" y="860400"/>
            <a:ext cx="6102360" cy="5245200"/>
          </a:xfrm>
          <a:prstGeom prst="diamond">
            <a:avLst/>
          </a:prstGeom>
          <a:gradFill rotWithShape="0">
            <a:gsLst>
              <a:gs pos="0">
                <a:srgbClr val="eed8ff"/>
              </a:gs>
              <a:gs pos="100000">
                <a:srgbClr val="e3b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itle or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ading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Rectangle 5"/>
          <p:cNvSpPr/>
          <p:nvPr/>
        </p:nvSpPr>
        <p:spPr>
          <a:xfrm rot="19140000">
            <a:off x="1686240" y="1658520"/>
            <a:ext cx="240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Diagona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Rectangle 6"/>
          <p:cNvSpPr/>
          <p:nvPr/>
        </p:nvSpPr>
        <p:spPr>
          <a:xfrm rot="2460000">
            <a:off x="5285520" y="1644480"/>
            <a:ext cx="240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Diagona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Rectangle 7"/>
          <p:cNvSpPr/>
          <p:nvPr/>
        </p:nvSpPr>
        <p:spPr>
          <a:xfrm rot="19080000">
            <a:off x="5178600" y="4802040"/>
            <a:ext cx="240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Diagona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Rectangle 8"/>
          <p:cNvSpPr/>
          <p:nvPr/>
        </p:nvSpPr>
        <p:spPr>
          <a:xfrm rot="2460000">
            <a:off x="1727640" y="4745160"/>
            <a:ext cx="240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 Text He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Diagona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AutoShape 3"/>
          <p:cNvSpPr/>
          <p:nvPr/>
        </p:nvSpPr>
        <p:spPr>
          <a:xfrm rot="5400000">
            <a:off x="3006000" y="1720800"/>
            <a:ext cx="1771920" cy="2943000"/>
          </a:xfrm>
          <a:prstGeom prst="cube">
            <a:avLst>
              <a:gd name="adj" fmla="val 18250"/>
            </a:avLst>
          </a:prstGeom>
          <a:solidFill>
            <a:srgbClr val="47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AutoShape 4"/>
          <p:cNvSpPr/>
          <p:nvPr/>
        </p:nvSpPr>
        <p:spPr>
          <a:xfrm rot="5400000">
            <a:off x="3006360" y="3402000"/>
            <a:ext cx="1771560" cy="2943000"/>
          </a:xfrm>
          <a:prstGeom prst="cube">
            <a:avLst>
              <a:gd name="adj" fmla="val 18250"/>
            </a:avLst>
          </a:prstGeom>
          <a:solidFill>
            <a:srgbClr val="61b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AutoShape 5"/>
          <p:cNvSpPr/>
          <p:nvPr/>
        </p:nvSpPr>
        <p:spPr>
          <a:xfrm rot="5400000">
            <a:off x="5763600" y="1763640"/>
            <a:ext cx="1771920" cy="2857320"/>
          </a:xfrm>
          <a:prstGeom prst="cube">
            <a:avLst>
              <a:gd name="adj" fmla="val 18250"/>
            </a:avLst>
          </a:prstGeom>
          <a:solidFill>
            <a:srgbClr val="a3a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AutoShape 6"/>
          <p:cNvSpPr/>
          <p:nvPr/>
        </p:nvSpPr>
        <p:spPr>
          <a:xfrm rot="5400000">
            <a:off x="5779440" y="3471840"/>
            <a:ext cx="1771920" cy="2889000"/>
          </a:xfrm>
          <a:prstGeom prst="cube">
            <a:avLst>
              <a:gd name="adj" fmla="val 18250"/>
            </a:avLst>
          </a:prstGeom>
          <a:solidFill>
            <a:srgbClr val="d4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193920" y="1730520"/>
            <a:ext cx="1263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938920" y="1730520"/>
            <a:ext cx="1263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051000" y="1050840"/>
            <a:ext cx="30135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Label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263600" y="2706840"/>
            <a:ext cx="730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263600" y="4435560"/>
            <a:ext cx="730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 P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Rectangle 12"/>
          <p:cNvSpPr/>
          <p:nvPr/>
        </p:nvSpPr>
        <p:spPr>
          <a:xfrm rot="16200000">
            <a:off x="-819360" y="3637080"/>
            <a:ext cx="30135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 Point Label Her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4 Part Concept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572000" y="4863960"/>
            <a:ext cx="2647800" cy="819360"/>
          </a:xfrm>
          <a:prstGeom prst="rightArrow">
            <a:avLst>
              <a:gd name="adj1" fmla="val 50000"/>
              <a:gd name="adj2" fmla="val 61339"/>
            </a:avLst>
          </a:prstGeom>
          <a:gradFill rotWithShape="0">
            <a:gsLst>
              <a:gs pos="0">
                <a:srgbClr val="ffffff"/>
              </a:gs>
              <a:gs pos="100000">
                <a:srgbClr val="3793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924200" y="4857840"/>
            <a:ext cx="2647800" cy="819000"/>
          </a:xfrm>
          <a:prstGeom prst="leftArrow">
            <a:avLst>
              <a:gd name="adj1" fmla="val 50000"/>
              <a:gd name="adj2" fmla="val 61336"/>
            </a:avLst>
          </a:prstGeom>
          <a:gradFill rotWithShape="0">
            <a:gsLst>
              <a:gs pos="0">
                <a:srgbClr val="37939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27480" y="510840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777800" y="5108400"/>
            <a:ext cx="7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320840" y="1682640"/>
            <a:ext cx="1778040" cy="2768760"/>
          </a:xfrm>
          <a:prstGeom prst="rect">
            <a:avLst/>
          </a:prstGeom>
          <a:solidFill>
            <a:srgbClr val="47e0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111480" y="1682640"/>
            <a:ext cx="1778040" cy="2768760"/>
          </a:xfrm>
          <a:prstGeom prst="rect">
            <a:avLst/>
          </a:prstGeom>
          <a:solidFill>
            <a:srgbClr val="61b2fb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902120" y="1682640"/>
            <a:ext cx="1778040" cy="2768760"/>
          </a:xfrm>
          <a:prstGeom prst="rect">
            <a:avLst/>
          </a:prstGeom>
          <a:solidFill>
            <a:srgbClr val="a3a9fd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6692760" y="1682640"/>
            <a:ext cx="1778040" cy="2768760"/>
          </a:xfrm>
          <a:prstGeom prst="rect">
            <a:avLst/>
          </a:prstGeom>
          <a:solidFill>
            <a:srgbClr val="d49fff"/>
          </a:solidFill>
          <a:ln w="0">
            <a:noFil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Transformation Process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7840" y="806400"/>
            <a:ext cx="8788320" cy="55310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6600" y="1219320"/>
            <a:ext cx="7959600" cy="461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841920" y="2822400"/>
            <a:ext cx="1488960" cy="138600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212840" y="2819520"/>
            <a:ext cx="1488960" cy="1385640"/>
          </a:xfrm>
          <a:prstGeom prst="rect">
            <a:avLst/>
          </a:prstGeom>
          <a:gradFill rotWithShape="0">
            <a:gsLst>
              <a:gs pos="0">
                <a:srgbClr val="fdfece"/>
              </a:gs>
              <a:gs pos="100000">
                <a:srgbClr val="fcfe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442200" y="2819520"/>
            <a:ext cx="1488960" cy="138564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234240" y="868320"/>
            <a:ext cx="2701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place with Your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221640" y="5969160"/>
            <a:ext cx="2701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place with Your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206360" y="1506600"/>
            <a:ext cx="6731280" cy="630000"/>
          </a:xfrm>
          <a:prstGeom prst="rect">
            <a:avLst/>
          </a:prstGeom>
          <a:gradFill rotWithShape="0">
            <a:gsLst>
              <a:gs pos="0">
                <a:srgbClr val="ebd1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206360" y="4878360"/>
            <a:ext cx="6731280" cy="630360"/>
          </a:xfrm>
          <a:prstGeom prst="rect">
            <a:avLst/>
          </a:prstGeom>
          <a:gradFill rotWithShape="0">
            <a:gsLst>
              <a:gs pos="0">
                <a:srgbClr val="fddfb0"/>
              </a:gs>
              <a:gs pos="100000">
                <a:srgbClr val="fcd18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Rectangle 12"/>
          <p:cNvSpPr/>
          <p:nvPr/>
        </p:nvSpPr>
        <p:spPr>
          <a:xfrm rot="5400000">
            <a:off x="7434360" y="3351600"/>
            <a:ext cx="2701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place with Your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Rectangle 13"/>
          <p:cNvSpPr/>
          <p:nvPr/>
        </p:nvSpPr>
        <p:spPr>
          <a:xfrm rot="16200000">
            <a:off x="-952200" y="3351240"/>
            <a:ext cx="2701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place with Your 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714760" y="347184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5357880" y="3500280"/>
            <a:ext cx="105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Line 16"/>
          <p:cNvSpPr/>
          <p:nvPr/>
        </p:nvSpPr>
        <p:spPr>
          <a:xfrm flipV="1">
            <a:off x="4572000" y="2143080"/>
            <a:ext cx="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4557600" y="4200480"/>
            <a:ext cx="0" cy="657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 (Star Design)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1257480" y="1739880"/>
            <a:ext cx="6572160" cy="3968640"/>
          </a:xfrm>
          <a:custGeom>
            <a:avLst/>
            <a:gdLst/>
            <a:ahLst/>
            <a:rect l="l" t="t" r="r" b="b"/>
            <a:pathLst>
              <a:path w="4140" h="2500">
                <a:moveTo>
                  <a:pt x="467" y="2500"/>
                </a:moveTo>
                <a:lnTo>
                  <a:pt x="0" y="1112"/>
                </a:lnTo>
                <a:lnTo>
                  <a:pt x="2064" y="0"/>
                </a:lnTo>
                <a:lnTo>
                  <a:pt x="4140" y="1112"/>
                </a:lnTo>
                <a:lnTo>
                  <a:pt x="3635" y="2495"/>
                </a:lnTo>
                <a:lnTo>
                  <a:pt x="467" y="2495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21160" y="104616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892760" y="540396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178000" y="540396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724200" y="3368520"/>
            <a:ext cx="163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2271600" y="2154240"/>
            <a:ext cx="4416480" cy="3259080"/>
          </a:xfrm>
          <a:custGeom>
            <a:avLst/>
            <a:gdLst/>
            <a:ahLst/>
            <a:rect l="l" t="t" r="r" b="b"/>
            <a:pathLst>
              <a:path w="2782" h="2053">
                <a:moveTo>
                  <a:pt x="0" y="783"/>
                </a:moveTo>
                <a:lnTo>
                  <a:pt x="2781" y="783"/>
                </a:lnTo>
                <a:lnTo>
                  <a:pt x="540" y="2052"/>
                </a:lnTo>
                <a:lnTo>
                  <a:pt x="1386" y="0"/>
                </a:lnTo>
                <a:lnTo>
                  <a:pt x="2241" y="2043"/>
                </a:lnTo>
                <a:lnTo>
                  <a:pt x="0" y="783"/>
                </a:lnTo>
              </a:path>
            </a:pathLst>
          </a:custGeom>
          <a:noFill/>
          <a:ln cap="rnd"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80880" y="284652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708600" y="284652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ulim"/>
              </a:rPr>
              <a:t>5 Part Concept (Pentagon Design)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2743200" y="2112840"/>
            <a:ext cx="3659040" cy="3130560"/>
          </a:xfrm>
          <a:custGeom>
            <a:avLst/>
            <a:gdLst/>
            <a:ahLst/>
            <a:rect l="l" t="t" r="r" b="b"/>
            <a:pathLst>
              <a:path w="2305" h="1972">
                <a:moveTo>
                  <a:pt x="185" y="1971"/>
                </a:moveTo>
                <a:lnTo>
                  <a:pt x="0" y="879"/>
                </a:lnTo>
                <a:lnTo>
                  <a:pt x="1148" y="0"/>
                </a:lnTo>
                <a:lnTo>
                  <a:pt x="2304" y="879"/>
                </a:lnTo>
                <a:lnTo>
                  <a:pt x="2113" y="1971"/>
                </a:lnTo>
                <a:lnTo>
                  <a:pt x="185" y="1971"/>
                </a:lnTo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12600">
            <a:solidFill>
              <a:srgbClr val="000000"/>
            </a:solidFill>
            <a:bevel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47640" y="2924280"/>
            <a:ext cx="1901880" cy="1073160"/>
          </a:xfrm>
          <a:prstGeom prst="rect">
            <a:avLst/>
          </a:prstGeom>
          <a:gradFill rotWithShape="0">
            <a:gsLst>
              <a:gs pos="0">
                <a:srgbClr val="fdb6c4"/>
              </a:gs>
              <a:gs pos="100000">
                <a:srgbClr val="fda4b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564000" y="1628640"/>
            <a:ext cx="1901880" cy="1073160"/>
          </a:xfrm>
          <a:prstGeom prst="rect">
            <a:avLst/>
          </a:prstGeom>
          <a:gradFill rotWithShape="0">
            <a:gsLst>
              <a:gs pos="0">
                <a:srgbClr val="fde193"/>
              </a:gs>
              <a:gs pos="100000">
                <a:srgbClr val="fcda78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96000" y="2997360"/>
            <a:ext cx="1901880" cy="1073160"/>
          </a:xfrm>
          <a:prstGeom prst="rect">
            <a:avLst/>
          </a:prstGeom>
          <a:gradFill rotWithShape="0">
            <a:gsLst>
              <a:gs pos="0">
                <a:srgbClr val="b5cdfe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435640" y="4797360"/>
            <a:ext cx="1901880" cy="1073160"/>
          </a:xfrm>
          <a:prstGeom prst="rect">
            <a:avLst/>
          </a:prstGeom>
          <a:gradFill rotWithShape="0">
            <a:gsLst>
              <a:gs pos="0">
                <a:srgbClr val="b5f57f"/>
              </a:gs>
              <a:gs pos="100000">
                <a:srgbClr val="a3f25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908000" y="4797360"/>
            <a:ext cx="1901880" cy="1073160"/>
          </a:xfrm>
          <a:prstGeom prst="rect">
            <a:avLst/>
          </a:prstGeom>
          <a:gradFill rotWithShape="0">
            <a:gsLst>
              <a:gs pos="0">
                <a:srgbClr val="e9cbff"/>
              </a:gs>
              <a:gs pos="100000">
                <a:srgbClr val="e3be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885840" y="3227400"/>
            <a:ext cx="1373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 Poin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ere with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entering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7:49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3:54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