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0FF-19B8-43D2-AC72-F50085F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F6F-9956-4A1A-BF0D-759E863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F6C-BF28-44DE-9201-287459F7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D70-619E-4508-82C0-93A6210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9CA-677D-47C6-BE39-90ACEA1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5FD-E788-460A-AA73-1E8C100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5E7-3B3A-48AF-822F-625B065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34A-D7DD-4B45-89C3-7C3B05C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874-B79E-468A-A218-1A96E34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332-9C96-4759-80AC-975CF30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C85-EC45-4691-9CB0-7DE021B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423-AF7F-45E1-85B2-458C649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00E-C63B-4C85-B875-3D99B76DD8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2600" y="3934440"/>
            <a:ext cx="3826080" cy="3826440"/>
            <a:chOff x="642600" y="3934440"/>
            <a:chExt cx="3826080" cy="3826440"/>
          </a:xfrm>
        </p:grpSpPr>
        <p:sp>
          <p:nvSpPr>
            <p:cNvPr id="42" name="未知"/>
            <p:cNvSpPr/>
            <p:nvPr/>
          </p:nvSpPr>
          <p:spPr>
            <a:xfrm rot="13500000">
              <a:off x="1289520" y="4407840"/>
              <a:ext cx="2531880" cy="28792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 rot="13500000">
              <a:off x="1859760" y="4637880"/>
              <a:ext cx="1755000" cy="19980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 rot="2700000">
              <a:off x="2327760" y="4796640"/>
              <a:ext cx="1166040" cy="13266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501800" y="3026160"/>
            <a:ext cx="3826080" cy="3826440"/>
            <a:chOff x="4501800" y="3026160"/>
            <a:chExt cx="3826080" cy="3826440"/>
          </a:xfrm>
        </p:grpSpPr>
        <p:sp>
          <p:nvSpPr>
            <p:cNvPr id="46" name="未知"/>
            <p:cNvSpPr/>
            <p:nvPr/>
          </p:nvSpPr>
          <p:spPr>
            <a:xfrm rot="2700000">
              <a:off x="5148720" y="3499560"/>
              <a:ext cx="2531880" cy="28792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 rot="2700000">
              <a:off x="5355360" y="4150800"/>
              <a:ext cx="1755000" cy="19980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 rot="13500000">
              <a:off x="5476320" y="4663440"/>
              <a:ext cx="1166040" cy="13266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148360" y="2492280"/>
            <a:ext cx="1012680" cy="1152720"/>
            <a:chOff x="5148360" y="2492280"/>
            <a:chExt cx="1012680" cy="1152720"/>
          </a:xfrm>
        </p:grpSpPr>
        <p:sp>
          <p:nvSpPr>
            <p:cNvPr id="50" name="未知"/>
            <p:cNvSpPr/>
            <p:nvPr/>
          </p:nvSpPr>
          <p:spPr>
            <a:xfrm>
              <a:off x="5148360" y="2492280"/>
              <a:ext cx="1012680" cy="11527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311800" y="2779560"/>
              <a:ext cx="702000" cy="7999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10800000">
              <a:off x="5430240" y="3013200"/>
              <a:ext cx="466200" cy="5310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039920" y="791640"/>
            <a:ext cx="1974600" cy="1974600"/>
            <a:chOff x="4039920" y="791640"/>
            <a:chExt cx="1974600" cy="1974600"/>
          </a:xfrm>
        </p:grpSpPr>
        <p:sp>
          <p:nvSpPr>
            <p:cNvPr id="54" name="未知"/>
            <p:cNvSpPr/>
            <p:nvPr/>
          </p:nvSpPr>
          <p:spPr>
            <a:xfrm rot="2700000">
              <a:off x="4373640" y="1036080"/>
              <a:ext cx="1306800" cy="14857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 rot="2700000">
              <a:off x="4480560" y="1371960"/>
              <a:ext cx="905760" cy="10306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3500000">
              <a:off x="4542840" y="1635840"/>
              <a:ext cx="601560" cy="684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17440" y="-570600"/>
            <a:ext cx="3823920" cy="3823920"/>
            <a:chOff x="1117440" y="-570600"/>
            <a:chExt cx="3823920" cy="3823920"/>
          </a:xfrm>
        </p:grpSpPr>
        <p:sp>
          <p:nvSpPr>
            <p:cNvPr id="58" name="未知"/>
            <p:cNvSpPr/>
            <p:nvPr/>
          </p:nvSpPr>
          <p:spPr>
            <a:xfrm rot="18900000">
              <a:off x="1763280" y="-96480"/>
              <a:ext cx="2531880" cy="28760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 rot="18900000">
              <a:off x="2361960" y="524520"/>
              <a:ext cx="1755000" cy="19954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rot="8100000">
              <a:off x="2833200" y="1033560"/>
              <a:ext cx="1166040" cy="13251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08360" y="1413000"/>
            <a:ext cx="1265400" cy="1439640"/>
            <a:chOff x="3708360" y="1413000"/>
            <a:chExt cx="1265400" cy="1439640"/>
          </a:xfrm>
        </p:grpSpPr>
        <p:sp>
          <p:nvSpPr>
            <p:cNvPr id="62" name="未知"/>
            <p:cNvSpPr/>
            <p:nvPr/>
          </p:nvSpPr>
          <p:spPr>
            <a:xfrm>
              <a:off x="3708360" y="1413000"/>
              <a:ext cx="1265400" cy="14396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1015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3912480" y="1771920"/>
              <a:ext cx="876960" cy="9990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0800000">
              <a:off x="4061160" y="2063880"/>
              <a:ext cx="582480" cy="6631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89000" y="2603880"/>
            <a:ext cx="1435680" cy="1435680"/>
            <a:chOff x="2889000" y="2603880"/>
            <a:chExt cx="1435680" cy="1435680"/>
          </a:xfrm>
        </p:grpSpPr>
        <p:sp>
          <p:nvSpPr>
            <p:cNvPr id="66" name="未知"/>
            <p:cNvSpPr/>
            <p:nvPr/>
          </p:nvSpPr>
          <p:spPr>
            <a:xfrm rot="18900000">
              <a:off x="3132000" y="2781000"/>
              <a:ext cx="949320" cy="10810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3">
                <a:alphaModFix amt="34000"/>
              </a:blip>
              <a:srcRect/>
              <a:tile tx="0" ty="0" sx="100000" sy="100000" algn="ctr"/>
            </a:blipFill>
            <a:ln w="63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 rot="18900000">
              <a:off x="3356640" y="3014280"/>
              <a:ext cx="658080" cy="7502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4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 rot="8100000">
              <a:off x="3533040" y="3205800"/>
              <a:ext cx="437040" cy="4978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58880" y="2730240"/>
            <a:ext cx="1147320" cy="1146960"/>
            <a:chOff x="4358880" y="2730240"/>
            <a:chExt cx="1147320" cy="1146960"/>
          </a:xfrm>
        </p:grpSpPr>
        <p:sp>
          <p:nvSpPr>
            <p:cNvPr id="70" name="未知"/>
            <p:cNvSpPr/>
            <p:nvPr/>
          </p:nvSpPr>
          <p:spPr>
            <a:xfrm rot="2700000">
              <a:off x="4552920" y="2872080"/>
              <a:ext cx="758880" cy="8632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5">
                <a:alphaModFix amt="34000"/>
              </a:blip>
              <a:srcRect/>
              <a:tile tx="0" ty="0" sx="100000" sy="100000" algn="ctr"/>
            </a:blip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2700000">
              <a:off x="4614480" y="3066840"/>
              <a:ext cx="525960" cy="5990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6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13500000">
              <a:off x="4650840" y="3220560"/>
              <a:ext cx="349560" cy="3978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695040" y="3816720"/>
            <a:ext cx="689400" cy="689400"/>
            <a:chOff x="3695040" y="3816720"/>
            <a:chExt cx="689400" cy="689400"/>
          </a:xfrm>
        </p:grpSpPr>
        <p:sp>
          <p:nvSpPr>
            <p:cNvPr id="74" name="未知"/>
            <p:cNvSpPr/>
            <p:nvPr/>
          </p:nvSpPr>
          <p:spPr>
            <a:xfrm rot="13500000">
              <a:off x="3811680" y="3901680"/>
              <a:ext cx="455760" cy="5191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7">
                <a:alphaModFix amt="34000"/>
              </a:blip>
              <a:srcRect/>
              <a:tile tx="0" ty="0" sx="100000" sy="100000" algn="ctr"/>
            </a:blip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 rot="13500000">
              <a:off x="3913920" y="3943440"/>
              <a:ext cx="316080" cy="360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8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 rot="2700000">
              <a:off x="3998520" y="3972240"/>
              <a:ext cx="209880" cy="2390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59280" y="3860640"/>
            <a:ext cx="885960" cy="1008360"/>
            <a:chOff x="4859280" y="3860640"/>
            <a:chExt cx="885960" cy="1008360"/>
          </a:xfrm>
        </p:grpSpPr>
        <p:sp>
          <p:nvSpPr>
            <p:cNvPr id="78" name="未知"/>
            <p:cNvSpPr/>
            <p:nvPr/>
          </p:nvSpPr>
          <p:spPr>
            <a:xfrm>
              <a:off x="4859280" y="3860640"/>
              <a:ext cx="885960" cy="1008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9">
                <a:alphaModFix amt="71000"/>
              </a:blip>
              <a:srcRect/>
              <a:tile tx="0" ty="0" sx="100000" sy="100000" algn="ctr"/>
            </a:blipFill>
            <a:ln w="7632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5002200" y="4111920"/>
              <a:ext cx="614160" cy="6994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0">
                <a:alphaModFix amt="71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0800000">
              <a:off x="5105880" y="4316400"/>
              <a:ext cx="407880" cy="4644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32000" y="4221000"/>
            <a:ext cx="695520" cy="792360"/>
            <a:chOff x="3132000" y="4221000"/>
            <a:chExt cx="695520" cy="792360"/>
          </a:xfrm>
        </p:grpSpPr>
        <p:sp>
          <p:nvSpPr>
            <p:cNvPr id="82" name="未知"/>
            <p:cNvSpPr/>
            <p:nvPr/>
          </p:nvSpPr>
          <p:spPr>
            <a:xfrm>
              <a:off x="3132000" y="4221000"/>
              <a:ext cx="695520" cy="792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1">
                <a:alphaModFix amt="59000"/>
              </a:blip>
              <a:srcRect/>
              <a:tile tx="0" ty="0" sx="100000" sy="100000" algn="ctr"/>
            </a:blip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3244320" y="4418640"/>
              <a:ext cx="482040" cy="5497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2">
                <a:alphaModFix amt="5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0800000">
              <a:off x="3325680" y="4579200"/>
              <a:ext cx="320400" cy="3650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572000" y="4724280"/>
            <a:ext cx="316080" cy="360360"/>
            <a:chOff x="4572000" y="4724280"/>
            <a:chExt cx="316080" cy="360360"/>
          </a:xfrm>
        </p:grpSpPr>
        <p:sp>
          <p:nvSpPr>
            <p:cNvPr id="86" name="未知"/>
            <p:cNvSpPr/>
            <p:nvPr/>
          </p:nvSpPr>
          <p:spPr>
            <a:xfrm>
              <a:off x="4572000" y="4724280"/>
              <a:ext cx="316080" cy="360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3">
                <a:alphaModFix amt="34000"/>
              </a:blip>
              <a:srcRect/>
              <a:tile tx="0" ty="0" sx="100000" sy="100000" algn="ctr"/>
            </a:blipFill>
            <a:ln w="38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4622760" y="4813920"/>
              <a:ext cx="219240" cy="2502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4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 rot="10800000">
              <a:off x="4660200" y="4886640"/>
              <a:ext cx="145440" cy="1659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51280" y="4797360"/>
            <a:ext cx="442800" cy="503280"/>
            <a:chOff x="3851280" y="4797360"/>
            <a:chExt cx="442800" cy="503280"/>
          </a:xfrm>
        </p:grpSpPr>
        <p:sp>
          <p:nvSpPr>
            <p:cNvPr id="90" name="未知"/>
            <p:cNvSpPr/>
            <p:nvPr/>
          </p:nvSpPr>
          <p:spPr>
            <a:xfrm>
              <a:off x="3851280" y="4797360"/>
              <a:ext cx="442800" cy="5032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5">
                <a:alphaModFix amt="34000"/>
              </a:blip>
              <a:srcRect/>
              <a:tile tx="0" ty="0" sx="100000" sy="100000" algn="ctr"/>
            </a:blipFill>
            <a:ln w="255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922560" y="4922640"/>
              <a:ext cx="307080" cy="3492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6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rot="10800000">
              <a:off x="3974760" y="5024880"/>
              <a:ext cx="203760" cy="2318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890240" y="5074560"/>
            <a:ext cx="669240" cy="669240"/>
            <a:chOff x="4890240" y="5074560"/>
            <a:chExt cx="669240" cy="669240"/>
          </a:xfrm>
        </p:grpSpPr>
        <p:sp>
          <p:nvSpPr>
            <p:cNvPr id="94" name="未知"/>
            <p:cNvSpPr/>
            <p:nvPr/>
          </p:nvSpPr>
          <p:spPr>
            <a:xfrm rot="8100000">
              <a:off x="5003280" y="5157360"/>
              <a:ext cx="443160" cy="5032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7">
                <a:alphaModFix amt="34000"/>
              </a:blip>
              <a:srcRect/>
              <a:tile tx="0" ty="0" sx="100000" sy="100000" algn="ctr"/>
            </a:blip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rot="8100000">
              <a:off x="5034240" y="5203080"/>
              <a:ext cx="307080" cy="3492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8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rot="18900000">
              <a:off x="5055120" y="5231160"/>
              <a:ext cx="204120" cy="23184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55480" y="5390280"/>
            <a:ext cx="745200" cy="745200"/>
            <a:chOff x="3255480" y="5390280"/>
            <a:chExt cx="745200" cy="745200"/>
          </a:xfrm>
        </p:grpSpPr>
        <p:sp>
          <p:nvSpPr>
            <p:cNvPr id="98" name="未知"/>
            <p:cNvSpPr/>
            <p:nvPr/>
          </p:nvSpPr>
          <p:spPr>
            <a:xfrm rot="13500000">
              <a:off x="3381120" y="5482440"/>
              <a:ext cx="493560" cy="5605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19">
                <a:alphaModFix amt="34000"/>
              </a:blip>
              <a:srcRect/>
              <a:tile tx="0" ty="0" sx="100000" sy="100000" algn="ctr"/>
            </a:blipFill>
            <a:ln w="50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 rot="13500000">
              <a:off x="3492000" y="5527800"/>
              <a:ext cx="342000" cy="3888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blipFill rotWithShape="0">
              <a:blip r:embed="rId20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2700000">
              <a:off x="3583800" y="5559120"/>
              <a:ext cx="227160" cy="2581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333333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40000" y="2852640"/>
            <a:ext cx="1203480" cy="1368360"/>
            <a:chOff x="2340000" y="2852640"/>
            <a:chExt cx="1203480" cy="1368360"/>
          </a:xfrm>
        </p:grpSpPr>
        <p:sp>
          <p:nvSpPr>
            <p:cNvPr id="102" name="未知"/>
            <p:cNvSpPr/>
            <p:nvPr/>
          </p:nvSpPr>
          <p:spPr>
            <a:xfrm>
              <a:off x="2340000" y="2852640"/>
              <a:ext cx="1203480" cy="1368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534400" y="3193560"/>
              <a:ext cx="834120" cy="94932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10800000">
              <a:off x="2675160" y="3470760"/>
              <a:ext cx="554040" cy="63036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67320" y="4515120"/>
            <a:ext cx="897840" cy="897840"/>
            <a:chOff x="2767320" y="4515120"/>
            <a:chExt cx="897840" cy="897840"/>
          </a:xfrm>
        </p:grpSpPr>
        <p:sp>
          <p:nvSpPr>
            <p:cNvPr id="106" name="未知"/>
            <p:cNvSpPr/>
            <p:nvPr/>
          </p:nvSpPr>
          <p:spPr>
            <a:xfrm rot="13500000">
              <a:off x="2919240" y="4626000"/>
              <a:ext cx="593640" cy="6760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9d9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 rot="13500000">
              <a:off x="3053160" y="4680000"/>
              <a:ext cx="411480" cy="46908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d7d7d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 rot="2700000">
              <a:off x="3162960" y="4717440"/>
              <a:ext cx="273240" cy="311400"/>
            </a:xfrm>
            <a:custGeom>
              <a:avLst/>
              <a:gdLst/>
              <a:ahLst/>
              <a:rect l="l" t="t" r="r" b="b"/>
              <a:pathLst>
                <a:path w="1040" h="1183">
                  <a:moveTo>
                    <a:pt x="530" y="0"/>
                  </a:moveTo>
                  <a:lnTo>
                    <a:pt x="128" y="371"/>
                  </a:lnTo>
                  <a:lnTo>
                    <a:pt x="100" y="411"/>
                  </a:lnTo>
                  <a:lnTo>
                    <a:pt x="64" y="463"/>
                  </a:lnTo>
                  <a:lnTo>
                    <a:pt x="36" y="523"/>
                  </a:lnTo>
                  <a:lnTo>
                    <a:pt x="20" y="571"/>
                  </a:lnTo>
                  <a:lnTo>
                    <a:pt x="4" y="635"/>
                  </a:lnTo>
                  <a:lnTo>
                    <a:pt x="0" y="703"/>
                  </a:lnTo>
                  <a:lnTo>
                    <a:pt x="4" y="767"/>
                  </a:lnTo>
                  <a:lnTo>
                    <a:pt x="24" y="839"/>
                  </a:lnTo>
                  <a:lnTo>
                    <a:pt x="48" y="895"/>
                  </a:lnTo>
                  <a:lnTo>
                    <a:pt x="88" y="963"/>
                  </a:lnTo>
                  <a:lnTo>
                    <a:pt x="132" y="1015"/>
                  </a:lnTo>
                  <a:lnTo>
                    <a:pt x="188" y="1067"/>
                  </a:lnTo>
                  <a:lnTo>
                    <a:pt x="244" y="1103"/>
                  </a:lnTo>
                  <a:lnTo>
                    <a:pt x="296" y="1131"/>
                  </a:lnTo>
                  <a:lnTo>
                    <a:pt x="344" y="1147"/>
                  </a:lnTo>
                  <a:lnTo>
                    <a:pt x="404" y="1167"/>
                  </a:lnTo>
                  <a:lnTo>
                    <a:pt x="460" y="1175"/>
                  </a:lnTo>
                  <a:lnTo>
                    <a:pt x="524" y="1183"/>
                  </a:lnTo>
                  <a:lnTo>
                    <a:pt x="588" y="1175"/>
                  </a:lnTo>
                  <a:lnTo>
                    <a:pt x="624" y="1167"/>
                  </a:lnTo>
                  <a:lnTo>
                    <a:pt x="668" y="1155"/>
                  </a:lnTo>
                  <a:lnTo>
                    <a:pt x="704" y="1147"/>
                  </a:lnTo>
                  <a:lnTo>
                    <a:pt x="748" y="1131"/>
                  </a:lnTo>
                  <a:lnTo>
                    <a:pt x="800" y="1107"/>
                  </a:lnTo>
                  <a:lnTo>
                    <a:pt x="836" y="1083"/>
                  </a:lnTo>
                  <a:lnTo>
                    <a:pt x="876" y="1047"/>
                  </a:lnTo>
                  <a:lnTo>
                    <a:pt x="920" y="1003"/>
                  </a:lnTo>
                  <a:lnTo>
                    <a:pt x="952" y="971"/>
                  </a:lnTo>
                  <a:lnTo>
                    <a:pt x="980" y="919"/>
                  </a:lnTo>
                  <a:lnTo>
                    <a:pt x="1016" y="847"/>
                  </a:lnTo>
                  <a:lnTo>
                    <a:pt x="1036" y="771"/>
                  </a:lnTo>
                  <a:lnTo>
                    <a:pt x="1040" y="723"/>
                  </a:lnTo>
                  <a:lnTo>
                    <a:pt x="1040" y="667"/>
                  </a:lnTo>
                  <a:lnTo>
                    <a:pt x="1036" y="623"/>
                  </a:lnTo>
                  <a:lnTo>
                    <a:pt x="1024" y="571"/>
                  </a:lnTo>
                  <a:lnTo>
                    <a:pt x="1004" y="519"/>
                  </a:lnTo>
                  <a:lnTo>
                    <a:pt x="988" y="479"/>
                  </a:lnTo>
                  <a:lnTo>
                    <a:pt x="968" y="435"/>
                  </a:lnTo>
                  <a:lnTo>
                    <a:pt x="940" y="407"/>
                  </a:lnTo>
                  <a:cubicBezTo>
                    <a:pt x="907" y="370"/>
                    <a:pt x="924" y="371"/>
                    <a:pt x="904" y="371"/>
                  </a:cubicBezTo>
                  <a:lnTo>
                    <a:pt x="530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56000" y="2708280"/>
            <a:ext cx="0" cy="41497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3463920" y="4903920"/>
            <a:ext cx="892080" cy="1046160"/>
          </a:xfrm>
          <a:custGeom>
            <a:avLst/>
            <a:gdLst/>
            <a:ahLst/>
            <a:rect l="l" t="t" r="r" b="b"/>
            <a:pathLst>
              <a:path w="544" h="635">
                <a:moveTo>
                  <a:pt x="544" y="635"/>
                </a:moveTo>
                <a:lnTo>
                  <a:pt x="0" y="9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4356000" y="4724280"/>
            <a:ext cx="936720" cy="720720"/>
          </a:xfrm>
          <a:custGeom>
            <a:avLst/>
            <a:gdLst/>
            <a:ahLst/>
            <a:rect l="l" t="t" r="r" b="b"/>
            <a:pathLst>
              <a:path w="590" h="454">
                <a:moveTo>
                  <a:pt x="0" y="454"/>
                </a:moveTo>
                <a:lnTo>
                  <a:pt x="590" y="137"/>
                </a:lnTo>
                <a:lnTo>
                  <a:pt x="590" y="0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597120"/>
            <a:ext cx="460440" cy="460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46280" y="3529080"/>
            <a:ext cx="360360" cy="287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70280" y="5482800"/>
            <a:ext cx="141480" cy="144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300640"/>
            <a:ext cx="0" cy="360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973760" y="5135040"/>
            <a:ext cx="123840" cy="142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5013360"/>
            <a:ext cx="38160" cy="2635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240" y="907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色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9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9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9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9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7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8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8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7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2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2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2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2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0F4-42CD-414C-905C-4226D9B3E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4:28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11:33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