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F74-677A-4545-8845-1AD58F8D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6DD-D19D-4B81-9949-825F98D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DC2-1F1C-4B80-AE87-0C2011A7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B1E-2BA2-4BA2-8CC4-7B0CB04D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CFBA-40B5-4C09-9148-BE80FB0C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FAA3-2547-4235-A6C4-21E7FCB5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142-6D36-4DF2-89F6-BFD8D03A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7ABC-9D28-45C7-8031-85EB688D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4F68-D78B-4EBA-8C1E-C3FCE8C6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4DD-81AD-44D7-B1DC-0D917AD2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702B-7454-4DDB-883C-6106D464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C42-7F5F-4782-A651-AF46497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BFB2-20C7-4A8E-8470-6352CD8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FC1C-D28F-43F6-B6FD-BEA6CBA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68EA-E1BE-43E5-85A4-FF269075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72F8-0848-4915-BAEF-A374BEF5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F5EB-F744-4BAB-ABA7-5B9DA6EC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A2F-7F09-45F9-A53D-B6DBA833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49B-0029-423E-81BD-FD44ED9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6C3-E6F2-4702-955E-EF9AD69A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5A1-1A28-44A4-836C-CA1B00D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AB9-5130-491B-ABFF-D79FA79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3FC-F02F-4A67-8A09-89DD9EF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856-7007-4614-86AC-AB9D261E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8705-B979-42D7-A31A-84B6D296EC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4410-5DB7-4BC5-AB67-E264AE029E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011F-B0B6-4822-8C7B-CB612BF309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A54C-1825-413D-947E-93C73B1D08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50920" y="133992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rcRect l="0" t="3203" r="0" b="35456"/>
          <a:stretch/>
        </p:blipFill>
        <p:spPr>
          <a:xfrm>
            <a:off x="-9360" y="9360"/>
            <a:ext cx="91422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3851280" y="18651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3991320" y="2562120"/>
            <a:ext cx="6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gency FB"/>
                <a:ea typeface="宋体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gency FB"/>
              </a:rPr>
              <a:t>  </a:t>
            </a:r>
            <a:r>
              <a:rPr b="0" lang="zh-CN" sz="3200" spc="-1" strike="noStrike">
                <a:solidFill>
                  <a:srgbClr val="0070c0"/>
                </a:solidFill>
                <a:latin typeface="Agency FB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6"/>
          <p:cNvSpPr/>
          <p:nvPr/>
        </p:nvSpPr>
        <p:spPr>
          <a:xfrm>
            <a:off x="3924360" y="2701800"/>
            <a:ext cx="504036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680400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738036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95672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853272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0" y="4741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1520" y="7812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船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rcRect l="0" t="9640" r="0" b="0"/>
          <a:stretch/>
        </p:blipFill>
        <p:spPr>
          <a:xfrm>
            <a:off x="-2023920" y="-162000"/>
            <a:ext cx="11564640" cy="653112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4295880" y="555480"/>
            <a:ext cx="529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4"/>
          <p:cNvSpPr/>
          <p:nvPr/>
        </p:nvSpPr>
        <p:spPr>
          <a:xfrm>
            <a:off x="3995640" y="555480"/>
            <a:ext cx="180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916360" y="555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&gt;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4282920" y="1441440"/>
            <a:ext cx="478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09760" y="482436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9B1-BFFF-4CD6-AFB0-402A8D34D6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23:31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08:33Z</dcterms:modified>
  <cp:revision>2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