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FD0-B56D-4892-AAC3-A2650A54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3C4-79B4-4433-A001-0CCB1E37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59A4E-158D-40D1-BF1D-A923A726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BCBBD-7A3A-475C-B7E2-F107A936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A0FB0-E73E-4DF1-8DE8-E975B414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9BAF5-2096-4472-8BC5-D5EF42FC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DD780-6ECC-4CCF-B655-F03A6360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82253-9FCD-4008-B4C2-870953F8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D0425-0CD5-4B95-B2AF-7CD9FBCA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F9FC2-5746-4806-A2AA-19A70411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2DBAB-9BEF-48C3-A4C8-59DFBF13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E606A-2C9A-4A33-A438-DB9483BC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33C-CD68-45CD-9E35-4445C07A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1D779-478D-4397-A66B-F719D867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73CA8-D97D-4ADC-8C94-F1E59195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08E2C-80DD-4980-A62B-C393BD86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983C8-584D-430B-B4C4-F77EC9B2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CCAA3-9C36-4004-94F4-772FE25C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152B8-484A-4434-81D8-633C7009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F7B19-F035-4B75-BC31-9BECA967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8F166-6338-4F06-BD09-13A2A902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8E96B-B8E9-43CD-ABD0-13FC2797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D348C-7590-4373-9D07-109AE2E9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758-B9F9-41BD-9AB0-4CF51497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DAC22-CACE-4502-BEEB-A6B2547D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A43C4-686A-49CD-BF01-36D2EB6E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4606C-661C-4AC9-A7D7-211F29E9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DEE3B-DB62-4D13-8367-57835E4F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A3A69-4B15-4766-B529-AA73B94A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D11ED-18DC-4855-A0B0-0C01C30B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23469-CD86-46AD-85BC-C57403D2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8083F-E942-44AD-A380-3BBDAF54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FC096-2C7C-46E5-B997-D7C69C7E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24167-5D82-4ACD-816D-619EA218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5F7D-E727-4F8D-90E4-01627606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2CF07-30E8-43B6-8893-5F24E1E6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4D179-CCF1-4B69-8D61-0A557674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82AEF-4FD7-457F-87B0-95603A3F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C7AA5-41D8-4252-AD2C-81368C9A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186C2-7F2D-44D9-9E41-50649C42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4ED05-C0E6-48D4-B5B5-001DA6FB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E1BD6-BBB5-42EF-891E-869E87BD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5DECC-0D39-4FA7-9EC0-FCD15756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50CB2-4B5E-43AD-A669-4B8AA495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3072D-0972-45D7-9A54-1D814F5F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56E4-04A2-4EBF-B9B7-18A711D3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5E932-4C0F-4DEB-9930-CEDC600A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4DA3B-37B2-4782-A544-4A201AD5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4AA7A-A1A0-47D3-9DE5-25366753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B5AEA-A425-4773-9C96-8321B104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5A213-7175-4A61-9F10-6B53E23D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2666-A921-4B3A-8818-864D74AD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361C-F376-432F-B00B-7AC540C3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73DB-8F6C-44E3-AE9C-2FA2FE8A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4E95-5480-49FC-94AA-148CD967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09A5-B9E7-4FC6-824D-E41C9DBB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34D-A1CD-49AD-980C-79C2F37B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E913-5E9A-4EF2-8235-A1A3CE54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3FAC-B327-467D-BB66-03B9F364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8208-8618-41CF-ADBC-D738A725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ED9C-56F8-4A5E-8853-E2E2C122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93A8-245E-4AB1-BC59-993B8D6F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1907F-02CB-44A9-91F9-2BF9897F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BF158-6728-49C9-99DC-94A35091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9E60-1804-48B4-B494-5569FDDB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4CBF-71AF-45A8-A6A6-D63846A9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65D1B-EE30-4CB0-B8EF-C8EA0EF4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6BD8-AAD2-4805-A983-515234A5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C18F0-F867-4BA7-A46B-D5C0B7D1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6F8B-E239-4B54-BA85-ADB45FBA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C4C7F-7AA8-446C-A8DD-6FD4B56D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151E2-2232-4152-91B3-3F7680E6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66543-2E78-4C45-88C8-5A4C218B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F027E-9B7F-4B7B-9961-3BF46304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8A789-F9D5-46FF-9800-715A2FC6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4C005-AA09-4427-BA5F-D8587525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0DB7D-5755-4F54-9321-D162F568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356CF-0372-4551-BB0D-8D6BFB70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ECB-F4D8-4E27-8C0F-6CD78A64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3E95F-D47A-4785-B933-8B8DD3A5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D300A-58E3-4ECA-BE24-1554AA12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30E0-F3B4-4543-ABA1-5AD6C0DD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B007C-3F59-4B74-9097-7F8B0D66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7AEA7-DFD5-4589-8F17-5F8E32FF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D4243-C80A-476D-A112-5E9C80AF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43F0-5F30-4212-88EA-7BC189CF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8176A-C035-4CA0-93F5-F1605D52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6E117-105C-4128-ABEC-00B65B7C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90660-B1E2-483C-9654-C9F1FD25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A26-985A-46CD-A5E7-D52E9D84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39539-7604-4E1D-936D-4EADB0CA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EF675-6293-48BF-8AC4-C7CD78F4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125CC-1518-40A0-9A8F-5EACA781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AB7EF-A891-4155-BB1B-4D198548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8C680-EEC9-4D27-9573-4F854E77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27DA6-39A8-43AF-8CCF-EA613465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EFE18-AC3F-4F5B-A845-7BEC693E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A2F18-A700-4AA4-9BBD-CF1E6B94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F22D9-BE23-4057-BBFF-C1E900F5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653CE-EAE2-4C18-BCD1-49ECC87E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BA0-C5F3-4795-A169-099A1B25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F4BC1-DCC1-4382-8E82-8BAF23DD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0B6A3-86E7-446F-842F-20FA949E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A97FA-0EDC-4D7C-94A7-9B41FF35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A8D0F-5851-4780-98D3-D1C1B20A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55C9B-C67E-4467-B7D3-AF3A3EAB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6AE23-FEE6-471E-BBF4-93104BE5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2F513-E0B7-4F6F-8B33-D5201B32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76016-A4BA-4A9D-A18C-521C80C7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CAED4-2776-49F4-B5B7-DD2D7338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96568-53DB-4D70-A8EC-FA99C157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78F-7B4E-45CC-8072-5A4C375A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6E8B0-7110-429F-9E8B-E2E56365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8228E-02B4-4980-A6A8-C05211C7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D8C93-3B79-4808-AA37-8F977453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8EA76-8F19-467A-A000-D161E7BE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A1CAA-D5F9-41ED-A681-983516F1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45DE5-A3CA-402A-A69F-A562CD98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E7FE4-CA96-43E4-A987-93FF84EE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7DBF3-B896-4C0E-B8D7-FF263FFC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4A5CA-0FA4-4B07-A013-DD152585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B6F48-FE63-4027-9EC1-209553F1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D41-8B30-4372-8F95-8763F435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9AED7-A97F-4DC2-8B7A-6B9F12F1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56576-136F-459F-ACE3-DFEC4FCF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0C4AF-E130-48A1-B974-9E38A82F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A4F53-1324-4CD9-BFD0-F722ACC7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919CB-B665-4BF2-B84B-D8F22E05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D95FD-9F66-4883-96EF-1980CC04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B75A0-346F-46C9-A2F8-C860494F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56609-BD9D-46C5-B386-0970130E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1A637-639A-44D8-AB8F-65B908D0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1FF30-A14D-4C4C-8979-8BBEB199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489-509E-4FF9-BE44-8058C01D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522440" y="380520"/>
            <a:ext cx="9144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7E365-6F21-4212-88A0-B50B7544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03744-767B-469D-BB57-CF29D7FA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E801E-2907-48A1-8011-0D38B59C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7704D-0D21-4949-B0DC-C8C98214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522440" y="4137120"/>
            <a:ext cx="91440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06A74-A843-4319-9CAD-BDF271A8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08200" y="182844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52244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08200" y="4137120"/>
            <a:ext cx="4462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DA859-4C28-401F-A00D-3EE3299D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1412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705800" y="182844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52244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61412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705800" y="4137120"/>
            <a:ext cx="29440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B45CA-BD99-419C-B9B7-2A49C042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E591C-EF02-44D6-BDED-05A919C5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02DE4-625B-43B2-BC3C-5F572B1B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4C0E3-09E2-4DB6-A58E-82461A2D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9C29-F163-49EE-8555-450379F141E8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8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CAFA-E778-4DCE-ADAC-6AA9A94FD537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691B-ECB8-48DE-805E-E42DD4653F2E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8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C026-E758-44FC-9682-B95FA91B5463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0EF9-BA16-44CC-AEF2-D296C9F777A9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8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F3B4-62BE-475F-A733-F6259D5DF89E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5141-CB28-42D9-9E65-0319F71A73D3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8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A64B-ABAB-47AF-B6F0-549D1589EA97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485B-D27E-4DA0-A460-5A30188A6038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8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EC7A-F6AF-4AD0-A5A0-45BFA1FF131B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3A3B-7650-4784-ADCE-E47627340251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8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59A0-04A7-4F4E-90C3-AE45571D43D0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365F-3D8D-4468-8DDD-2D4F2ACE1623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8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2D38-FDB8-4589-A201-1854FEA32B02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2D64-F5F3-4FC7-AB95-BD420BEA583A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8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C88F-C983-4FBC-94EF-2356C7C00FD7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419F-A47C-4CA9-9FF0-0B7C16394F02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8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001C-817A-4F80-A64A-F11B2B606592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B0CD-E20F-469A-96A8-32475FF19CC0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8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C849-E4E3-47B8-A9FA-E652CB6DD6FE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2B4A-3832-4944-BA54-A6874EE0A967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8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4564-7869-436A-9635-9465B5F102B5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44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522440" y="1828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1" marL="4762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2" marL="70488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3" marL="9507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4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5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  <a:p>
            <a:pPr lvl="6" marL="1179360" indent="-2268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7770600" y="6400440"/>
            <a:ext cx="15476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410B-C968-4253-A7B8-861620DE88D2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8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1522080" y="6400440"/>
            <a:ext cx="59547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9599400" y="6400440"/>
            <a:ext cx="10666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C2B7-F7BE-461E-907D-3D8CEC5DE39D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237080" y="1600200"/>
            <a:ext cx="4343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</a:rPr>
              <a:t>相册标题</a:t>
            </a:r>
            <a:endParaRPr b="0" lang="en-US" sz="6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7237080" y="5562720"/>
            <a:ext cx="4343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相册副标题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237080" y="533520"/>
            <a:ext cx="4343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e83de"/>
                </a:solidFill>
                <a:latin typeface="微软雅黑"/>
              </a:rPr>
              <a:t>年</a:t>
            </a:r>
            <a:endParaRPr b="0" lang="en-US" sz="48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495" name="图片占位符 6" descr=""/>
          <p:cNvPicPr/>
          <p:nvPr/>
        </p:nvPicPr>
        <p:blipFill>
          <a:blip r:embed="rId1"/>
          <a:stretch/>
        </p:blipFill>
        <p:spPr>
          <a:xfrm>
            <a:off x="0" y="647640"/>
            <a:ext cx="7008840" cy="5639040"/>
          </a:xfrm>
          <a:prstGeom prst="rect">
            <a:avLst/>
          </a:prstGeom>
          <a:ln w="0">
            <a:noFill/>
          </a:ln>
        </p:spPr>
      </p:pic>
      <p:sp>
        <p:nvSpPr>
          <p:cNvPr id="496" name="矩形 1"/>
          <p:cNvSpPr/>
          <p:nvPr/>
        </p:nvSpPr>
        <p:spPr>
          <a:xfrm>
            <a:off x="7704360" y="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毕业季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9DC0-F1BE-42F5-A361-5C870A1A164E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320" y="609480"/>
            <a:ext cx="397692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443440" y="1599840"/>
            <a:ext cx="3124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e83de"/>
              </a:solidFill>
              <a:latin typeface="微软雅黑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443440" y="4191120"/>
            <a:ext cx="3124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110120" y="609480"/>
            <a:ext cx="39765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8994-6E26-434E-ADE9-5EB74429C257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105440" y="609480"/>
            <a:ext cx="397800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3360" y="1599840"/>
            <a:ext cx="3124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e83de"/>
              </a:solidFill>
              <a:latin typeface="微软雅黑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03360" y="4191120"/>
            <a:ext cx="3124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210160" y="609480"/>
            <a:ext cx="39783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1D63-2303-4C55-AA15-4DF9F624AC3F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113360" y="609480"/>
            <a:ext cx="807552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609480"/>
            <a:ext cx="39783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D9F2-96D3-4DBC-82D4-43CAEFD298BF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609480"/>
            <a:ext cx="807552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8210160" y="609480"/>
            <a:ext cx="39783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9DEC-0AE6-4A56-A620-3A31DEAFD357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0" y="609480"/>
            <a:ext cx="807552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8210160" y="60948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8210160" y="350532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A47C-1933-406B-93D9-59C15EDBAAD6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113360" y="609480"/>
            <a:ext cx="807552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60948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350532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CE71-D26C-40E4-9982-258D50C3FD43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60948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350532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105440" y="609480"/>
            <a:ext cx="397800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10160" y="60948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8210160" y="350532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5320" y="189000"/>
            <a:ext cx="1093968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016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1ac16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971244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3A47-5319-4904-9550-8160CAB08947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113360" y="609480"/>
            <a:ext cx="807552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3360" y="1599840"/>
            <a:ext cx="3124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e83de"/>
              </a:solidFill>
              <a:latin typeface="微软雅黑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03360" y="4191120"/>
            <a:ext cx="3124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3EF2-5C56-4305-9418-78A6F0697EC4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320" y="609480"/>
            <a:ext cx="397692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443440" y="1599840"/>
            <a:ext cx="3124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e83de"/>
              </a:solidFill>
              <a:latin typeface="微软雅黑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443440" y="4191120"/>
            <a:ext cx="3124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110120" y="609480"/>
            <a:ext cx="39765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320" y="3494160"/>
            <a:ext cx="397692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110120" y="3494160"/>
            <a:ext cx="39765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5AA4-AB37-49EA-9501-B36CCACEE57C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105440" y="609480"/>
            <a:ext cx="397800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3360" y="1599840"/>
            <a:ext cx="3124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1e83de"/>
              </a:solidFill>
              <a:latin typeface="微软雅黑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603360" y="4191120"/>
            <a:ext cx="3124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210160" y="60948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105440" y="3494160"/>
            <a:ext cx="397800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210160" y="349416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5A9E-138D-4362-AF8C-7788664B7AE1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60948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349416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105440" y="609480"/>
            <a:ext cx="397800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8210160" y="60948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105440" y="3494160"/>
            <a:ext cx="397800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210160" y="3494160"/>
            <a:ext cx="3978360" cy="27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2CB9-FE7A-4F1E-8A85-D2BC5A0F18CC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0" y="608040"/>
            <a:ext cx="6035760" cy="56419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551640" y="18288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28520" indent="-12852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5965-0A3C-4B0C-B7B1-6EA8FB4BF209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153120" y="609480"/>
            <a:ext cx="60357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08040" y="18288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28520" indent="-128520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DC41-8521-4EAE-BD56-6E21CCDBC60D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609480"/>
            <a:ext cx="60357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153120" y="609480"/>
            <a:ext cx="60357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5"/>
          <p:cNvSpPr/>
          <p:nvPr/>
        </p:nvSpPr>
        <p:spPr>
          <a:xfrm>
            <a:off x="9599760" y="6400800"/>
            <a:ext cx="10666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81CC-85A2-4262-AF39-18F6017F4F8D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609480"/>
            <a:ext cx="39783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105440" y="609480"/>
            <a:ext cx="397800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8210160" y="609480"/>
            <a:ext cx="3978360" cy="5639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00:3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03:44Z</dcterms:modified>
  <cp:revision>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028133329991</vt:lpwstr>
  </property>
</Properties>
</file>