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CC0F-CB52-4176-9029-3DB6BECB1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4839-85BC-4FFC-ADB7-E8C9C52C8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A52B-A0B1-40E7-B76D-79BABDA39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F491-01C8-4321-A74F-AB2405B08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DC44-FA67-4C63-A7EA-24D27C5C8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93AE-17EC-411A-B681-DC078DF51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09DF-6DE9-4C24-BB80-863C154BE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B2B1-6CDC-43F7-AB8D-333833126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16DB-0C7A-4680-BB56-2F4325068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4509-B298-40CD-81A0-69B34DBF1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2D55-FF2D-48C5-AEFF-1124C17BB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BDFD-0460-4B83-AE3A-B4CA4734D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008-5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451640" y="368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0" y="6381360"/>
            <a:ext cx="914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410D-9A15-465C-8B07-8F475497A64E}" type="slidenum">
              <a:rPr b="1" lang="zh-CN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008-5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2"/>
          <p:cNvPicPr/>
          <p:nvPr/>
        </p:nvPicPr>
        <p:blipFill>
          <a:blip r:embed="rId4"/>
          <a:stretch/>
        </p:blipFill>
        <p:spPr>
          <a:xfrm>
            <a:off x="745164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"/>
          <p:cNvSpPr/>
          <p:nvPr/>
        </p:nvSpPr>
        <p:spPr>
          <a:xfrm>
            <a:off x="2041920" y="404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橙色简约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简约模板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008-5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2008-5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WordArt 4"/>
          <p:cNvSpPr txBox="1"/>
          <p:nvPr/>
        </p:nvSpPr>
        <p:spPr>
          <a:xfrm>
            <a:off x="1042920" y="2781360"/>
            <a:ext cx="21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8f5f6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e8f5f6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-125928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05:40Z</dcterms:modified>
  <cp:revision>2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