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6628-A0CC-4F78-8DF6-F1750D10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0DF4-B0FA-4659-BD00-27F63483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FAB7-DC35-488C-B16C-39C03221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7F21-CC8E-4658-B360-CA02A6A8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4482-47D6-429B-9B9E-15C5AFCF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7D57-AF08-44F9-9B4D-E849607F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06ED-9A20-4D5D-A952-0AD1D73C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6215-EAF4-44E6-9D54-7DEF4FE6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43FB-164C-4039-98BE-D95E0778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6A5B-F993-405C-B0AB-EF9A285F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A877-8DC5-46FB-8FC6-A9B2BC39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2FF4-7823-47FC-9A06-50023D2B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66FF-6F4D-4409-BB7F-4AE37D0A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FD00-D72F-463C-B181-48C82168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6B18-A8A0-4ED4-BF3C-530D30F9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E741-67E2-4910-AACD-5F661889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5C5F-00A7-4B6D-B61B-AF0C8B30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33A-824F-472A-A6D7-29A70405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0A28-7F88-4E98-B044-F30B40D5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4B4F-B6D4-4947-B5BC-DE3AD4B0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C80-BFEB-4934-B52D-EF36C0C6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BE0-47E1-4065-9A8E-A046D1B0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160F-06AA-4853-A9D7-B82A87DD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0909-DBBF-4EBC-8DC7-67F27C98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4349-FF5E-4906-AD21-3C24501233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1643040" y="2000160"/>
            <a:ext cx="6072120" cy="4357800"/>
          </a:xfrm>
          <a:prstGeom prst="rect">
            <a:avLst/>
          </a:prstGeom>
          <a:gradFill rotWithShape="0">
            <a:gsLst>
              <a:gs pos="0">
                <a:srgbClr val="134e5e">
                  <a:alpha val="74117"/>
                </a:srgbClr>
              </a:gs>
              <a:gs pos="100000">
                <a:srgbClr val="298aa4">
                  <a:alpha val="41176"/>
                </a:srgbClr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56E5-777E-45CB-B354-BAA4C612DF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87640" y="2101320"/>
            <a:ext cx="13413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主题</a:t>
            </a:r>
            <a:endParaRPr b="1" lang="en-US" sz="4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114640" y="2785680"/>
            <a:ext cx="30002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主题副标题或者解说词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1714680" y="2001960"/>
            <a:ext cx="78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  <a:ea typeface="宋体"/>
              </a:rPr>
              <a:t>[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4143240" y="2000160"/>
            <a:ext cx="7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  <a:ea typeface="宋体"/>
              </a:rPr>
              <a:t>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2157480" y="5835600"/>
            <a:ext cx="49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位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14"/>
          <p:cNvSpPr/>
          <p:nvPr/>
        </p:nvSpPr>
        <p:spPr>
          <a:xfrm flipH="1">
            <a:off x="1785600" y="5443560"/>
            <a:ext cx="5786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15"/>
          <p:cNvSpPr/>
          <p:nvPr/>
        </p:nvSpPr>
        <p:spPr>
          <a:xfrm flipH="1">
            <a:off x="1785600" y="3394080"/>
            <a:ext cx="5786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C:\Documents and Settings\Administrator\桌面\创意商务PPT图片（锐普论坛） (1982).png"/>
          <p:cNvPicPr/>
          <p:nvPr/>
        </p:nvPicPr>
        <p:blipFill>
          <a:blip r:embed="rId2"/>
          <a:stretch/>
        </p:blipFill>
        <p:spPr>
          <a:xfrm>
            <a:off x="3786120" y="3357720"/>
            <a:ext cx="1535040" cy="2044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4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65720" y="836640"/>
            <a:ext cx="362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春天动态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268 0.00532 L 3.05556E-006 0.00532 E">
                                      <p:cBhvr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9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4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4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4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8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3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543F-E772-4F24-AF14-DA8554BAD2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02:10:3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41:37Z</dcterms:modified>
  <cp:revision>2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