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AC9-8AFC-45F5-A9E1-2A26A2D4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076-74C1-4685-B05D-B3F6CAE8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224-A62A-4A95-A71E-57D769ED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2CB-9B6C-4C92-A0AF-165063D5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27D-9D73-43BD-A765-D11EE3B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F57-DD7F-4BAB-B759-72EB5B2A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D1E-D826-4573-9286-0FCAD98B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8B8-FEF7-4F54-8391-AC790F1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F3C-8E60-4318-943A-81E70BE7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3D0-DB00-45BD-BED5-374B38F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8FE-340D-495B-A6A1-DC3EF508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BCE-692B-45A7-ACB2-0BB9A792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EEDB-6A50-4CE1-A4B8-0837601E68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922480" y="2803680"/>
            <a:ext cx="447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春意盎然</a:t>
            </a: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PPT</a:t>
            </a: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模板下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6"/>
          <p:cNvSpPr/>
          <p:nvPr/>
        </p:nvSpPr>
        <p:spPr>
          <a:xfrm>
            <a:off x="2124000" y="3645000"/>
            <a:ext cx="5400720" cy="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1443600" y="3259080"/>
            <a:ext cx="230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695920" cy="1087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030120" y="65412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Matura MT Script Capitals"/>
                <a:ea typeface="华文行楷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3"/>
          <a:stretch/>
        </p:blipFill>
        <p:spPr>
          <a:xfrm>
            <a:off x="426960" y="1865160"/>
            <a:ext cx="4035600" cy="438948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6"/>
          <p:cNvSpPr/>
          <p:nvPr/>
        </p:nvSpPr>
        <p:spPr>
          <a:xfrm flipV="1">
            <a:off x="4859280" y="1628640"/>
            <a:ext cx="0" cy="41767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827680" y="348624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Kozuka Gothic Pro L"/>
                <a:ea typeface="Kozuka Gothic Pro L"/>
              </a:rPr>
              <a:t>Add your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2799720" y="2803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"/>
          <p:cNvSpPr/>
          <p:nvPr/>
        </p:nvSpPr>
        <p:spPr>
          <a:xfrm>
            <a:off x="2124000" y="3645000"/>
            <a:ext cx="5400720" cy="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7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59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