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74E8-74CB-4C4A-B0D8-256D4A50D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0416-94EB-4F93-AF66-F5D700F96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ECDC-6093-4226-9373-C6307CB5B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AC3A-3461-45F2-A139-66D1DB228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560A-2E5B-45DD-A082-1ABBF4286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C55B-B2FD-4367-8BE0-4A6F144B4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C75F-1F74-41BB-B09A-4E974D301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1BF6-16E5-4647-BE62-DE5D1A5C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3786-9F46-46D7-B379-95938AE95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D4A9-D6CC-44B5-8C83-1D790DC2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B5D0-5C84-4E8C-862E-4E8AC83A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C04D-02BA-40CB-958D-E600A74F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D5CAA-A81B-490F-B8CD-87F953439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1a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356000" y="2854440"/>
            <a:ext cx="417600" cy="4302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356000" y="2854440"/>
            <a:ext cx="417600" cy="430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057560" y="3328920"/>
            <a:ext cx="18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ading…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920" y="64166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58840" y="30636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超炫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 repeatCount="indefinite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2" presetSubtype="1">
                                  <p:stCondLst>
                                    <p:cond delay="6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" dur="1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2" presetSubtype="1">
                                  <p:stCondLst>
                                    <p:cond delay="6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2" presetSubtype="4">
                                  <p:stCondLst>
                                    <p:cond delay="6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5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10">
                                  <p:stCondLst>
                                    <p:cond delay="6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1a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9086760" y="2287440"/>
            <a:ext cx="4680000" cy="2411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205680" y="3095640"/>
            <a:ext cx="2850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Pixeldust Expanded"/>
              </a:rPr>
              <a:t>Heavy met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200"/>
                            </p:stCondLst>
                            <p:childTnLst>
                              <p:par>
                                <p:cTn id="57" nodeType="afterEffect" fill="hold" presetClass="path" presetID="35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0.0125 7.40741E-007 L -0.49062 7.40741E-007 E">
                                      <p:cBhvr>
                                        <p:cTn id="58" dur="1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9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50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1a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4906800" y="1068480"/>
            <a:ext cx="5897520" cy="2411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70040" y="1895400"/>
            <a:ext cx="2603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Pixeldust Expanded"/>
              </a:rPr>
              <a:t>conten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76160" y="2838600"/>
            <a:ext cx="22482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目录位置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目录位置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目录位置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path" presetID="35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0.50312 -1.48148E-006 L 1.11111E-006 -1.48148E-006 E">
                                      <p:cBhvr>
                                        <p:cTn id="67" dur="1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7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50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201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1a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896760"/>
            <a:ext cx="9144000" cy="4894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-4532400" y="-112680"/>
            <a:ext cx="4678560" cy="2409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99880" y="714240"/>
            <a:ext cx="2279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Pixeldust Expanded"/>
              </a:rPr>
              <a:t>Cap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6294600"/>
            <a:ext cx="9144000" cy="401400"/>
            <a:chOff x="0" y="6294600"/>
            <a:chExt cx="9144000" cy="401400"/>
          </a:xfrm>
        </p:grpSpPr>
        <p:pic>
          <p:nvPicPr>
            <p:cNvPr id="57" name="" descr=""/>
            <p:cNvPicPr/>
            <p:nvPr/>
          </p:nvPicPr>
          <p:blipFill>
            <a:blip r:embed="rId3"/>
            <a:stretch/>
          </p:blipFill>
          <p:spPr>
            <a:xfrm>
              <a:off x="0" y="6294600"/>
              <a:ext cx="9144000" cy="40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7702560" y="6375240"/>
              <a:ext cx="13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ccff"/>
                  </a:solidFill>
                  <a:latin typeface="Arial"/>
                  <a:ea typeface="黑体"/>
                </a:rPr>
                <a:t>企业或公司名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path" presetID="35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0.43021 -4.44444E-006 L -0.04167 -4.44444E-006 E">
                                      <p:cBhvr>
                                        <p:cTn id="80" dur="1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7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50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201"/>
                            </p:stCondLst>
                            <p:childTnLst>
                              <p:par>
                                <p:cTn id="8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9159-F8ED-4E92-8382-CE6E9308BB7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06:55:01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8:21:38Z</dcterms:modified>
  <cp:revision>18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