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312-3709-4FFC-BD46-22016CB7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B93-324C-4854-A75D-073191CF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E5F-0C38-4728-87CF-6F6D718F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E66-2526-4DFB-815A-96BD9305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FCC-D8BC-4D56-A0E4-11210F7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192-238D-4EDC-8374-E88D79B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679-2DB5-4668-9DEC-EE15E23A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E24-F225-4CD2-BEB3-F9719D6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59B-F5DF-440F-AE7B-C9637A7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4ED-68BB-4389-A1BD-F35FD0C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0B2-43BA-4048-B385-FB38D78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3CF-2D45-4322-8AB3-4A2C87E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C29-ECEC-4D10-BA61-2ABEAC5DF9C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570-EAE4-4264-AE15-BBBF36F5A31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1"/>
          <p:cNvPicPr/>
          <p:nvPr/>
        </p:nvPicPr>
        <p:blipFill>
          <a:blip r:embed="rId1"/>
          <a:stretch/>
        </p:blipFill>
        <p:spPr>
          <a:xfrm>
            <a:off x="0" y="144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幻灯片1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571920" y="64389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1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1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1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幻灯片1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幻灯片1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幻灯片1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幻灯片1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幻灯片1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幻灯片19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幻灯片2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幻灯片2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幻灯片2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幻灯片2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幻灯片2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255920" y="6453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幻灯片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幻灯片9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7:4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0:21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