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DD4D-38B3-4A0C-B966-19C7370BD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A6F8-5141-4DA9-BE0B-21C7E6B24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8C0F-0B84-40FD-A9E3-A371CA4D4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73AC-5C17-4E70-8025-696A80BDE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E400-D7B0-4DFB-9EB0-1F6BE159D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EF08-8B83-4727-B991-AFE1ACF55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AFF9-07DD-45E9-BF5F-C93D297AA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3B84-7C37-4176-8B3F-D0F156B32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4C10-64E8-4CDA-A313-9B30C73B3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BA35-F9CB-4002-AA3B-4AD4F452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5F24-CEB2-49D5-B708-A42500CD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B414-F347-4290-97C3-DC15774C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CE30F-ACAE-4324-B804-543BB52EF44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920" y="65484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Calibri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4389480" y="293760"/>
            <a:ext cx="241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大海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2"/>
          <p:cNvSpPr/>
          <p:nvPr/>
        </p:nvSpPr>
        <p:spPr>
          <a:xfrm>
            <a:off x="5711760" y="2208240"/>
            <a:ext cx="15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把烦恼抛向大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5662080" y="3030480"/>
            <a:ext cx="154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简单 快乐 自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5836680" y="3849840"/>
            <a:ext cx="193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就是你的游乐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3218040" y="6472080"/>
            <a:ext cx="70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模板素材 </a:t>
            </a:r>
            <a:r>
              <a:rPr b="0" lang="zh-CN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2"/>
          <p:cNvSpPr/>
          <p:nvPr/>
        </p:nvSpPr>
        <p:spPr>
          <a:xfrm>
            <a:off x="4595400" y="2281320"/>
            <a:ext cx="31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2060"/>
                </a:solidFill>
                <a:latin typeface="时尚中黑简体"/>
                <a:ea typeface="时尚中黑简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2"/>
          <p:cNvSpPr/>
          <p:nvPr/>
        </p:nvSpPr>
        <p:spPr>
          <a:xfrm>
            <a:off x="763560" y="333360"/>
            <a:ext cx="15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把烦恼抛向大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直接连接符 3"/>
          <p:cNvSpPr/>
          <p:nvPr/>
        </p:nvSpPr>
        <p:spPr>
          <a:xfrm>
            <a:off x="324000" y="981000"/>
            <a:ext cx="1131696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1747080" y="1197000"/>
            <a:ext cx="43196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情绪和压力束缚着你的行动和判断，是时候对无奈的现实说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NO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了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眺望蓝天大海，大吼一声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!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扔走一切悲观失望，重拾自信，让好心情如影随形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8B57-93F4-48EF-BBE1-78580308571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6:22:58Z</dcterms:modified>
  <cp:revision>5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