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5DE-26B7-4EBE-A83E-A8BA4071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9C4-579D-4424-9442-02292475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CF0-4517-4B23-A1DF-14ED8BC9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388-65EF-40E3-AAA3-12C46AC2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903-90AE-4D39-9E71-2ED4CDEB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992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5124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992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5124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6136-A382-4555-A02B-BBD44F74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690D-1BFE-4227-ABDC-186B05D2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EB67-539D-4402-8EF5-8AB6ADCA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6A9F-0B81-4715-A731-ACEB81CC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5DE6-4604-45F8-86BE-F4BBF6EF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950-38FC-4E17-8E25-AB1BB14A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E200-C95F-4764-8018-BA7535FF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99B9-DBDB-4A71-B2B6-33B6C81F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B28A-2338-4DF9-8FF2-5425FB51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CCD8-FE84-46DF-94FC-A9DCCCA5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0D38-8728-47A7-B461-924FD3EA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035A-66AE-4F36-97CF-6E8682F1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3992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5124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60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3992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5124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E1D1-3FE9-4D5E-AD23-FFB503FE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479-BC4E-4A53-A579-CA7A4023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361-89FC-4DD5-B6C4-3600E067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CE2-2B5D-4811-9EEA-B71D5927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33D-923D-4848-A89E-E4AAC941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9F3-5815-40F4-B1C3-83D8939A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680-1838-49AB-A67A-E037F9AD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6528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89BB-169E-46C2-905D-8C9C0D19A123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c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c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2883-9801-408A-B0B2-521BE0B983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09560" y="26668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党建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150920"/>
            <a:ext cx="86868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配色方案在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格式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幻灯片设计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配色方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编辑配色方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下调整。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LOGO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添加修改在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视图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母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幻灯片母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下调整。直接选择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图片删除或修改。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括标题和文本格式的设置在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视图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母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幻灯片母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下调整。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默认设置：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首页主标题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44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号（中文黑体英文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）加粗；副标题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号（中文黑体英文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）加粗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内页标题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40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号（中文黑体英文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）加粗；内页内容文字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号（宋体）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08C-D405-41F1-A1CA-5A0C1D03C3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标题 1"/>
          <p:cNvSpPr/>
          <p:nvPr/>
        </p:nvSpPr>
        <p:spPr>
          <a:xfrm>
            <a:off x="3276720" y="2571840"/>
            <a:ext cx="43099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黑体"/>
              </a:rPr>
              <a:t>感谢您的关注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6324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06:29:4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31:54Z</dcterms:modified>
  <cp:revision>3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