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F3D-7BB5-44C1-A887-06741873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EF2-741C-4490-84DB-562DA736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EBE-6315-43DD-80F9-21697103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504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568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504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1568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197-03CE-4B3E-93E0-0C761E1A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339-5C5B-4791-AE6D-171A040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8BC-33BC-414F-ACF8-62B92E2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0FD-C6FF-464A-AC12-88D54418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09A-45CF-497C-87E4-C20B6FE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1035360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7C5-F433-4031-844C-D59B8B9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B90-B9C1-410B-B7CE-C2187F1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E25-063B-4DCD-A2A3-9CC8464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EE1-2203-4AA8-81E1-E094653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dadada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0492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1" marL="450720" indent="64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2" marL="811080" indent="-3538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3" marL="1171440" indent="-71424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4" marL="1459080" indent="-10018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5" marL="1459080" indent="-10018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6" marL="1459080" indent="-10018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A18-9073-47FE-8385-47098F215652}" type="datetime">
              <a:rPr b="0" lang="zh-CN" sz="1000" spc="-1" strike="noStrike">
                <a:solidFill>
                  <a:srgbClr val="f2f2f2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0089-F829-4BA4-A619-7FCFFB28189F}" type="slidenum">
              <a:rPr b="0" lang="zh-CN" sz="10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5041440" y="2235240"/>
            <a:ext cx="236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10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0560" y="284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倒计时</a:t>
            </a: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dadada"/>
                </a:solidFill>
                <a:latin typeface="Calisto MT"/>
              </a:rPr>
              <a:t>使用规范说明</a:t>
            </a:r>
            <a:endParaRPr b="0" lang="en-US" sz="36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站点介绍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7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特别说明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栏目推荐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806-6258-4319-A2BC-734A4B84D3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"/>
                            </p:stCondLst>
                            <p:childTnLst>
                              <p:par>
                                <p:cTn id="215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10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45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9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98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8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7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43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0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8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10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2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"/>
                            </p:stCondLst>
                            <p:childTnLst>
                              <p:par>
                                <p:cTn id="192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10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3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04:33Z</dcterms:modified>
  <cp:revision>1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