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96A-F5DC-4E4F-826D-6EB534ED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7AF-2225-4992-9649-5FA7FC3B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303-C6CE-44A7-B563-7D86BC3D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2340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424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4292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2340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424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C24-83D7-4EA1-B3E2-BB2C8194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7199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37C-8029-45CA-85A7-597A80E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2340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04240" y="134136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4292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2340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04240" y="3899880"/>
            <a:ext cx="2457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D33-B79A-4B3D-9D40-34D8D72D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FB4-572E-413A-AA25-461FCB3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F18-F610-4A3E-A4E3-F006F73A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7199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506-8456-4455-B0EE-D854FC3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C0F-349B-4319-9E87-0D62ADB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960" y="389988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9FA-E712-48FD-992B-DD18383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960" y="1341360"/>
            <a:ext cx="37245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2920" y="3899880"/>
            <a:ext cx="7632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062-5897-4262-9B9D-AE87FE6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86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17040" y="655272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pt.glzy8.com</a:t>
            </a: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海量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南极冰作品 </a:t>
            </a: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QQ:14362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359100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DAE0-F5AE-413C-90A2-1B1F4186A5A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4b99d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-1440" y="692280"/>
            <a:ext cx="9154800" cy="288720"/>
          </a:xfrm>
          <a:prstGeom prst="rect">
            <a:avLst/>
          </a:prstGeom>
          <a:solidFill>
            <a:srgbClr val="051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6" name=""/>
          <p:cNvSpPr/>
          <p:nvPr/>
        </p:nvSpPr>
        <p:spPr>
          <a:xfrm>
            <a:off x="28440" y="6480"/>
            <a:ext cx="9115560" cy="780840"/>
          </a:xfrm>
          <a:prstGeom prst="rect">
            <a:avLst/>
          </a:prstGeom>
          <a:solidFill>
            <a:srgbClr val="4b9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92360" y="115560"/>
            <a:ext cx="7199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0"/>
            <a:ext cx="1617840" cy="2082960"/>
          </a:xfrm>
          <a:custGeom>
            <a:avLst/>
            <a:gdLst/>
            <a:ahLst/>
            <a:rect l="l" t="t" r="r" b="b"/>
            <a:pathLst>
              <a:path w="1706" h="1951">
                <a:moveTo>
                  <a:pt x="1130" y="1364"/>
                </a:moveTo>
                <a:cubicBezTo>
                  <a:pt x="743" y="1725"/>
                  <a:pt x="236" y="1893"/>
                  <a:pt x="0" y="1951"/>
                </a:cubicBezTo>
                <a:lnTo>
                  <a:pt x="0" y="0"/>
                </a:lnTo>
                <a:lnTo>
                  <a:pt x="1678" y="0"/>
                </a:lnTo>
                <a:cubicBezTo>
                  <a:pt x="1706" y="371"/>
                  <a:pt x="1517" y="1003"/>
                  <a:pt x="1130" y="1364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9" name=""/>
          <p:cNvSpPr/>
          <p:nvPr/>
        </p:nvSpPr>
        <p:spPr>
          <a:xfrm>
            <a:off x="-6480" y="-4680"/>
            <a:ext cx="1584360" cy="1871640"/>
          </a:xfrm>
          <a:custGeom>
            <a:avLst/>
            <a:gdLst/>
            <a:ahLst/>
            <a:rect l="l" t="t" r="r" b="b"/>
            <a:pathLst>
              <a:path w="1706" h="1951">
                <a:moveTo>
                  <a:pt x="1130" y="1364"/>
                </a:moveTo>
                <a:cubicBezTo>
                  <a:pt x="743" y="1725"/>
                  <a:pt x="236" y="1893"/>
                  <a:pt x="0" y="1951"/>
                </a:cubicBezTo>
                <a:lnTo>
                  <a:pt x="0" y="0"/>
                </a:lnTo>
                <a:lnTo>
                  <a:pt x="1678" y="0"/>
                </a:lnTo>
                <a:cubicBezTo>
                  <a:pt x="1706" y="371"/>
                  <a:pt x="1517" y="1003"/>
                  <a:pt x="1130" y="1364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63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1b6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861a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a9f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99d3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b99d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0" y="1114560"/>
            <a:ext cx="5400720" cy="5322600"/>
          </a:xfrm>
          <a:custGeom>
            <a:avLst/>
            <a:gdLst/>
            <a:ahLst/>
            <a:rect l="l" t="t" r="r" b="b"/>
            <a:pathLst>
              <a:path w="3282" h="3353">
                <a:moveTo>
                  <a:pt x="3282" y="0"/>
                </a:moveTo>
                <a:cubicBezTo>
                  <a:pt x="2282" y="285"/>
                  <a:pt x="1799" y="1073"/>
                  <a:pt x="1792" y="1728"/>
                </a:cubicBezTo>
                <a:cubicBezTo>
                  <a:pt x="1785" y="2383"/>
                  <a:pt x="1871" y="2798"/>
                  <a:pt x="2795" y="3353"/>
                </a:cubicBezTo>
                <a:lnTo>
                  <a:pt x="0" y="3353"/>
                </a:lnTo>
                <a:lnTo>
                  <a:pt x="0" y="1"/>
                </a:lnTo>
                <a:lnTo>
                  <a:pt x="3282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6122880"/>
            <a:ext cx="6012000" cy="408240"/>
          </a:xfrm>
          <a:prstGeom prst="rect">
            <a:avLst/>
          </a:prstGeom>
          <a:solidFill>
            <a:srgbClr val="186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0"/>
            <a:ext cx="9144000" cy="906480"/>
          </a:xfrm>
          <a:prstGeom prst="rect">
            <a:avLst/>
          </a:prstGeom>
          <a:gradFill rotWithShape="0">
            <a:gsLst>
              <a:gs pos="0">
                <a:srgbClr val="4b99d3"/>
              </a:gs>
              <a:gs pos="100000">
                <a:srgbClr val="1861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6524640"/>
            <a:ext cx="9147240" cy="333360"/>
          </a:xfrm>
          <a:prstGeom prst="rect">
            <a:avLst/>
          </a:prstGeom>
          <a:solidFill>
            <a:srgbClr val="93c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1" name=""/>
          <p:cNvSpPr/>
          <p:nvPr/>
        </p:nvSpPr>
        <p:spPr>
          <a:xfrm>
            <a:off x="-3240" y="1114560"/>
            <a:ext cx="4359240" cy="5411520"/>
          </a:xfrm>
          <a:custGeom>
            <a:avLst/>
            <a:gdLst/>
            <a:ahLst/>
            <a:rect l="l" t="t" r="r" b="b"/>
            <a:pathLst>
              <a:path w="2676" h="3765">
                <a:moveTo>
                  <a:pt x="2540" y="0"/>
                </a:moveTo>
                <a:cubicBezTo>
                  <a:pt x="2089" y="229"/>
                  <a:pt x="1644" y="1070"/>
                  <a:pt x="1638" y="1752"/>
                </a:cubicBezTo>
                <a:cubicBezTo>
                  <a:pt x="1632" y="2434"/>
                  <a:pt x="1791" y="3142"/>
                  <a:pt x="2676" y="3765"/>
                </a:cubicBezTo>
                <a:lnTo>
                  <a:pt x="0" y="3765"/>
                </a:lnTo>
                <a:lnTo>
                  <a:pt x="0" y="0"/>
                </a:lnTo>
                <a:lnTo>
                  <a:pt x="254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7920"/>
            <a:ext cx="9144000" cy="217440"/>
          </a:xfrm>
          <a:prstGeom prst="rect">
            <a:avLst/>
          </a:prstGeom>
          <a:solidFill>
            <a:srgbClr val="051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53290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51b61"/>
                </a:solidFill>
                <a:latin typeface="黑体"/>
              </a:rPr>
              <a:t>Click to edit the title text format</a:t>
            </a:r>
            <a:endParaRPr b="1" i="1" lang="en-US" sz="5400" spc="-1" strike="noStrike">
              <a:solidFill>
                <a:srgbClr val="051b61"/>
              </a:solidFill>
              <a:latin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53360"/>
            <a:ext cx="9144000" cy="71280"/>
          </a:xfrm>
          <a:prstGeom prst="rect">
            <a:avLst/>
          </a:prstGeom>
          <a:solidFill>
            <a:srgbClr val="051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b61"/>
              </a:solidFill>
              <a:latin typeface="Gulim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44280"/>
            <a:ext cx="2627280" cy="76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084720" y="-387360"/>
            <a:ext cx="2880000" cy="1731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1a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861a4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2a9fa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1a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861a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51b6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1a4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861a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53290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51b61"/>
              </a:solidFill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4845600" y="170172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51b61"/>
                </a:solidFill>
                <a:latin typeface="Times New Roman"/>
              </a:rPr>
              <a:t>电力安全</a:t>
            </a:r>
            <a:r>
              <a:rPr b="0" lang="zh-CN" sz="4000" spc="-1" strike="noStrike">
                <a:solidFill>
                  <a:srgbClr val="051b61"/>
                </a:solidFill>
                <a:latin typeface="Times New Roman"/>
                <a:ea typeface="宋体"/>
              </a:rPr>
              <a:t>PPT</a:t>
            </a:r>
            <a:r>
              <a:rPr b="0" lang="ko-KR" sz="4000" spc="-1" strike="noStrike">
                <a:solidFill>
                  <a:srgbClr val="051b61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51b61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b99d3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51b61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51b61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8C0-D754-4495-B378-3083134F7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53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7:59Z</dcterms:modified>
  <cp:revision>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fc03000000000001024140</vt:lpwstr>
  </property>
</Properties>
</file>