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1402-4801-4157-8ADC-7B552CEDB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910F-BBD8-4167-BDF4-533601D31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2225-73A5-4402-BAF3-3FE177D5D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B53C-1A0F-4DCD-AA7E-6B456923C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7568-E144-45A6-9A67-0D414F59E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5BF1-CC14-433A-AB22-10545AEC4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82BD-7989-4995-AC84-4850399A1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CC5E-2CD1-4C36-A803-0DA9ECAF0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6898-A218-4189-A94A-6ED67DE58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95BE-0881-4FEF-9382-D81E87630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9576-19C1-435C-9A6B-BB36E675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EF90-139B-431A-BEA6-177025D07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F7456-DAB7-488D-A437-679B05354B7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beijing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286080" y="4786200"/>
            <a:ext cx="52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643200" y="5510160"/>
            <a:ext cx="41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可爱卡通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920" y="623736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14400" y="1773360"/>
            <a:ext cx="288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动物便签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背景图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4920" y="623736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95280" y="5734080"/>
            <a:ext cx="5661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好看的ppt背景图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941A-7128-49C9-B8B8-65BDAE8F22E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79400" y="59785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03T09:36:26Z</dcterms:modified>
  <cp:revision>79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