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ED7-D601-4979-9293-B5DF5BC3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275-E05D-4EFA-9704-2D61CF97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51B-C1C8-45CB-9617-87EDB221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B7A-DC72-44C9-BD09-034635AE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0C1-3CD4-4AFC-8D78-833E18FE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4D8-C310-4985-9D46-FA773D61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3FB-D0F2-48F5-8371-5CD37ACC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4F4-2BD8-4E24-AAA6-508DE971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B72-0D5C-4B11-AACD-95BD709D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718-9819-4A36-B9EC-C3A488DB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DFA-7266-4F69-9014-C474CDAE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F65-DAD6-40C5-B3E1-96A3A2AE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5773-582E-495A-AA19-8177B93CD0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57520" y="2379600"/>
            <a:ext cx="5553000" cy="2254320"/>
            <a:chOff x="1757520" y="2379600"/>
            <a:chExt cx="5553000" cy="2254320"/>
          </a:xfrm>
        </p:grpSpPr>
        <p:grpSp>
          <p:nvGrpSpPr>
            <p:cNvPr id="42" name=""/>
            <p:cNvGrpSpPr/>
            <p:nvPr/>
          </p:nvGrpSpPr>
          <p:grpSpPr>
            <a:xfrm>
              <a:off x="1757520" y="2379600"/>
              <a:ext cx="5553000" cy="2254320"/>
              <a:chOff x="1757520" y="2379600"/>
              <a:chExt cx="5553000" cy="2254320"/>
            </a:xfrm>
          </p:grpSpPr>
          <p:pic>
            <p:nvPicPr>
              <p:cNvPr id="43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7520" y="2379600"/>
                <a:ext cx="5553000" cy="22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"/>
              <p:cNvSpPr/>
              <p:nvPr/>
            </p:nvSpPr>
            <p:spPr>
              <a:xfrm>
                <a:off x="2585880" y="2725200"/>
                <a:ext cx="390492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387880" y="2806200"/>
              <a:ext cx="4298040" cy="1400760"/>
              <a:chOff x="2387880" y="2806200"/>
              <a:chExt cx="4298040" cy="1400760"/>
            </a:xfrm>
          </p:grpSpPr>
          <p:pic>
            <p:nvPicPr>
              <p:cNvPr id="46" name="椭圆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7880" y="2806200"/>
                <a:ext cx="4298040" cy="140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3030120" y="3027240"/>
                <a:ext cx="3016440" cy="9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8" name="Picture 8" descr=""/>
          <p:cNvPicPr/>
          <p:nvPr/>
        </p:nvPicPr>
        <p:blipFill>
          <a:blip r:embed="rId4"/>
          <a:stretch/>
        </p:blipFill>
        <p:spPr>
          <a:xfrm>
            <a:off x="3657600" y="979560"/>
            <a:ext cx="1689120" cy="28004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" descr="audium.png"/>
          <p:cNvPicPr/>
          <p:nvPr/>
        </p:nvPicPr>
        <p:blipFill>
          <a:blip r:embed="rId5"/>
          <a:stretch/>
        </p:blipFill>
        <p:spPr>
          <a:xfrm>
            <a:off x="3805200" y="3137040"/>
            <a:ext cx="1625760" cy="16254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3657600" y="979560"/>
            <a:ext cx="1689120" cy="3043080"/>
            <a:chOff x="3657600" y="979560"/>
            <a:chExt cx="1689120" cy="3043080"/>
          </a:xfrm>
        </p:grpSpPr>
        <p:pic>
          <p:nvPicPr>
            <p:cNvPr id="51" name="Picture 7" descr=""/>
            <p:cNvPicPr/>
            <p:nvPr/>
          </p:nvPicPr>
          <p:blipFill>
            <a:blip r:embed="rId6"/>
            <a:srcRect l="0" t="0" r="0" b="27351"/>
            <a:stretch/>
          </p:blipFill>
          <p:spPr>
            <a:xfrm>
              <a:off x="3657600" y="979560"/>
              <a:ext cx="1689120" cy="20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矩形 21"/>
            <p:cNvSpPr/>
            <p:nvPr/>
          </p:nvSpPr>
          <p:spPr>
            <a:xfrm>
              <a:off x="3691800" y="2905920"/>
              <a:ext cx="162036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60360" y="6381720"/>
            <a:ext cx="460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10760" y="6145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物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4 -0.0088 C -0.1427 -0.0088 -0.25815 -0.05371 -0.25781 -0.10973 C -0.25815 -0.16528 -0.14218 -0.21135 -0.00069 -0.21088 C 0.14132 -0.21135 0.25643 -0.16528 0.25625 -0.10973 C 0.25643 -0.05371 0.14132 -0.0088 -0.00034 -0.0088 Z">
                                      <p:cBhvr>
                                        <p:cTn id="6" dur="4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C7EC-2C96-403E-92BB-A0B5EEAD13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9:36:4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9:25Z</dcterms:modified>
  <cp:revision>2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