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F7D2-568A-4000-A75D-6E95B6CA2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C9F4-F804-44FA-9429-3433D44B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5255-72A7-4A15-88E7-7E72EED7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8BEE-4383-496B-80A1-75006E6C3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CF7D-3347-4A83-A700-496F085E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52DE-F756-421E-80BA-18520088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88ED-932A-449D-9885-A3CCA25F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1344-59C4-44CE-A7CA-86E08895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C819-5DDE-41F0-A24A-151AD0F7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8C9A-5CC8-477D-AF4F-DC9FE5AB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8DBF-896F-4863-AC91-E083EF9C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343F-4521-4AA6-9A57-7B4E086B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7097-C81A-47B9-B188-C47CFB2BC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eeppt.com/sucai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397640" y="6491160"/>
            <a:ext cx="174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2700360" y="692280"/>
            <a:ext cx="2273400" cy="812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979640" y="2133720"/>
            <a:ext cx="352728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7397640" y="6491160"/>
            <a:ext cx="174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2700360" y="692280"/>
            <a:ext cx="2273400" cy="812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3"/>
          <a:stretch/>
        </p:blipFill>
        <p:spPr>
          <a:xfrm>
            <a:off x="2340000" y="5084640"/>
            <a:ext cx="1803240" cy="1143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2124000" y="1916280"/>
            <a:ext cx="3529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农历五月初五为端午节，又称端阳节、午日节、五月节、艾节、端五、重午、午日、夏节，端是“开端”、“初”的意思。初五可以称为端五。农历以地支纪月，正月建寅，二月为卯，顺次至五月为午，因此称五月为午月，“五”与“午”通，“五”又为阳数，此外一些地方又将端午节称之为五月节、艾节、夏节。从史籍上看，“端午”二字最早见于晋人周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风土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“仲夏端午，烹鹜角黍”。端午节是我国汉族人民的传统节日，端午这一天必不可少的活动逐渐演变为吃粽子，赛龙舟，挂菖蒲、艾叶，薰苍术、白芷，喝雄黄酒。据说，吃粽子和赛龙舟，是为了纪念屈原，所以解放后曾把端午节定名为“诗人节”，以纪念屈原。至于挂菖蒲、艾叶，薰苍术、白芷，喝雄黄酒，则据说是为了镇邪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时至今日，端午节仍是中国人民中一个十分盛行的隆重节日。端午节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起为国家法定节假日。国家非常重视非物质文化遗产的保护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，该民俗经国务院批准列入第一批国家级非物质文化遗产名录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4211640" y="5084640"/>
            <a:ext cx="180324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30320" y="6359400"/>
            <a:ext cx="4600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FBFF-D9B8-4AFC-88E7-23481FC8E2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979640" y="2133720"/>
            <a:ext cx="352728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397640" y="6491160"/>
            <a:ext cx="174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"/>
          <p:cNvPicPr/>
          <p:nvPr/>
        </p:nvPicPr>
        <p:blipFill>
          <a:blip r:embed="rId2"/>
          <a:stretch/>
        </p:blipFill>
        <p:spPr>
          <a:xfrm>
            <a:off x="2484360" y="1341360"/>
            <a:ext cx="314964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09:21:1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19:05Z</dcterms:modified>
  <cp:revision>10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