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75C-6D87-4C4F-AE79-FF7DA2E8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10515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3890160"/>
            <a:ext cx="10515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634-47F4-4C3A-A737-A7B62F0A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2656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23E-70ED-45BF-8FC0-E0D534B7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93440" y="139032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949160" y="139032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389016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93440" y="389016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949160" y="389016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2F6-2E0E-4DBD-8F0E-E5F68097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390320"/>
            <a:ext cx="10515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486-57C3-4E7C-8EEC-154935C5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10515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9EC-F8E5-4260-8D55-34B8077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96C-96C9-443B-8439-BFE2A1B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933-8B12-4B1C-A5D7-109D60F0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8080" y="162000"/>
            <a:ext cx="1051560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896-0AF3-460C-8362-903FA3A6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89C-537B-49B8-BE76-D08631E4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656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AF4-1F5C-4E2B-A329-5499A3C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3890160"/>
            <a:ext cx="10515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ABF-1AE6-4F07-9EBD-AF0DD1B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"/>
          <p:cNvPicPr/>
          <p:nvPr/>
        </p:nvPicPr>
        <p:blipFill>
          <a:blip r:embed="rId2"/>
          <a:srcRect l="0" t="72074" r="59786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333360" y="536400"/>
            <a:ext cx="11525400" cy="6004080"/>
          </a:xfrm>
          <a:prstGeom prst="rect">
            <a:avLst/>
          </a:prstGeom>
          <a:solidFill>
            <a:srgbClr val="021127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18"/>
          <p:cNvSpPr/>
          <p:nvPr/>
        </p:nvSpPr>
        <p:spPr>
          <a:xfrm>
            <a:off x="333360" y="536400"/>
            <a:ext cx="1440" cy="6004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21"/>
          <p:cNvSpPr/>
          <p:nvPr/>
        </p:nvSpPr>
        <p:spPr>
          <a:xfrm flipH="1">
            <a:off x="11855520" y="557280"/>
            <a:ext cx="1440" cy="59817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5" descr=""/>
          <p:cNvPicPr/>
          <p:nvPr/>
        </p:nvPicPr>
        <p:blipFill>
          <a:blip r:embed="rId3"/>
          <a:stretch/>
        </p:blipFill>
        <p:spPr>
          <a:xfrm>
            <a:off x="7299360" y="-731880"/>
            <a:ext cx="4892760" cy="316080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26"/>
          <p:cNvSpPr/>
          <p:nvPr/>
        </p:nvSpPr>
        <p:spPr>
          <a:xfrm>
            <a:off x="333360" y="6540480"/>
            <a:ext cx="1152360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27"/>
          <p:cNvSpPr/>
          <p:nvPr/>
        </p:nvSpPr>
        <p:spPr>
          <a:xfrm>
            <a:off x="272880" y="473040"/>
            <a:ext cx="12096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28"/>
          <p:cNvSpPr/>
          <p:nvPr/>
        </p:nvSpPr>
        <p:spPr>
          <a:xfrm>
            <a:off x="11796840" y="6480000"/>
            <a:ext cx="122040" cy="1256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29"/>
          <p:cNvSpPr/>
          <p:nvPr/>
        </p:nvSpPr>
        <p:spPr>
          <a:xfrm>
            <a:off x="271440" y="6477120"/>
            <a:ext cx="12240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838080" y="1390320"/>
            <a:ext cx="10515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914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914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5AE7-FD35-4140-B204-22D76AEB4284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070-4A2F-446B-B7E0-259A19197C9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3240" y="-119160"/>
            <a:ext cx="12201480" cy="68738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"/>
          <p:cNvSpPr/>
          <p:nvPr/>
        </p:nvSpPr>
        <p:spPr>
          <a:xfrm>
            <a:off x="8435880" y="0"/>
            <a:ext cx="3756240" cy="6858000"/>
          </a:xfrm>
          <a:prstGeom prst="pie">
            <a:avLst/>
          </a:prstGeom>
          <a:solidFill>
            <a:srgbClr val="021127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2"/>
          <p:cNvSpPr/>
          <p:nvPr/>
        </p:nvSpPr>
        <p:spPr>
          <a:xfrm>
            <a:off x="8435880" y="0"/>
            <a:ext cx="0" cy="146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4"/>
          <p:cNvSpPr/>
          <p:nvPr/>
        </p:nvSpPr>
        <p:spPr>
          <a:xfrm flipV="1">
            <a:off x="8435880" y="6200640"/>
            <a:ext cx="0" cy="65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7"/>
          <p:cNvSpPr/>
          <p:nvPr/>
        </p:nvSpPr>
        <p:spPr>
          <a:xfrm>
            <a:off x="8435880" y="2793960"/>
            <a:ext cx="0" cy="19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8375760" y="4662360"/>
            <a:ext cx="12060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8375760" y="6121440"/>
            <a:ext cx="120600" cy="1252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895640"/>
            <a:ext cx="91440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fefe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08080" y="684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钓鱼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961920" y="785880"/>
            <a:ext cx="4664160" cy="5286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907240" y="2359080"/>
            <a:ext cx="524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东海浪虽大，中国可打鱼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钓鱼岛是中国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895-B8FC-4A09-9073-C196FD0955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9360" y="0"/>
            <a:ext cx="12201480" cy="6873840"/>
          </a:xfrm>
          <a:prstGeom prst="rect">
            <a:avLst/>
          </a:prstGeom>
          <a:ln w="0">
            <a:noFill/>
          </a:ln>
        </p:spPr>
      </p:pic>
      <p:sp>
        <p:nvSpPr>
          <p:cNvPr id="67" name="Freeform 10"/>
          <p:cNvSpPr/>
          <p:nvPr/>
        </p:nvSpPr>
        <p:spPr>
          <a:xfrm>
            <a:off x="8435880" y="0"/>
            <a:ext cx="3756240" cy="6858000"/>
          </a:xfrm>
          <a:prstGeom prst="pie">
            <a:avLst/>
          </a:prstGeom>
          <a:solidFill>
            <a:srgbClr val="021127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2"/>
          <p:cNvSpPr/>
          <p:nvPr/>
        </p:nvSpPr>
        <p:spPr>
          <a:xfrm>
            <a:off x="8435880" y="0"/>
            <a:ext cx="0" cy="146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4"/>
          <p:cNvSpPr/>
          <p:nvPr/>
        </p:nvSpPr>
        <p:spPr>
          <a:xfrm flipV="1">
            <a:off x="8435880" y="6200640"/>
            <a:ext cx="0" cy="65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7"/>
          <p:cNvSpPr/>
          <p:nvPr/>
        </p:nvSpPr>
        <p:spPr>
          <a:xfrm>
            <a:off x="8435880" y="2793960"/>
            <a:ext cx="0" cy="19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8"/>
          <p:cNvSpPr/>
          <p:nvPr/>
        </p:nvSpPr>
        <p:spPr>
          <a:xfrm>
            <a:off x="8375760" y="4662360"/>
            <a:ext cx="12060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8375760" y="6121440"/>
            <a:ext cx="120600" cy="1252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4221000"/>
            <a:ext cx="12192120" cy="263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0" y="2127240"/>
            <a:ext cx="12192120" cy="473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1219212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4221000"/>
            <a:ext cx="1219212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"/>
          <p:cNvSpPr/>
          <p:nvPr/>
        </p:nvSpPr>
        <p:spPr>
          <a:xfrm>
            <a:off x="623880" y="2475000"/>
            <a:ext cx="4703760" cy="47772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1353960" y="13352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感谢你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7920" y="6302520"/>
            <a:ext cx="55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9454c3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05:5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33:34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