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642-F937-46FA-A95B-7FA45E13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CE9-1295-4426-9EB1-577D3C8A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49F-78FE-416B-902B-388DB16F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F15-E397-4362-85FD-C2926951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89E-CD67-48CE-B694-26A4003C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098-77A2-4811-8578-DB84247C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FD6-0AA2-4C32-B535-314113CE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030-22A5-4829-83FB-91D1722D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2F9-CC83-4794-B1F5-562D0449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827-1B86-4D5A-9DD5-5762D882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C6B6-9308-4235-A90E-C87397A3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30B-18C0-42AE-BFBF-C9542845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EF16-17F8-47F2-B036-4CB3B8D2FE8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BB3C-3DFE-4A96-8E38-89D54094D4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648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2"/>
          <p:cNvSpPr/>
          <p:nvPr/>
        </p:nvSpPr>
        <p:spPr>
          <a:xfrm>
            <a:off x="2872440" y="2060640"/>
            <a:ext cx="38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淡雅古典</a:t>
            </a: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720" y="6308640"/>
            <a:ext cx="561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背景素材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451-9D87-440F-A7E2-1FB45872E5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09:0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3T09:29:47Z</dcterms:modified>
  <cp:revision>2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