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AB5-B245-4476-B6B7-B92A4830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54B-BCE7-4DBB-850A-7E0B8F9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23A-1CE7-4042-9DD5-AEEE6D88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70D-B991-4984-9CA1-2CF9366C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D95-2C0A-4290-8DC4-4EABD923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101F-87FE-4475-85AB-409CFA1B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CF9-1609-4930-A4FA-F80C3A56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894-67FB-4B3D-A50F-DC1E7C2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B9CC-82B5-4028-8E4E-6C6BBD0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6CE-C549-4011-ACFA-732205A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48F7-C819-4AF4-87D7-FC7EF43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D6D-AA1F-44D2-98B0-10953FA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C56-1646-4922-B7F9-999AED6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A9DF-C98E-4EF2-86A3-FBCC363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90D3-571B-4E18-BA5D-A638C91B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D5E1-4E74-47CF-882E-AACDE52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1E72-67DC-4624-B6D1-1303693A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81B-99B6-4248-B981-ECA4A36C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EC4-7822-4A83-80BA-8F7AE203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C23-7B26-47B5-BE24-B0B67A6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72E-6745-438B-B5F6-ED62CCFA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A44-26E6-4009-9622-9544AC2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CB9-E520-4457-B55B-6ED73D6F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502-2400-4D47-A736-A166B4B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F52-F34F-4856-A7DD-7B49CD94A5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1A3-F968-47E2-9F07-D25A61D536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264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电子信息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7" name="Group 34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88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4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4" name="Group 34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5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4d4d4d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1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1" name="Group 34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2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5f5f5f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48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08" name="Group 34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09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969696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55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5" name="Group 34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6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7c8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4d4d4d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96969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6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7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0526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5981760" y="1214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459480" y="192888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CF4-92E1-49FB-9C99-887337041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7:56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3:39Z</dcterms:modified>
  <cp:revision>3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