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919-3AA7-455D-99AF-156C59B8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A4C-E187-42B7-982D-9BF51449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2C1-41B5-4031-9CD5-CE4814F8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3F8-C81B-4AE8-A1DD-D9DFF755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A5A-A621-49AD-8C32-ADE7C12F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FB1-BB77-460B-B603-412FE40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348-F2FB-480A-9BE7-314401CB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F18-DF5F-4691-B67A-35C4F3BE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087-9570-4D7C-9EE4-4969FA20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0A8-1B01-4131-848C-15C2B00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E02-B256-4E5F-A5D2-4F7027D7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BBB-30C3-4056-BCF2-95CE69CB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13E3-4698-430F-A20F-3D15CF8182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d6c54f9ef8822a258ee900a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一封家书.mp3" descr="一封家书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25f6d9dab0ac536711df9b91"/>
          <p:cNvPicPr/>
          <p:nvPr/>
        </p:nvPicPr>
        <p:blipFill>
          <a:blip r:embed="rId1"/>
          <a:stretch/>
        </p:blipFill>
        <p:spPr>
          <a:xfrm>
            <a:off x="684360" y="-23760"/>
            <a:ext cx="8153280" cy="6970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小时候"/>
          <p:cNvPicPr/>
          <p:nvPr/>
        </p:nvPicPr>
        <p:blipFill>
          <a:blip r:embed="rId1"/>
          <a:stretch/>
        </p:blipFill>
        <p:spPr>
          <a:xfrm>
            <a:off x="-33480" y="-457200"/>
            <a:ext cx="9212400" cy="7483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3C2-9433-479E-87BD-5D230359FE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童年"/>
          <p:cNvPicPr/>
          <p:nvPr/>
        </p:nvPicPr>
        <p:blipFill>
          <a:blip r:embed="rId1"/>
          <a:stretch/>
        </p:blipFill>
        <p:spPr>
          <a:xfrm>
            <a:off x="3240" y="1440"/>
            <a:ext cx="9489960" cy="702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长大"/>
          <p:cNvPicPr/>
          <p:nvPr/>
        </p:nvPicPr>
        <p:blipFill>
          <a:blip r:embed="rId1"/>
          <a:stretch/>
        </p:blipFill>
        <p:spPr>
          <a:xfrm>
            <a:off x="-31680" y="-93600"/>
            <a:ext cx="9356760" cy="8034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老人"/>
          <p:cNvPicPr/>
          <p:nvPr/>
        </p:nvPicPr>
        <p:blipFill>
          <a:blip r:embed="rId1"/>
          <a:stretch/>
        </p:blipFill>
        <p:spPr>
          <a:xfrm>
            <a:off x="539640" y="-96840"/>
            <a:ext cx="8282160" cy="7199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xh6711a91eb3"/>
          <p:cNvPicPr/>
          <p:nvPr/>
        </p:nvPicPr>
        <p:blipFill>
          <a:blip r:embed="rId1"/>
          <a:stretch/>
        </p:blipFill>
        <p:spPr>
          <a:xfrm>
            <a:off x="539640" y="1773360"/>
            <a:ext cx="8077320" cy="5095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2920" y="4365720"/>
            <a:ext cx="6658200" cy="2208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恩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他们赐予我们生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赐予我们欢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予我们幸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828720" y="-23760"/>
            <a:ext cx="79214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宋体"/>
              </a:rPr>
              <a:t>祝福天下父母亲，感恩节快乐！</a:t>
            </a:r>
            <a:endParaRPr b="0" lang="en-US" sz="1800" spc="-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6:49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3:05:17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