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3555-5C43-4839-B30D-8089EED6275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7FB-2A6A-4A29-90DA-93231EA3FF8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名胜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地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某种地理特征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季节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动植物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-2106720" y="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重要历史事件添加到时间表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风俗传统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的领导人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-1757520" y="0"/>
            <a:ext cx="8166240" cy="61261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插入一张 展示您所在国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区某方面经济情况的图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D8D-3B50-46C5-8EEF-57685D63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79E-9907-4847-8F65-9D899B1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96695-BF94-48C4-84F5-D03C81C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BD0AE-DFC2-49A6-B49B-C216ADA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15D23-110C-44BD-9342-08A2DE34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6696C-B66E-4A2D-8FC9-7CA774E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26F53-1D0A-4586-8EF2-16E2D2E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9A372-F9F4-4865-86CD-8FDFBF5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5A7E2-A626-4C43-9F41-0E23C5D6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5DF0D-ACC0-4BDD-88A1-4EB97B22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A6517-A143-469D-A147-47DE3CCC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8D72-833B-4BFB-BAF5-FFDB597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915-D3EB-43C1-A017-267832F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6C463-3FAC-40E8-B625-DA18442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570C7-3B14-4DA7-B8E3-8B6E243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981B3-2836-4EB6-9E9C-E2109EF2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2D91-9335-47B5-B72E-CC8CCDC6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1F031-0E0F-489F-BED3-0A0743D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257B0-896A-41CB-9820-B39AEBE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CA61B-66E8-4192-B79C-C0F858E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E9F32-C3D6-4389-BF21-2D340D8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835C6-633A-4830-BEDF-EB54D955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006F6-F1C7-4701-AE31-982D13D8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D11-3885-4FE9-888F-6FFD8744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62A4A-859C-4A2E-932C-5118DC4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D1B36-7253-40B7-9D8F-A53F0569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34B42-5189-4EA5-BF05-8F8CD7E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A046-45D7-42A0-849B-BD13427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B5B40-2C56-4857-816D-78B521B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2BB82-B68E-4D58-99A1-B04F9DB3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605A0-844A-40D2-98F2-D551E91E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F5CB4-52EF-4049-875F-39916F0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88E33-9699-4B74-B2D9-2D21631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401C4-103F-4897-BCBC-B81662E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E13-4DBB-4C78-9D90-DA1B500C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008CD-2F47-49FE-BD0B-9D1E452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EA26-7F29-4D54-A579-257E79B9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48BE0-A730-44A3-8238-036FC431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0964F-3F29-45A9-AF36-336DEC33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6F9E1-DC1C-44B0-BA9A-D639D9A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19D77-126A-4ADB-8A88-5AEE0B4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F37B-ADEE-4E05-A9E0-2A4F1D5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25312-9BEB-49FC-877A-9FF147E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DAC10-1424-4745-B4D9-26A7252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670EB-C25E-4163-9A3F-97FCCC0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1509-020C-4799-B8B3-AEB23F97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3EEE1-B3E7-4B06-9A9C-3D938D87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9C49B-8827-40BE-A160-FB67A138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3BD39-6989-41A5-87E1-04715D8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BD1B2-AB94-4EC5-B068-E1EA698A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A024B-BCD9-4DB4-9610-CC648CA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05884-3687-4AFC-B44D-35DC1C5D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6313F-08D6-4895-9FEC-AF558980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DCC29-9958-4FA9-9ADF-B6511F9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B0563-A05B-4B40-8936-46734104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7478D-91E5-4EA7-A95E-BA4A4B9C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D15-D9E5-4435-BC48-B79FC7C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6AC88-E66B-4975-854C-37C275AF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0601A-7841-431C-94B8-7E903DF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4A1D1-2FA3-4724-BFB2-82488EE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98ECB-740A-4CDB-B931-D4DA8BE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ADEDF-C86F-4766-9EF0-0608F6A2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04640-551A-4898-959E-B0B2488D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0399B-2804-4A22-A227-6683E5DF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A83-DFF4-4C16-921E-BD2CCB35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7B7-C60F-465E-BDBD-28585033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A846-683A-4177-BBBB-80D11D2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7EC7-4FFB-4A87-B22E-39DE949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DAE-D9F4-4F4F-B197-FA69DF28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B63-1441-4B56-8619-E48AE70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4B61-B2EB-4C10-819F-4472AB3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FCDB-2EC1-456E-A760-C41D720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3182-58DD-4EDF-A5A1-C5A9389B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397-283D-410F-BD22-C627967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790F-9EF9-4251-9A2D-274FD772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879C-6D82-4101-8E65-03FB2394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EAFB-F447-43F4-8A6C-77D04B9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81C4-A5D8-4156-8189-1F4E08D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60F2-5BB1-4AD8-A58B-E3BDDCA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3EC-6C22-4688-8D5D-E651153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891E-752C-458D-B4BC-668B73F5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E8BE-899D-4DFF-85BC-56624F97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3D39-5305-43D2-869E-FA2B58A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22BC-EABD-45EF-9E6E-1D44E76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208B-3EC5-4A71-A0F7-804093D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23A0-F40A-4CE4-96BD-CA9FB0E8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DE26-AA88-4F34-959C-9878AA3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BC89-C012-4D28-8AE5-5FFB3AE3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9A13-F451-4BFE-AAC9-7EBF79F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7FC0-1B50-4B1B-AA02-79E13485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183-0A87-419F-B149-87A0E14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1573-F5C2-42B3-BC45-2AFF133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B4BD-7D3C-49DB-B6D7-64D5A11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4E20-BC24-46EE-9306-01C0E8E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635B-926D-475C-9EB8-4576596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F829-A7D7-43F1-81C2-AFE965E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5553-4D47-477C-8ED4-D826E9C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0C2D-91F4-4CDB-ADBA-068037F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39508-C9E3-4BD4-9EC0-24F54819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6B7B-5A2C-4E61-B72F-C801A9CF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4B3F-CCE2-474F-8FCC-7B7FF9D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C72-3915-48DB-82F9-A90ECD8E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41C2-AD58-49AE-9168-AE8EE31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C6A9-60FE-484C-8DC2-B376DB6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164A-B4BB-4F18-94CE-D2FAED9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3C27-8455-48CD-894E-1660FF69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8A635-6B63-43E0-A13A-5A83F982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7CF1-BD90-4E60-859D-B853894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CDD8-8C11-4DA0-B825-BD8E506D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8524-95DA-453A-B6D6-A2C80A4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FEC1-E697-4816-AC71-0A59829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32FA-056F-471B-BEBD-2CF2C1F4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F13-08C7-43CD-812C-8EE2B89D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CEBE-2A40-4E54-BFAA-121813F4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C845-6CF1-421B-A979-D6C01C13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54F8-7373-40DA-B358-1C8B7AA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297B-5038-4532-A296-BB03A3CA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AE52-A7DD-4DE3-A203-25F5F98A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4639F-C04E-4E62-ADEB-C8B8A0E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AC6C-4418-44DA-9332-64844F39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0E66-8145-4B6D-A63C-5DEB618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05A4-13F3-47E0-A347-9E582E2B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E592-90F0-4527-A673-61C5241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DB0-313E-4774-8AEC-E917E9B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7F07-A42F-4BCE-BC7F-82AF833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9D9AC-9BA0-4851-8455-2EF246F9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09C8-EC18-4B1F-8BAF-A56BA9F4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8C08-8E13-4FF4-833D-70B52C7B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B3C2-EE0B-4DA9-BC9D-B53D1C9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1B36-07FE-4974-9DDA-0061B83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746CF-2508-43C0-8031-698F471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BF45-E87A-4428-A4D9-E3B343B2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FC05-1494-4D08-B014-40FB85D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0C15-6ABC-433E-A801-961101C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3BF-53CF-4614-ADBD-EEB27D9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45D7-8B09-4CDA-9930-FF6C1C8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52E4-1E41-4533-90B6-AF50F8C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0060-DAFA-4A5F-82AF-25FA5D6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5308-0693-4533-BF4B-EBBE860B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0EB0-33BC-4112-A977-7F3E18A0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F8B49-5FAA-4B7C-BE8D-FF4BB053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82AAF-F855-4181-B1CB-7B30680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F637-2EF7-438E-A879-F890910E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60B1-D818-461D-9585-4F394577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F6794-F549-4B05-B143-91802EA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066-12C3-4C44-9DD3-4DDF243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6D080-CBE8-46AA-8956-AA8E9A1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6AC3-5679-4A35-80A3-4281FCF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61EEF-EB48-463A-B9D6-8D23BF3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01FD-1459-407E-8BBB-2D462FF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5D29-3FFF-4C3A-B7D6-7C0EC17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BD9C-A469-4F8E-A81E-2632EA04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8F239-C222-456B-BA4F-1D700B7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90349-9284-46E0-B183-DD68415D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B984-577A-4E74-8C86-4B9EC43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9D4ED-58EF-4E7D-A3E3-3FB3DE5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1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13"/>
            <p:cNvSpPr/>
            <p:nvPr/>
          </p:nvSpPr>
          <p:spPr>
            <a:xfrm>
              <a:off x="0" y="228600"/>
              <a:ext cx="9144000" cy="6400800"/>
            </a:xfrm>
            <a:prstGeom prst="rect">
              <a:avLst/>
            </a:prstGeom>
            <a:solidFill>
              <a:srgbClr val="80958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0" y="1371600"/>
              <a:ext cx="9144000" cy="505800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52404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9D1-1BDE-494C-B123-EE036DBB9A7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1F6-E5A8-437A-9D1F-B67E24F1EBE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566B-8F5F-4C2E-9256-897CADF76A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D042-879A-4076-89C9-0690B90A25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8DD-E6CA-485C-A0BD-5C59A1F256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6738-493D-45B6-BFF8-53481A0686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B46-5C8E-4630-980A-116D7993F2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DD8-A558-43ED-B419-2AED9C6F00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091-960D-4DD8-B1FD-3E4841C990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114-908A-4865-8D4A-859474C35C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FAF7-B100-4501-BCF8-EBDC507F6B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204-2D3E-4B64-BD68-D9BC36F87C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F8B-4DE9-4A5A-A241-E734A72DC5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D91-EDDB-4E26-B438-266B2D5194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3C6-044E-4533-9404-C2FCC25070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657-C204-4038-964D-DBDE83CBC4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4B79-932C-48A1-B87A-1526C9CE87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3F09-B963-45BE-978F-7B7886B30E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56B8-61CD-4CD4-85F9-2F4619B3BD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091-350E-4175-B3C3-B6EC4329D1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48DA-86E7-469F-B45A-E934FFDA6C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6D2-8FB2-4C56-858B-E9ACF4F213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4A8-4B64-4EA1-B732-BF4118BA89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01C-8101-42BD-A3BB-FF8CC09C40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131-74A6-42DE-B5BC-FF5AE1830D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D4FE-B610-47BC-BE63-89002A7842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547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a8cdd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名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姓名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教师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年级</a:t>
            </a:r>
            <a:endParaRPr b="0" lang="en-US" sz="16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55" name="矩形 1"/>
          <p:cNvSpPr/>
          <p:nvPr/>
        </p:nvSpPr>
        <p:spPr>
          <a:xfrm>
            <a:off x="2476080" y="32288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家或地区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1"/>
          <p:cNvSpPr/>
          <p:nvPr/>
        </p:nvSpPr>
        <p:spPr>
          <a:xfrm>
            <a:off x="280800" y="6435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B93-0397-4DE6-87B9-F9CD516165A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旅游业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中可能吸引其他国家的游客的旅游景点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61E-E768-4630-A6C8-E07A11EA04D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位置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位于哪个洲以及有哪些邻国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C9E-B6A6-4296-9D2F-FAD9E4166B9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地理特征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指出位于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或相邻地区的任何重要河流、湖泊、海洋、山脉和其他地理特征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C167-AB31-4991-95EF-48BC9EF43C1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气候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全年的典型天气模式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EBF-47BF-4FC7-9DD2-746D2EA027E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环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描述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所特有的一些动植物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36B-7E84-49D7-8B89-9C6B5651350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历史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1768320"/>
          <a:ext cx="8305920" cy="1798920"/>
        </p:xfrm>
        <a:graphic>
          <a:graphicData uri="http://schemas.openxmlformats.org/drawingml/2006/table">
            <a:tbl>
              <a:tblPr/>
              <a:tblGrid>
                <a:gridCol w="1384200"/>
                <a:gridCol w="1384560"/>
                <a:gridCol w="1384200"/>
                <a:gridCol w="1384200"/>
                <a:gridCol w="1384200"/>
                <a:gridCol w="13845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Name of Event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Name of Event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的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ab39a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一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二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三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四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五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第</a:t>
                      </a:r>
                      <a:r>
                        <a:rPr b="0" lang="zh-CN" sz="16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六个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事件的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200F-6943-48CA-9F62-0EF532CA044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风俗传统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庆祝的重要风俗传统。包含有关庆祝者和庆祝时间的信息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932-F8D4-493C-BB95-AD5DC46262E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政府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如何制定和更改法律。介绍国家领导人的选举方法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灯片编号占位符 5"/>
          <p:cNvSpPr/>
          <p:nvPr/>
        </p:nvSpPr>
        <p:spPr>
          <a:xfrm>
            <a:off x="655308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C282-B169-4C4A-BB19-3F15CDD5DB4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经济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生产或提供的货物和服务。用户通常如何为自己及其家人提供所需品？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6:31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9:14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1659609990</vt:lpwstr>
  </property>
</Properties>
</file>