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4D0-1D08-40EB-8260-F368FCCA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025-0436-4165-8DF4-A03D4CE0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D07-20CE-4B02-A5A9-57CEE5AE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DA0-91B2-4C8A-857A-FCF0DEBC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458-1E1B-46D6-A1C2-3EA02086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511-2FE2-4CBD-9D2A-20F6C9C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60D-A33C-4A8F-B0EC-47FE93F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0B6-CF90-455B-8AA1-A73D006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FC0-24A3-43AD-A28C-8183FD9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609-1D74-4AD4-AAF6-A45FCB0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862-9891-420D-8180-BCE20EB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328-5A18-436C-875A-4FEA3924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58638-DE90-4EA6-AB7A-2A63570A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94920"/>
            <a:ext cx="90709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象棋商业博弈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" y="7093080"/>
            <a:ext cx="5080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504720" y="566640"/>
            <a:ext cx="7594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6DD-3AD6-4BB5-8024-43E619B46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3152880" y="2320920"/>
            <a:ext cx="6429240" cy="898560"/>
          </a:xfrm>
          <a:prstGeom prst="roundRect">
            <a:avLst>
              <a:gd name="adj" fmla="val 11741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315288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15288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2055960" y="2314440"/>
            <a:ext cx="917280" cy="868320"/>
          </a:xfrm>
          <a:prstGeom prst="roundRect">
            <a:avLst>
              <a:gd name="adj" fmla="val 16667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055960" y="3660840"/>
            <a:ext cx="917280" cy="882720"/>
          </a:xfrm>
          <a:prstGeom prst="roundRect">
            <a:avLst>
              <a:gd name="adj" fmla="val 16667"/>
            </a:avLst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055960" y="5011560"/>
            <a:ext cx="917280" cy="906480"/>
          </a:xfrm>
          <a:prstGeom prst="roundRect">
            <a:avLst>
              <a:gd name="adj" fmla="val 16667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214776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216684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2408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2408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"/>
          <p:cNvSpPr/>
          <p:nvPr/>
        </p:nvSpPr>
        <p:spPr>
          <a:xfrm>
            <a:off x="5262480" y="3735360"/>
            <a:ext cx="1435320" cy="1434960"/>
          </a:xfrm>
          <a:prstGeom prst="ellipse">
            <a:avLst/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5473800" y="2355840"/>
            <a:ext cx="103824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7042320" y="4916520"/>
            <a:ext cx="103788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8440" y="4916520"/>
            <a:ext cx="103824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5"/>
          <p:cNvCxnSpPr>
            <a:stCxn id="58" idx="0"/>
            <a:endCxn id="56" idx="3"/>
          </p:cNvCxnSpPr>
          <p:nvPr/>
        </p:nvCxnSpPr>
        <p:spPr>
          <a:xfrm flipV="1">
            <a:off x="4327200" y="3242880"/>
            <a:ext cx="1297800" cy="16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"/>
          <p:cNvCxnSpPr>
            <a:stCxn id="56" idx="5"/>
            <a:endCxn id="57" idx="0"/>
          </p:cNvCxnSpPr>
          <p:nvPr/>
        </p:nvCxnSpPr>
        <p:spPr>
          <a:xfrm>
            <a:off x="6359040" y="3243240"/>
            <a:ext cx="1202400" cy="16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/>
          <p:nvPr/>
        </p:nvCxnSpPr>
        <p:spPr>
          <a:xfrm flipH="1">
            <a:off x="4833720" y="5540400"/>
            <a:ext cx="22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AutoShape 8"/>
          <p:cNvSpPr/>
          <p:nvPr/>
        </p:nvSpPr>
        <p:spPr>
          <a:xfrm>
            <a:off x="3452760" y="2462040"/>
            <a:ext cx="1744560" cy="65916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468600" y="2424240"/>
            <a:ext cx="2359080" cy="142920"/>
          </a:xfrm>
          <a:custGeom>
            <a:avLst/>
            <a:gdLst/>
            <a:ahLst/>
            <a:rect l="l" t="t" r="r" b="b"/>
            <a:pathLst>
              <a:path w="6555" h="397">
                <a:moveTo>
                  <a:pt x="6554" y="396"/>
                </a:moveTo>
                <a:lnTo>
                  <a:pt x="605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8191440" y="4184640"/>
            <a:ext cx="1744560" cy="6588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697040" y="4898880"/>
            <a:ext cx="1744560" cy="6588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1685880" y="5600880"/>
            <a:ext cx="237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7693200" y="4896000"/>
            <a:ext cx="2279520" cy="217440"/>
          </a:xfrm>
          <a:custGeom>
            <a:avLst/>
            <a:gdLst/>
            <a:ahLst/>
            <a:rect l="l" t="t" r="r" b="b"/>
            <a:pathLst>
              <a:path w="6331" h="605">
                <a:moveTo>
                  <a:pt x="0" y="604"/>
                </a:moveTo>
                <a:lnTo>
                  <a:pt x="604" y="0"/>
                </a:lnTo>
                <a:lnTo>
                  <a:pt x="633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1"/>
          <p:cNvSpPr/>
          <p:nvPr/>
        </p:nvSpPr>
        <p:spPr>
          <a:xfrm>
            <a:off x="1971720" y="3321000"/>
            <a:ext cx="1685880" cy="168588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4619520" y="3570120"/>
            <a:ext cx="1168560" cy="116856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4367160" y="5146560"/>
            <a:ext cx="1168560" cy="116856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4367160" y="2036880"/>
            <a:ext cx="1168560" cy="116820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972040" y="2021040"/>
            <a:ext cx="3535560" cy="111744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6"/>
          <p:cNvCxnSpPr>
            <a:stCxn id="69" idx="7"/>
            <a:endCxn id="72" idx="2"/>
          </p:cNvCxnSpPr>
          <p:nvPr/>
        </p:nvCxnSpPr>
        <p:spPr>
          <a:xfrm flipV="1">
            <a:off x="3409920" y="2619000"/>
            <a:ext cx="95976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"/>
          <p:cNvCxnSpPr>
            <a:stCxn id="69" idx="5"/>
            <a:endCxn id="71" idx="2"/>
          </p:cNvCxnSpPr>
          <p:nvPr/>
        </p:nvCxnSpPr>
        <p:spPr>
          <a:xfrm>
            <a:off x="3409920" y="475920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8"/>
          <p:cNvCxnSpPr>
            <a:stCxn id="69" idx="6"/>
            <a:endCxn id="70" idx="2"/>
          </p:cNvCxnSpPr>
          <p:nvPr/>
        </p:nvCxnSpPr>
        <p:spPr>
          <a:xfrm flipV="1">
            <a:off x="3656160" y="4152600"/>
            <a:ext cx="9640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AutoShape 9"/>
          <p:cNvSpPr/>
          <p:nvPr/>
        </p:nvSpPr>
        <p:spPr>
          <a:xfrm>
            <a:off x="5972040" y="3584520"/>
            <a:ext cx="3535560" cy="111780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5972040" y="5116680"/>
            <a:ext cx="3535560" cy="111744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3249720" y="208440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202572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02572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473720" y="27687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249720" y="348768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3249720" y="48927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47192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noFill/>
          <a:ln w="9360">
            <a:solidFill>
              <a:srgbClr val="b2c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037280" y="370188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9"/>
          <p:cNvCxnSpPr>
            <a:stCxn id="86" idx="3"/>
            <a:endCxn id="87" idx="2"/>
          </p:cNvCxnSpPr>
          <p:nvPr/>
        </p:nvCxnSpPr>
        <p:spPr>
          <a:xfrm flipV="1">
            <a:off x="5219640" y="4809240"/>
            <a:ext cx="182016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1"/>
          <p:cNvSpPr/>
          <p:nvPr/>
        </p:nvSpPr>
        <p:spPr>
          <a:xfrm>
            <a:off x="4543560" y="3908520"/>
            <a:ext cx="2381040" cy="2382840"/>
          </a:xfrm>
          <a:prstGeom prst="ellipse">
            <a:avLst/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8037360" y="4189320"/>
            <a:ext cx="1963800" cy="9050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620720" y="2320920"/>
            <a:ext cx="1963800" cy="9032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600200" y="4589640"/>
            <a:ext cx="1963800" cy="90468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3673440" y="2446200"/>
            <a:ext cx="2381400" cy="2382840"/>
          </a:xfrm>
          <a:prstGeom prst="ellipse">
            <a:avLst/>
          </a:prstGeom>
          <a:solidFill>
            <a:srgbClr val="9ca8c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>
            <a:off x="1592280" y="4537080"/>
            <a:ext cx="3605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545080" y="2444760"/>
            <a:ext cx="2382840" cy="2382840"/>
          </a:xfrm>
          <a:prstGeom prst="ellipse">
            <a:avLst/>
          </a:prstGeom>
          <a:solidFill>
            <a:srgbClr val="7985a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6419880" y="4416480"/>
            <a:ext cx="3589200" cy="727200"/>
          </a:xfrm>
          <a:custGeom>
            <a:avLst/>
            <a:gdLst/>
            <a:ahLst/>
            <a:rect l="l" t="t" r="r" b="b"/>
            <a:pathLst>
              <a:path w="9970" h="2020">
                <a:moveTo>
                  <a:pt x="0" y="0"/>
                </a:moveTo>
                <a:lnTo>
                  <a:pt x="2677" y="2019"/>
                </a:lnTo>
                <a:lnTo>
                  <a:pt x="9969" y="201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1625760" y="2266920"/>
            <a:ext cx="4141800" cy="1157400"/>
          </a:xfrm>
          <a:custGeom>
            <a:avLst/>
            <a:gdLst/>
            <a:ahLst/>
            <a:rect l="l" t="t" r="r" b="b"/>
            <a:pathLst>
              <a:path w="11503" h="3213">
                <a:moveTo>
                  <a:pt x="11502" y="3212"/>
                </a:moveTo>
                <a:lnTo>
                  <a:pt x="903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5062680" y="2112840"/>
            <a:ext cx="4682880" cy="1111320"/>
          </a:xfrm>
          <a:prstGeom prst="pie">
            <a:avLst/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 flipV="1">
            <a:off x="1859040" y="5299200"/>
            <a:ext cx="4682880" cy="1110960"/>
          </a:xfrm>
          <a:custGeom>
            <a:avLst/>
            <a:gdLst>
              <a:gd name="textAreaLeft" fmla="*/ 707760 w 4682880"/>
              <a:gd name="textAreaRight" fmla="*/ 3975120 w 4682880"/>
              <a:gd name="textAreaTop" fmla="*/ 167760 h 1110960"/>
              <a:gd name="textAreaBottom" fmla="*/ 94320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5727600" y="3308400"/>
            <a:ext cx="3370320" cy="1079280"/>
          </a:xfrm>
          <a:prstGeom prst="pi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 flipV="1">
            <a:off x="2523960" y="413460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86240" y="45482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 flipV="1">
            <a:off x="635652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15288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487680" y="56642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727680" y="497988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14680" y="342252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1" descr=""/>
          <p:cNvPicPr/>
          <p:nvPr/>
        </p:nvPicPr>
        <p:blipFill>
          <a:blip r:embed="rId2"/>
          <a:stretch/>
        </p:blipFill>
        <p:spPr>
          <a:xfrm>
            <a:off x="1512720" y="2171880"/>
            <a:ext cx="8072640" cy="4660560"/>
          </a:xfrm>
          <a:prstGeom prst="rect">
            <a:avLst/>
          </a:prstGeom>
          <a:ln w="0">
            <a:noFill/>
          </a:ln>
        </p:spPr>
      </p:pic>
      <p:cxnSp>
        <p:nvCxnSpPr>
          <p:cNvPr id="112" name="AutoShape 2"/>
          <p:cNvCxnSpPr>
            <a:endCxn id="113" idx="1"/>
          </p:cNvCxnSpPr>
          <p:nvPr/>
        </p:nvCxnSpPr>
        <p:spPr>
          <a:xfrm flipV="1">
            <a:off x="5845320" y="2088720"/>
            <a:ext cx="11520" cy="2139120"/>
          </a:xfrm>
          <a:prstGeom prst="straightConnector1">
            <a:avLst/>
          </a:prstGeom>
          <a:ln w="43200">
            <a:solidFill>
              <a:srgbClr val="7985a9"/>
            </a:solidFill>
            <a:miter/>
            <a:tailEnd len="med" type="triangle" w="med"/>
          </a:ln>
        </p:spPr>
      </p:cxnSp>
      <p:sp>
        <p:nvSpPr>
          <p:cNvPr id="113" name="Text Box 3"/>
          <p:cNvSpPr/>
          <p:nvPr/>
        </p:nvSpPr>
        <p:spPr>
          <a:xfrm>
            <a:off x="657288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 rot="16140000">
            <a:off x="9153000" y="4429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5"/>
          <p:cNvCxnSpPr>
            <a:stCxn id="114" idx="0"/>
            <a:endCxn id="114" idx="0"/>
          </p:cNvCxnSpPr>
          <p:nvPr/>
        </p:nvCxnSpPr>
        <p:spPr>
          <a:xfrm>
            <a:off x="9550440" y="46112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6"/>
          <p:cNvCxnSpPr>
            <a:endCxn id="114" idx="0"/>
          </p:cNvCxnSpPr>
          <p:nvPr/>
        </p:nvCxnSpPr>
        <p:spPr>
          <a:xfrm flipH="1">
            <a:off x="9550080" y="4501800"/>
            <a:ext cx="33840" cy="111960"/>
          </a:xfrm>
          <a:prstGeom prst="straightConnector1">
            <a:avLst/>
          </a:prstGeom>
          <a:ln w="0">
            <a:noFill/>
          </a:ln>
        </p:spPr>
      </p:cxnSp>
      <p:sp>
        <p:nvSpPr>
          <p:cNvPr id="117" name="Text Box 7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01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License">
    <vt:lpwstr>&lt;a href="http://templates.services.openoffice.org/bsd-license"&gt;BSD&lt;/a&gt;</vt:lpwstr>
  </property>
</Properties>
</file>