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FE9-AD33-43A6-9F48-4A31F4ED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7FA-DC41-49D3-989C-08902307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392EE-C977-4C40-8CD1-FC28634A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5E19A-3FFC-4EF1-B42A-6C003F33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2C3FA-A6D0-4231-8740-3C6F2193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9FDFC-13DC-46D6-AD00-CE6E26F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A4014-24E8-46D4-8629-B5CB9D5B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7157F-3A8B-4C2F-9142-22B871D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4F74F-1B64-4FC7-B8ED-DDD3E428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D156A-0055-42E0-8ABB-35FB79FE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ED5F4-2451-4D73-87DD-3A599E4F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9AECE-EA9E-497D-8D47-800DFEAB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0428-FCB6-4680-8377-546125DF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835D8-EED5-410B-8ED2-8D2F7534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7B51A-5B59-472B-B8B9-E1C483C3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42570-C68E-48FE-9C58-AD124F62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110E0-D6CE-41C1-99F1-939ADEBE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ABE67-5A67-48A0-AE91-8AF12988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0859F-C6B1-4E8B-9FA5-FFF57A7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491B6-35C2-49AE-B139-59D9AD2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1AE43-02C4-4FB3-8003-098CB48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B47F0-1C2F-4EA8-BC4A-FB67027B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F94A3-EC28-4C27-9FBA-1E774A6E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F8F-DF27-4FA2-9D76-2FAB776D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48C99-2548-4077-AF29-7FA88F87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A24DC-5C99-4E37-9F0D-BAC7FD2A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A0808-70D5-45CC-8745-35DF6B98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69876-E6A7-4CD4-BA0C-336F0132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09890-4DB0-487A-89DB-3A1A9341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46BDC-7CBD-4D14-8FCD-99ED9DE9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D8353-FBF0-4A04-9E37-8D7CA7A5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8CA00-2533-4682-AD54-40123C96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B1236-4126-49D7-8D67-14A1709E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2E471-0E8F-409F-A4FA-C574BC2F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61C3-7BC6-4FDF-BC99-0D086D19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CEFEB-C3DF-4022-ACC2-F6498AE4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E8A7D-4F65-4306-805F-3D3968EF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96998-6415-4800-A29C-4449F8CB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2B983-2EEC-4655-A911-968B519C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46914-D664-4AA1-9B22-51F9FE50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A5B87-1684-4A1B-B61F-A5B5AB66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6A794-4AF8-4F6E-9981-47A5384F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485B8-F3C1-4EC3-A7CF-A06EBE79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271EA-635C-47CB-83B5-05B20059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F791C-FCD3-4718-AE4D-7864C77C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ED9A-D30B-4648-87AA-B00EA0A4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B319A-D6E0-4BB1-ADFE-5BB5667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56D4E-92D4-4BF5-8B1B-E63964FB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73FBE-EA82-4FF6-B333-A7A41C04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62231-8A73-4B3E-9173-BD7A23C4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45DE0-F49A-486C-BB6F-C1B84B17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16774-C56D-400E-9B98-BF45D96B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5C850-BA76-405B-9476-F593D6F7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39507-E045-4082-B24A-20BB5E7A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98FBB-242B-4DC1-9BE6-F7B6A8A9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CC7A5-0465-4309-8D2E-A671F629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C3F1-4E9F-4AA1-842C-D1549B3A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F9E43-DDE0-4EE9-98F6-F641A3B3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39618-ADA7-41FF-B23F-BF65EEE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B8FD9-E77F-4323-A0C2-B801662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8ED17-6837-40A7-A121-AA62CF05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14875-468E-4F11-AA6F-3A49C487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525FC-CE73-4AED-9BFC-65390075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DAAD1-1FD2-4295-BA6D-21784DB1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F4A8-8A1B-4770-960C-74C0C123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7430-6140-4B48-897B-7A42FED9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5D69-A6D7-498E-AC46-58B8D365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9DF3-BB50-47FA-A639-FEC78561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137-A795-4053-9EA1-4D86F5C0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368F-FC87-44E7-9FB4-39D300D8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AE0E-17A5-4CB8-A53F-DE19EDA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2535-A3F9-49B0-B515-E6EE0009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099D-F4AE-47DB-A32F-2D13B275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11EB-4567-4B95-ABEC-C8BD838E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5703B-9607-46D2-AB8C-402BF786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3904-ACEC-4554-A8AD-E91E060C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ACFF2-4149-4C3F-A1C6-C52DCF16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E6487-27AA-45CD-943E-5B70C752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3070-1CD1-49C9-81A4-0EFD8952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CF9-2C9F-442C-AABD-E9F05FAD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912D-3DFE-4F11-B0BA-16F2314D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8349-9CF2-4296-BC31-E9F0C33E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E7DC-5E3F-4701-8F25-5AF9238D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34599-0D4A-492B-88BD-7123500E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3B74-199F-4BB5-8440-5E17D689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83EC-1F85-474A-8DED-CA9D69EB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5EDE-5AD2-4ACA-8C21-1E8AE16F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98B61-0107-4A8E-8E0F-FA578177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D0E9-59A2-4BC7-853E-51BB3E55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C910-DED4-48C0-974B-89316608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F65-5C89-4AEC-9DF4-FD8C290B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5694E-E1CE-4534-A6E0-4BA49CF9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DCBC-4B32-4BC1-B05E-B7C38340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E9743-5A2E-434B-BDCB-7C03E8F4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DB110-641B-458D-A498-FCBF191D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D5C7D-BEBF-412D-9448-C2C61D2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70B9-6E2B-4AB9-81F4-E54DBE56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909D7-A678-4FF9-BEAD-7ADE3DC1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C61F-1247-4FC2-AD57-4C811805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1AEAF-B84B-42AC-8D56-8FE96ACC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A58B-D1A4-4EF1-B70C-11FCA9F5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6CE-A2C1-4400-B961-C04B6283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4C939-A6B5-47A0-9E3B-14C3C807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06397-F8A8-4F54-9FC6-5DD19106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5F759-3F71-46C6-8580-ED40D381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07255-C617-47A5-86E8-7BE1AAAD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6740-B42C-4891-952D-214AE665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45DB0-C4C9-4C04-B3B6-3F8DDADB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92246-FF0A-400A-B804-43CA2A07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7D691-E450-4103-BCD6-1584461B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27082-9B9F-4DEA-94E5-835BB09F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4F406-EA6E-44CE-B306-C47B4BE1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10E-C352-4987-9990-C37F9125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5FC11-47BC-443C-A473-F4E8E41C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DF033-E94E-436F-B059-2D8A5BFE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16127-7D55-4583-A73D-39E151BD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67605-BBE4-4236-BC09-A1AC7CE5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66F3-ABE3-47A8-AA4D-DB41D2D8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F7E5E-70D9-41AD-9E78-C1732A1C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42CC2-CD80-4614-BFCD-94208EB1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4E70-7ABB-4252-A519-FBCC833F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80375-2F8F-49BC-AF5C-232035BD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ABEA-0764-437C-AFA1-D1743B24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1AAE-A69B-4A45-AE36-BE6CA108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FCD25-2CD2-4313-B65E-7F766D6F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CB118-5EDC-4881-8040-B5BE7F49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64856-9982-4D7C-A956-4406DCE2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39A70-48B7-4252-A8CB-52399B62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E4E08-7F89-4A73-846B-41DE27CF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3EB0-5478-40DE-9066-A38C80B8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8D582-B4C9-445A-AAAF-CB2BFAD5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26569-F39E-4A29-8B10-432C80CC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3AF6F-5D1C-48E4-8EF5-D9D8DE73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A06EB-C1AD-4D22-96AA-5925300F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1A3-E16B-4ADF-AAE7-F50153D6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CBA8F-BD58-427B-BE55-9191E436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8456D-E7B2-4AED-9D67-E5E4C96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C105D-7C81-4C53-A678-D7CA8A53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236D0-BC66-47B8-BA4F-6C03DDFB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158AF-F2AD-4C01-9BF3-7ED8FAED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0F9DC-EF5A-4B27-A139-9393301A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B4E79-A26A-4257-83DD-3C9C6F8B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FAF04-860F-4F66-80B7-6F95532F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AE822-1CA4-4012-BAC6-2B9C25EA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C5AAC-E3DB-4F81-9391-EB1BD486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2E1-E804-423F-B9DF-231D5A52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37F26-6610-49BE-A9B5-0229A073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01256-AB73-4348-83C1-F0834705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82067-F0EC-4A19-B348-340EE4F0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2880F-B54B-4F36-A726-F0B93D91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D918D-DDAC-412F-B426-BCB3DA44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17DB2-95D6-419D-910C-2DA19849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8FAD7-C597-4B0F-B515-DFB37C7D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D55C6-7E3E-40F6-A329-B37F0663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5772F-B9D8-4081-9F11-DC26AB28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4DD53-FD23-4D6A-861D-CE9699C0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78AF-41E9-405E-91E5-22D61AC3F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16F1-F0E8-4EFB-B0BF-992CB3F61A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9470-0151-4D93-B36F-64A5A348C1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DD5C-F16E-4661-8704-097128A40F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B574-CFB0-4DC0-8CE6-F239DDA22E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4CFB-5A79-4822-AB29-143A5FA0CD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249D-0CEB-4E23-8479-6AB6DF5E43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AB5D-FDDF-4821-96A9-E1986B3CCD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1A51-DEA0-4E0C-80AC-22A034DE73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EEB0-8338-46E0-9CBE-1FC1DC02B3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EB6B-40C8-47E9-957B-71326B1493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952B-DE53-416C-A45A-28D8C51C80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84D2-E524-4E11-9023-EECEDBBEAB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396720" y="2276640"/>
            <a:ext cx="65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99"/>
                </a:solidFill>
                <a:latin typeface="Arial"/>
                <a:ea typeface="微软雅黑"/>
              </a:rPr>
              <a:t>通货膨胀、通货紧缺</a:t>
            </a:r>
            <a:r>
              <a:rPr b="1" lang="zh-CN" sz="5400" spc="-1" strike="noStrike">
                <a:solidFill>
                  <a:srgbClr val="ff9999"/>
                </a:solidFill>
                <a:latin typeface="Arial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99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9999"/>
                </a:solidFill>
                <a:latin typeface="微软雅黑"/>
                <a:ea typeface="微软雅黑"/>
              </a:rPr>
              <a:t>&amp;</a:t>
            </a:r>
            <a:r>
              <a:rPr b="1" lang="zh-CN" sz="5400" spc="-1" strike="noStrike">
                <a:solidFill>
                  <a:srgbClr val="ff9999"/>
                </a:solidFill>
                <a:latin typeface="微软雅黑"/>
                <a:ea typeface="微软雅黑"/>
              </a:rPr>
              <a:t>就业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"/>
          <p:cNvSpPr/>
          <p:nvPr/>
        </p:nvSpPr>
        <p:spPr>
          <a:xfrm>
            <a:off x="2584800" y="1268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货币与就业问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539640" y="1701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通货膨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96720" y="314172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通货膨胀（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Inflation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）指在纸币流通条件下，因货币供给大于货币实际需求，也即现实购买力大于产出供给，导致货币贬值，而引起的一段时间内物价持续而普遍地上涨现象。其实质是社会总需求大于社会总供给 （供远小于求）。纸币、含金量低的铸币、信用货币，过度发行都会导致通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539640" y="1701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通货紧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468360" y="29973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通货紧缩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(deflation) 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：当市场上流通货币减少，人民的货币所得减少，购买力下降，影响物价之下跌，造成通货紧缩。长期的货币紧缩会抑制投资与生产，导致失业率升高及经济衰退。对于其概念的理解，仍然存在争议。但经济学者普遍认为，当消费者价格指数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(cpi)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连跌三个月，即表示已出现通货紧缩。通货紧缩就是产能过剩或需求不足导致物价、工资、利率、粮食、能源等各类价格持续下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539640" y="170172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膨胀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or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紧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468360" y="299736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通货膨胀直接使纸币贬值，如果居民的收入没有变化，生活水平就会下降，造成社会经济生活秩序混乱，不利于经济的发展。不过在一定时期内，适度的通货膨胀又可以刺激消费，扩大内需，推动经济发展。                                   通货紧缩导致物价下降，在一定程度上对居民生活有好处，但从长远看会严重影响投资者的信心和居民的消费心理，导致恶性的价格竞争，对经济的长远发展和人民的长远利益不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828720" y="1341360"/>
            <a:ext cx="7632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凯恩斯主义支持者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胀与失业之间存在短期替代关系，即高通胀就会伴随低失业，反之低失业则对应高通胀。（因为凯主义倾向于短期分析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向下倾斜的曲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衣以弗里德曼为代表的货币主义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有当预期的通胀率不等于实际通胀率时（短期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向下倾斜）两者才存在替代关系。当预期通胀率等于实际通胀率时（长期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垂直）两者不存在替代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以卢卡斯为代表的理性预期学派认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99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预期总是理性的，即预期会等于实际，不管短期还是长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是垂直的，即通胀与失业之间不存在替代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324000" y="2276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菲利普斯曲线来说，当通货膨胀率高时，失业率低；通货膨胀率低时，失业率高。政府在一定时期内，据此指导宏观经济政策，以紧缩或扩张的财政与货币政策，可以将通货膨胀率和失业率控制在社会可接受的水平之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过去的一年里我国的物件呈上升趋势，到目前为止仍未得到缓解，为何菲利普斯曲线在我们这里会失灵呢？而就业问题一直难以得到解决。解决好就业问题，关系到亿万群众的切实利益，希望有关部门能够采取相应的措施，加速劳动力市场的培育和建设，大力促进经济发展与就业的“双赢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WordArt 3"/>
          <p:cNvSpPr txBox="1"/>
          <p:nvPr/>
        </p:nvSpPr>
        <p:spPr>
          <a:xfrm>
            <a:off x="5219640" y="909720"/>
            <a:ext cx="20322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就业影响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324000" y="206064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目前存在的通货紧缩不单是物价和货币现象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效需求不足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物价低迷不振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消费者预期看淡均与国企改革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构调整、下岗失业、社会保障 改革滞后等体制性和社会性因素相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同时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货紧缩的漫延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解决下岗职工的再就业造成相当的难度和障碍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而下岗再就业受阻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失业现象一旦显化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会加深通货紧缩的程度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带来诸多社会不稳定的问题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值得警惕的。为此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今年宏观经济政策的选择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把治理通货紧缩和拉动再就业结合起来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刺激消费需求增长为主动力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寻求一套就业优化的政策体系为支撑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既保证扩大内需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走出通缩的阴影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实现就业的可持续增长和社会的稳定繁荣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不失为宏观经济政策一种现实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WordArt 3"/>
          <p:cNvSpPr txBox="1"/>
          <p:nvPr/>
        </p:nvSpPr>
        <p:spPr>
          <a:xfrm>
            <a:off x="5219640" y="909720"/>
            <a:ext cx="2032200" cy="57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就业影响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2413080" y="2709720"/>
            <a:ext cx="694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99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4:30:2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13:41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