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2BD-DAEA-4CA8-88BB-B67CFFDF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8B8-30FB-412B-A8A1-C54FD648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BDB-89AB-418C-BCDE-3D829B65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892-1A4B-4D6A-B9B8-15BA1910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FE4-46F0-4F6D-9AA2-C22B145E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C77D-C1E1-419E-B5A2-A3F1FB1D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D213-7927-4C4D-AC0A-876253F9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2742-2021-4EBE-A472-9363AC9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613-BCF1-495C-BC5D-E437D09E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BD3C-0222-48A3-9DDA-048119A5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F8CF-847D-43DB-855D-C41B34F6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5DB-44BF-47F5-8819-12C27348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96C9-0E7A-45B9-98B7-191C2FA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B1D4-41E9-4A9C-8E04-C15E73C4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872F-52D6-4979-B3A3-A45749AD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6CC6-EC13-4489-8E25-8B229B68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B5C-B8E5-4921-BDE0-864CF9AF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68B-47D6-4557-A920-DB668473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F50-30B2-436C-9448-0842A6BB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28F-0B1A-4048-9814-73505689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2C5-4125-475E-8895-2C88F25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9E3-2618-4AB7-A12B-590B721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2AB-79A2-4173-A755-D54F164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4A5-447F-442A-AA28-1889E6A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Click to edit the outline text format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1" marL="743040" indent="-28584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Second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2" marL="1143000" indent="-22860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Third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3" marL="1600200" indent="-22860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Fourth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4" marL="2057400" indent="-22860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Fifth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Sixth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Seventh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3016-1E4B-4936-8F8B-A196A2C93793}" type="slidenum"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d056f"/>
                </a:solidFill>
                <a:latin typeface="-보람B"/>
              </a:rPr>
              <a:t>Click to edit the title text format</a:t>
            </a:r>
            <a:endParaRPr b="0" lang="en-US" sz="5200" spc="-1" strike="noStrike">
              <a:solidFill>
                <a:srgbClr val="0d056f"/>
              </a:solidFill>
              <a:latin typeface="-보람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8F7-48D0-4E60-B396-ED349E53A0A5}" type="slidenum"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-보람B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56f"/>
                </a:solidFill>
                <a:latin typeface="-보람M"/>
              </a:rPr>
              <a:t>Second Outline Level</a:t>
            </a:r>
            <a:endParaRPr b="0" lang="en-US" sz="2000" spc="-1" strike="noStrike">
              <a:solidFill>
                <a:srgbClr val="0d056f"/>
              </a:solidFill>
              <a:latin typeface="-보람M"/>
            </a:endParaRPr>
          </a:p>
          <a:p>
            <a:pPr lvl="2" marL="914400" algn="ctr">
              <a:spcBef>
                <a:spcPts val="476"/>
              </a:spcBef>
              <a:buClr>
                <a:srgbClr val="0d056f"/>
              </a:buClr>
              <a:buFont typeface="-보람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d056f"/>
                </a:solidFill>
                <a:latin typeface="-보람M"/>
              </a:rPr>
              <a:t>Third Outline Level</a:t>
            </a:r>
            <a:endParaRPr b="0" lang="en-US" sz="1900" spc="-1" strike="noStrike">
              <a:solidFill>
                <a:srgbClr val="0d056f"/>
              </a:solidFill>
              <a:latin typeface="-보람M"/>
            </a:endParaRPr>
          </a:p>
          <a:p>
            <a:pPr lvl="3" marL="1371600" algn="ctr">
              <a:spcBef>
                <a:spcPts val="451"/>
              </a:spcBef>
              <a:buClr>
                <a:srgbClr val="0d056f"/>
              </a:buClr>
              <a:buFont typeface="-보람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56f"/>
                </a:solidFill>
                <a:latin typeface="-보람M"/>
              </a:rPr>
              <a:t>Fourth Outline Level</a:t>
            </a:r>
            <a:endParaRPr b="0" lang="en-US" sz="1800" spc="-1" strike="noStrike">
              <a:solidFill>
                <a:srgbClr val="0d056f"/>
              </a:solidFill>
              <a:latin typeface="-보람M"/>
            </a:endParaRPr>
          </a:p>
          <a:p>
            <a:pPr lvl="4" marL="1828800" algn="ctr">
              <a:spcBef>
                <a:spcPts val="425"/>
              </a:spcBef>
              <a:buClr>
                <a:srgbClr val="0d056f"/>
              </a:buClr>
              <a:buFont typeface="-보람M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56f"/>
                </a:solidFill>
                <a:latin typeface="-보람M"/>
              </a:rPr>
              <a:t>Fifth Outline Level</a:t>
            </a:r>
            <a:endParaRPr b="0" lang="en-US" sz="1700" spc="-1" strike="noStrike">
              <a:solidFill>
                <a:srgbClr val="0d056f"/>
              </a:solidFill>
              <a:latin typeface="-보람M"/>
            </a:endParaRPr>
          </a:p>
          <a:p>
            <a:pPr lvl="5" marL="1828800">
              <a:spcBef>
                <a:spcPts val="42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56f"/>
                </a:solidFill>
                <a:latin typeface="-보람M"/>
              </a:rPr>
              <a:t>Sixth Outline Level</a:t>
            </a:r>
            <a:endParaRPr b="0" lang="en-US" sz="1700" spc="-1" strike="noStrike">
              <a:solidFill>
                <a:srgbClr val="0d056f"/>
              </a:solidFill>
              <a:latin typeface="-보람M"/>
            </a:endParaRPr>
          </a:p>
          <a:p>
            <a:pPr lvl="6" marL="1828800">
              <a:spcBef>
                <a:spcPts val="42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56f"/>
                </a:solidFill>
                <a:latin typeface="-보람M"/>
              </a:rPr>
              <a:t>Seventh Outline Level</a:t>
            </a:r>
            <a:endParaRPr b="0" lang="en-US" sz="1700" spc="-1" strike="noStrike">
              <a:solidFill>
                <a:srgbClr val="0d056f"/>
              </a:solidFill>
              <a:latin typeface="-보람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56f"/>
                </a:solidFill>
                <a:latin typeface="-보람B"/>
              </a:rPr>
              <a:t>好看的</a:t>
            </a:r>
            <a:r>
              <a:rPr b="0" lang="zh-CN" sz="4000" spc="-1" strike="noStrike">
                <a:solidFill>
                  <a:srgbClr val="0d056f"/>
                </a:solidFill>
                <a:latin typeface="-보람B"/>
              </a:rPr>
              <a:t>PPT</a:t>
            </a:r>
            <a:r>
              <a:rPr b="0" lang="zh-CN" sz="4000" spc="-1" strike="noStrike">
                <a:solidFill>
                  <a:srgbClr val="0d056f"/>
                </a:solidFill>
                <a:latin typeface="-보람B"/>
              </a:rPr>
              <a:t>目录模板</a:t>
            </a:r>
            <a:endParaRPr b="0" lang="en-US" sz="4000" spc="-1" strike="noStrike">
              <a:solidFill>
                <a:srgbClr val="0d056f"/>
              </a:solidFill>
              <a:latin typeface="-보람B"/>
            </a:endParaRPr>
          </a:p>
        </p:txBody>
      </p:sp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0d056f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-보람B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：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-보람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-보람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特别说明：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：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1C1-69FD-4EDC-962C-DAA0B6D5C3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4Z</dcterms:modified>
  <cp:revision>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