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CEDF-BF4B-4EE9-877B-56035677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F8A1-2B5D-4AE3-AF01-6D073FB3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C171-9347-467D-B9BC-4B955836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35B0-57FA-48BA-BC68-E3FFF745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7DCC-6422-4851-AB58-0065585E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7AB8-62CB-470C-BBA4-70B2ADE8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981B-3243-4B3C-B299-0A4FE05A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9093-BDFE-4A90-A4E1-94767F5E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6E41-4CDE-44DA-BEFC-983E21A7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D0BD-8E7B-4C6C-88D9-AC515B13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9EB7-DDFB-4A3D-AC2A-609A1D2F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BFF6-FD33-401D-9619-DEB9DA54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09C8-1F4D-4A97-8DD0-436ADC3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38B7-00B2-4ADB-9351-74B611C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90C3-3C8F-45BE-AEB9-A3108B29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4433-EBEC-4C03-A685-56B4A808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7667-9756-457A-8D48-11F308AA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0183-09FE-44CE-A69F-B1861304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EBBB-D528-4172-98FE-F8020F1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5BEC-5B2D-4031-B282-C4FDC030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A4B5-C765-4114-8B2D-04562626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EDED-8F3E-45D4-8BDC-F88482F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381B-D051-4AC6-B65E-6B2A1C43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CB67-E842-44D4-B7AA-FFB2928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3060720" y="2205000"/>
            <a:ext cx="6083280" cy="4653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0" t="0" r="14489" b="12893"/>
          <a:stretch/>
        </p:blipFill>
        <p:spPr>
          <a:xfrm>
            <a:off x="0" y="692280"/>
            <a:ext cx="8664480" cy="46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4"/>
          <a:srcRect l="6185" t="16981" r="12709" b="9748"/>
          <a:stretch/>
        </p:blipFill>
        <p:spPr>
          <a:xfrm>
            <a:off x="611280" y="6308640"/>
            <a:ext cx="8218440" cy="19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CBAC5CC9-B2B2-44F4-86C5-04482D53C614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10"/>
          <p:cNvSpPr/>
          <p:nvPr/>
        </p:nvSpPr>
        <p:spPr>
          <a:xfrm>
            <a:off x="446040" y="739800"/>
            <a:ext cx="8197920" cy="55688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2F0C-1369-4046-B851-94EB1B0538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1.wmf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12490" t="0" r="21220" b="9748"/>
          <a:stretch/>
        </p:blipFill>
        <p:spPr>
          <a:xfrm>
            <a:off x="1449360" y="4724280"/>
            <a:ext cx="769464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矩形 16"/>
          <p:cNvSpPr/>
          <p:nvPr/>
        </p:nvSpPr>
        <p:spPr>
          <a:xfrm>
            <a:off x="1579680" y="2276640"/>
            <a:ext cx="7589880" cy="25923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86" descr=""/>
          <p:cNvPicPr/>
          <p:nvPr/>
        </p:nvPicPr>
        <p:blipFill>
          <a:blip r:embed="rId2"/>
          <a:srcRect l="0" t="0" r="10874" b="25683"/>
          <a:stretch/>
        </p:blipFill>
        <p:spPr>
          <a:xfrm flipH="1">
            <a:off x="-360" y="0"/>
            <a:ext cx="738036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>
            <a:hlinkClick r:id="rId3"/>
          </p:cNvPr>
          <p:cNvSpPr/>
          <p:nvPr/>
        </p:nvSpPr>
        <p:spPr>
          <a:xfrm>
            <a:off x="6083280" y="5896080"/>
            <a:ext cx="3060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0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82560" y="2491920"/>
            <a:ext cx="6048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个人简历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自我介绍幻灯片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2470680" y="10368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黄色个性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496800" y="6543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62828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0099cc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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6EB023C2-F2DE-4B20-A982-40CC15DBF2E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101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0c8">
                <a:alpha val="27000"/>
              </a:srgbClr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www.1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2"/>
          <p:cNvSpPr/>
          <p:nvPr/>
        </p:nvSpPr>
        <p:spPr>
          <a:xfrm>
            <a:off x="468360" y="6453360"/>
            <a:ext cx="1008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fld id="{5B345695-8AC7-402F-BD7E-35A21057D1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rcRect l="0" t="0" r="9757" b="9748"/>
          <a:stretch/>
        </p:blipFill>
        <p:spPr>
          <a:xfrm>
            <a:off x="-33480" y="5084640"/>
            <a:ext cx="9141120" cy="10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18"/>
          <p:cNvSpPr/>
          <p:nvPr/>
        </p:nvSpPr>
        <p:spPr>
          <a:xfrm>
            <a:off x="0" y="2133720"/>
            <a:ext cx="9142560" cy="29829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>
            <a:hlinkClick r:id="rId2"/>
          </p:cNvPr>
          <p:cNvSpPr/>
          <p:nvPr/>
        </p:nvSpPr>
        <p:spPr>
          <a:xfrm>
            <a:off x="0" y="5913360"/>
            <a:ext cx="3060720" cy="505080"/>
          </a:xfrm>
          <a:prstGeom prst="rect">
            <a:avLst/>
          </a:prstGeom>
          <a:gradFill rotWithShape="0">
            <a:gsLst>
              <a:gs pos="0">
                <a:srgbClr val="fff0d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rm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86" descr=""/>
          <p:cNvPicPr/>
          <p:nvPr/>
        </p:nvPicPr>
        <p:blipFill>
          <a:blip r:embed="rId3"/>
          <a:srcRect l="0" t="0" r="11063" b="48256"/>
          <a:stretch/>
        </p:blipFill>
        <p:spPr>
          <a:xfrm>
            <a:off x="1681200" y="1268280"/>
            <a:ext cx="7461360" cy="5588280"/>
          </a:xfrm>
          <a:prstGeom prst="rect">
            <a:avLst/>
          </a:prstGeom>
          <a:ln w="0">
            <a:noFill/>
          </a:ln>
        </p:spPr>
      </p:pic>
      <p:sp>
        <p:nvSpPr>
          <p:cNvPr id="152" name="标题 3"/>
          <p:cNvSpPr/>
          <p:nvPr/>
        </p:nvSpPr>
        <p:spPr>
          <a:xfrm>
            <a:off x="0" y="2670120"/>
            <a:ext cx="86612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副标题 4"/>
          <p:cNvSpPr/>
          <p:nvPr/>
        </p:nvSpPr>
        <p:spPr>
          <a:xfrm>
            <a:off x="0" y="3473280"/>
            <a:ext cx="867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466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4572000" y="587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6036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70c0"/>
                </a:solidFill>
                <a:uFillTx/>
                <a:latin typeface="Verdana"/>
                <a:ea typeface="宋体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2:26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