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217-F676-43CB-BA8E-8BFEBCF8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38B-DD8D-469D-B636-DE961B96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B628-9DFD-4501-8F5D-77A258BF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CFC-3580-47DE-A35B-AB9FAFEC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061-BF82-490D-96F7-AFFCF491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2430-06DF-4BF7-8454-98EDE8A9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962D-1D67-4B62-B83B-6274F7B5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0CB-D64A-4FE1-B8AB-318D48C9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A6D2-3B68-4C37-9D87-DE2125F8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767-A8AB-426A-ACF6-666FAD4E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722-59B3-4BD7-A95B-771249CD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8798-603F-4908-9208-91B4A2EE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B661-224F-4E7F-A948-A526F2E718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14400" y="4944960"/>
            <a:ext cx="9144000" cy="1892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Desktop\素材\照片\建筑\city_wallpaper_by_faytalitygfx-d577mqg.jpg"/>
          <p:cNvPicPr/>
          <p:nvPr/>
        </p:nvPicPr>
        <p:blipFill>
          <a:blip r:embed="rId1"/>
          <a:srcRect l="5882" t="0" r="5932" b="0"/>
          <a:stretch/>
        </p:blipFill>
        <p:spPr>
          <a:xfrm>
            <a:off x="-1440" y="0"/>
            <a:ext cx="9142200" cy="50007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-17640" y="4937040"/>
            <a:ext cx="9174240" cy="104760"/>
            <a:chOff x="-17640" y="4937040"/>
            <a:chExt cx="9174240" cy="104760"/>
          </a:xfrm>
        </p:grpSpPr>
        <p:pic>
          <p:nvPicPr>
            <p:cNvPr id="44" name="矩形 9" descr=""/>
            <p:cNvPicPr/>
            <p:nvPr/>
          </p:nvPicPr>
          <p:blipFill>
            <a:blip r:embed="rId2"/>
            <a:stretch/>
          </p:blipFill>
          <p:spPr>
            <a:xfrm>
              <a:off x="-17640" y="4937040"/>
              <a:ext cx="917424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-1800" y="4956120"/>
              <a:ext cx="91425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矩形 4"/>
          <p:cNvSpPr/>
          <p:nvPr/>
        </p:nvSpPr>
        <p:spPr>
          <a:xfrm>
            <a:off x="2197080" y="5380200"/>
            <a:ext cx="474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opperplate Gothic Bold"/>
                <a:ea typeface="Arial Unicode MS"/>
              </a:rPr>
              <a:t>SlideIdea Templ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-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2612520" y="44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黑色简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9144000" cy="532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D:\Desktop\素材\照片\建筑\city_wallpaper_by_faytalitygfx-d577mqg.jpg"/>
          <p:cNvPicPr/>
          <p:nvPr/>
        </p:nvPicPr>
        <p:blipFill>
          <a:blip r:embed="rId2"/>
          <a:srcRect l="0" t="30409" r="0" b="34798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51" name="矩形 7"/>
          <p:cNvSpPr/>
          <p:nvPr/>
        </p:nvSpPr>
        <p:spPr>
          <a:xfrm>
            <a:off x="4098600" y="225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Copperplate Gothic Bold"/>
                <a:ea typeface="Arial Unicode MS"/>
              </a:rPr>
              <a:t>前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7640" y="1438200"/>
            <a:ext cx="9174240" cy="104760"/>
            <a:chOff x="-17640" y="1438200"/>
            <a:chExt cx="9174240" cy="104760"/>
          </a:xfrm>
        </p:grpSpPr>
        <p:pic>
          <p:nvPicPr>
            <p:cNvPr id="53" name="矩形 9" descr=""/>
            <p:cNvPicPr/>
            <p:nvPr/>
          </p:nvPicPr>
          <p:blipFill>
            <a:blip r:embed="rId3"/>
            <a:stretch/>
          </p:blipFill>
          <p:spPr>
            <a:xfrm>
              <a:off x="-17640" y="1438200"/>
              <a:ext cx="917424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-1800" y="1457280"/>
              <a:ext cx="914256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755640" y="393372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-3240" y="1530360"/>
            <a:ext cx="9142560" cy="5324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D:\Desktop\素材\照片\建筑\city_wallpaper_by_faytalitygfx-d577mqg.jpg"/>
          <p:cNvPicPr/>
          <p:nvPr/>
        </p:nvPicPr>
        <p:blipFill>
          <a:blip r:embed="rId2"/>
          <a:srcRect l="0" t="30409" r="0" b="34798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58" name="矩形 7"/>
          <p:cNvSpPr/>
          <p:nvPr/>
        </p:nvSpPr>
        <p:spPr>
          <a:xfrm>
            <a:off x="4098600" y="225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Copperplate Gothic Bold"/>
                <a:ea typeface="Arial Unicode MS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1969920" y="957240"/>
            <a:ext cx="5108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-17640" y="1438200"/>
            <a:ext cx="9174240" cy="104760"/>
            <a:chOff x="-17640" y="1438200"/>
            <a:chExt cx="9174240" cy="104760"/>
          </a:xfrm>
        </p:grpSpPr>
        <p:pic>
          <p:nvPicPr>
            <p:cNvPr id="61" name="矩形 9" descr=""/>
            <p:cNvPicPr/>
            <p:nvPr/>
          </p:nvPicPr>
          <p:blipFill>
            <a:blip r:embed="rId3"/>
            <a:stretch/>
          </p:blipFill>
          <p:spPr>
            <a:xfrm>
              <a:off x="-17640" y="1438200"/>
              <a:ext cx="917424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-1800" y="1457280"/>
              <a:ext cx="914256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矩形 2"/>
          <p:cNvSpPr/>
          <p:nvPr/>
        </p:nvSpPr>
        <p:spPr>
          <a:xfrm>
            <a:off x="1392120" y="276552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双击输入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8"/>
          <p:cNvSpPr/>
          <p:nvPr/>
        </p:nvSpPr>
        <p:spPr>
          <a:xfrm>
            <a:off x="1392120" y="381492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双击输入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0"/>
          <p:cNvSpPr/>
          <p:nvPr/>
        </p:nvSpPr>
        <p:spPr>
          <a:xfrm>
            <a:off x="1392120" y="494172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双击输入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-3240" y="1530360"/>
            <a:ext cx="9142560" cy="532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D:\Desktop\素材\照片\建筑\city_wallpaper_by_faytalitygfx-d577mqg.jpg"/>
          <p:cNvPicPr/>
          <p:nvPr/>
        </p:nvPicPr>
        <p:blipFill>
          <a:blip r:embed="rId2"/>
          <a:srcRect l="0" t="30409" r="0" b="34798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68" name="矩形 7"/>
          <p:cNvSpPr/>
          <p:nvPr/>
        </p:nvSpPr>
        <p:spPr>
          <a:xfrm>
            <a:off x="3427920" y="22536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Copperplate Gothic Bold"/>
                <a:ea typeface="Arial Unicode MS"/>
              </a:rPr>
              <a:t>双击输入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1969920" y="957240"/>
            <a:ext cx="5108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-17640" y="1438200"/>
            <a:ext cx="9174240" cy="104760"/>
            <a:chOff x="-17640" y="1438200"/>
            <a:chExt cx="9174240" cy="104760"/>
          </a:xfrm>
        </p:grpSpPr>
        <p:pic>
          <p:nvPicPr>
            <p:cNvPr id="71" name="矩形 9" descr=""/>
            <p:cNvPicPr/>
            <p:nvPr/>
          </p:nvPicPr>
          <p:blipFill>
            <a:blip r:embed="rId3"/>
            <a:stretch/>
          </p:blipFill>
          <p:spPr>
            <a:xfrm>
              <a:off x="-17640" y="1438200"/>
              <a:ext cx="917424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-1800" y="1457280"/>
              <a:ext cx="914256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矩形 2"/>
          <p:cNvSpPr/>
          <p:nvPr/>
        </p:nvSpPr>
        <p:spPr>
          <a:xfrm>
            <a:off x="1116000" y="2394000"/>
            <a:ext cx="62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双击输入正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-3240" y="0"/>
            <a:ext cx="9147240" cy="6854760"/>
            <a:chOff x="-3240" y="0"/>
            <a:chExt cx="9147240" cy="6854760"/>
          </a:xfrm>
        </p:grpSpPr>
        <p:pic>
          <p:nvPicPr>
            <p:cNvPr id="75" name="Picture 3" descr=""/>
            <p:cNvPicPr/>
            <p:nvPr/>
          </p:nvPicPr>
          <p:blipFill>
            <a:blip r:embed="rId1"/>
            <a:stretch/>
          </p:blipFill>
          <p:spPr>
            <a:xfrm>
              <a:off x="-3240" y="1725840"/>
              <a:ext cx="9141840" cy="51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矩形 4"/>
            <p:cNvSpPr/>
            <p:nvPr/>
          </p:nvSpPr>
          <p:spPr>
            <a:xfrm>
              <a:off x="-3240" y="0"/>
              <a:ext cx="9147240" cy="1988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C38-CD16-41C6-B573-F956ADE9AE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7:03:1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8:10:14Z</dcterms:modified>
  <cp:revision>22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