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3FE-9B55-4F00-9146-BA530786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346-17EB-4666-A8B7-EE2C5A6E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D91-19BA-4E46-A145-9E514187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C47-DD99-400D-9599-3DD72565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053-2BC3-478D-943B-1F314B67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4FA-D1B6-41CE-9568-14F074D4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F5A-2C70-4520-B336-65EE16E2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94D-BCCB-4AF8-88BD-46F9282D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539-7D15-44A3-8650-714A7EDB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820-88C7-45D0-9027-BA7A776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D6C-3B9C-48FF-82B4-80487F68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A27-A279-41C3-ADB4-995DE058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FD7E-43CF-4E49-B06B-991657103E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4"/>
          <p:cNvSpPr/>
          <p:nvPr/>
        </p:nvSpPr>
        <p:spPr>
          <a:xfrm>
            <a:off x="345960" y="5483160"/>
            <a:ext cx="6494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4" descr="2.png"/>
          <p:cNvPicPr/>
          <p:nvPr/>
        </p:nvPicPr>
        <p:blipFill>
          <a:blip r:embed="rId16"/>
          <a:stretch/>
        </p:blipFill>
        <p:spPr>
          <a:xfrm>
            <a:off x="4178160" y="0"/>
            <a:ext cx="4967280" cy="5388120"/>
          </a:xfrm>
          <a:prstGeom prst="rect">
            <a:avLst/>
          </a:prstGeom>
          <a:ln w="0">
            <a:noFill/>
          </a:ln>
        </p:spPr>
      </p:pic>
      <p:sp>
        <p:nvSpPr>
          <p:cNvPr id="43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29" descr="4.png"/>
          <p:cNvPicPr/>
          <p:nvPr/>
        </p:nvPicPr>
        <p:blipFill>
          <a:blip r:embed="rId17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1"/>
          <p:cNvSpPr/>
          <p:nvPr/>
        </p:nvSpPr>
        <p:spPr>
          <a:xfrm>
            <a:off x="260280" y="67464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急救医疗演示幻灯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2"/>
          <p:cNvSpPr/>
          <p:nvPr/>
        </p:nvSpPr>
        <p:spPr>
          <a:xfrm>
            <a:off x="309600" y="150804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POWER POINT </a:t>
            </a: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43" descr="6.png"/>
          <p:cNvPicPr/>
          <p:nvPr/>
        </p:nvPicPr>
        <p:blipFill>
          <a:blip r:embed="rId18"/>
          <a:stretch/>
        </p:blipFill>
        <p:spPr>
          <a:xfrm>
            <a:off x="426960" y="1967040"/>
            <a:ext cx="292320" cy="1760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-11160" y="5076720"/>
            <a:ext cx="9137520" cy="671760"/>
            <a:chOff x="-11160" y="5076720"/>
            <a:chExt cx="9137520" cy="671760"/>
          </a:xfrm>
        </p:grpSpPr>
        <p:sp>
          <p:nvSpPr>
            <p:cNvPr id="49" name="矩形 28"/>
            <p:cNvSpPr/>
            <p:nvPr/>
          </p:nvSpPr>
          <p:spPr>
            <a:xfrm>
              <a:off x="-11160" y="5428080"/>
              <a:ext cx="9137520" cy="3204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3"/>
            <p:cNvSpPr/>
            <p:nvPr/>
          </p:nvSpPr>
          <p:spPr>
            <a:xfrm>
              <a:off x="-11160" y="5462280"/>
              <a:ext cx="1332360" cy="286200"/>
            </a:xfrm>
            <a:prstGeom prst="rect">
              <a:avLst/>
            </a:prstGeom>
            <a:solidFill>
              <a:srgbClr val="006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6"/>
            <p:cNvSpPr/>
            <p:nvPr/>
          </p:nvSpPr>
          <p:spPr>
            <a:xfrm>
              <a:off x="1289520" y="5462280"/>
              <a:ext cx="1332360" cy="286200"/>
            </a:xfrm>
            <a:prstGeom prst="rect">
              <a:avLst/>
            </a:prstGeom>
            <a:solidFill>
              <a:srgbClr val="4f9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7"/>
            <p:cNvSpPr/>
            <p:nvPr/>
          </p:nvSpPr>
          <p:spPr>
            <a:xfrm>
              <a:off x="2590560" y="5462280"/>
              <a:ext cx="1332360" cy="286200"/>
            </a:xfrm>
            <a:prstGeom prst="rect">
              <a:avLst/>
            </a:prstGeom>
            <a:solidFill>
              <a:srgbClr val="79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"/>
            <p:cNvSpPr/>
            <p:nvPr/>
          </p:nvSpPr>
          <p:spPr>
            <a:xfrm>
              <a:off x="3891240" y="5462280"/>
              <a:ext cx="1332360" cy="2862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9"/>
            <p:cNvSpPr/>
            <p:nvPr/>
          </p:nvSpPr>
          <p:spPr>
            <a:xfrm>
              <a:off x="5192280" y="5462280"/>
              <a:ext cx="1332360" cy="286200"/>
            </a:xfrm>
            <a:prstGeom prst="rect">
              <a:avLst/>
            </a:prstGeom>
            <a:solidFill>
              <a:srgbClr val="c7a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10"/>
            <p:cNvSpPr/>
            <p:nvPr/>
          </p:nvSpPr>
          <p:spPr>
            <a:xfrm>
              <a:off x="6492960" y="5462280"/>
              <a:ext cx="1332360" cy="286200"/>
            </a:xfrm>
            <a:prstGeom prst="rect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1"/>
            <p:cNvSpPr/>
            <p:nvPr/>
          </p:nvSpPr>
          <p:spPr>
            <a:xfrm>
              <a:off x="7794000" y="5462280"/>
              <a:ext cx="1332360" cy="286200"/>
            </a:xfrm>
            <a:prstGeom prst="rect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18"/>
            <p:cNvGrpSpPr/>
            <p:nvPr/>
          </p:nvGrpSpPr>
          <p:grpSpPr>
            <a:xfrm>
              <a:off x="-11160" y="5076720"/>
              <a:ext cx="9137520" cy="351360"/>
              <a:chOff x="-11160" y="5076720"/>
              <a:chExt cx="9137520" cy="351360"/>
            </a:xfrm>
          </p:grpSpPr>
          <p:sp>
            <p:nvSpPr>
              <p:cNvPr id="58" name="矩形 42"/>
              <p:cNvSpPr/>
              <p:nvPr/>
            </p:nvSpPr>
            <p:spPr>
              <a:xfrm>
                <a:off x="-11160" y="5076720"/>
                <a:ext cx="9137520" cy="351360"/>
              </a:xfrm>
              <a:prstGeom prst="rect">
                <a:avLst/>
              </a:prstGeom>
              <a:solidFill>
                <a:srgbClr val="595959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" name="图片 51" descr="7.png"/>
              <p:cNvPicPr/>
              <p:nvPr/>
            </p:nvPicPr>
            <p:blipFill>
              <a:blip r:embed="rId19"/>
              <a:stretch/>
            </p:blipFill>
            <p:spPr>
              <a:xfrm>
                <a:off x="7185240" y="5131800"/>
                <a:ext cx="28620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Box 52"/>
              <p:cNvSpPr/>
              <p:nvPr/>
            </p:nvSpPr>
            <p:spPr>
              <a:xfrm>
                <a:off x="7394760" y="5135760"/>
                <a:ext cx="1724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38160" y="50990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:\素材\素材\2656x2856_18802204.jpg"/>
          <p:cNvPicPr/>
          <p:nvPr/>
        </p:nvPicPr>
        <p:blipFill>
          <a:blip r:embed="rId1"/>
          <a:srcRect l="0" t="35371" r="0" b="0"/>
          <a:stretch/>
        </p:blipFill>
        <p:spPr>
          <a:xfrm>
            <a:off x="0" y="1722600"/>
            <a:ext cx="5267160" cy="3660480"/>
          </a:xfrm>
          <a:prstGeom prst="rect">
            <a:avLst/>
          </a:prstGeom>
          <a:ln w="0">
            <a:noFill/>
          </a:ln>
        </p:spPr>
      </p:pic>
      <p:sp>
        <p:nvSpPr>
          <p:cNvPr id="63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99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86" name="直角三角形 52"/>
          <p:cNvSpPr/>
          <p:nvPr/>
        </p:nvSpPr>
        <p:spPr>
          <a:xfrm rot="2685000">
            <a:off x="36324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角三角形 53"/>
          <p:cNvSpPr/>
          <p:nvPr/>
        </p:nvSpPr>
        <p:spPr>
          <a:xfrm flipH="1" rot="18915000">
            <a:off x="850392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291600" y="1339200"/>
            <a:ext cx="2884320" cy="2884320"/>
            <a:chOff x="291600" y="1339200"/>
            <a:chExt cx="2884320" cy="2884320"/>
          </a:xfrm>
        </p:grpSpPr>
        <p:sp>
          <p:nvSpPr>
            <p:cNvPr id="89" name="空心弧 64"/>
            <p:cNvSpPr/>
            <p:nvPr/>
          </p:nvSpPr>
          <p:spPr>
            <a:xfrm rot="18533400">
              <a:off x="707760" y="1755720"/>
              <a:ext cx="2051280" cy="2050920"/>
            </a:xfrm>
            <a:custGeom>
              <a:avLst/>
              <a:gdLst>
                <a:gd name="textAreaLeft" fmla="*/ 0 w 2051280"/>
                <a:gd name="textAreaRight" fmla="*/ 2050920 w 2051280"/>
                <a:gd name="textAreaTop" fmla="*/ 0 h 2050920"/>
                <a:gd name="textAreaBottom" fmla="*/ 2045520 h 2050920"/>
              </a:gdLst>
              <a:ahLst/>
              <a:rect l="textAreaLeft" t="textAreaTop" r="textAreaRight" b="textAreaBottom"/>
              <a:pathLst>
                <a:path w="2644144" h="2644140">
                  <a:moveTo>
                    <a:pt x="1183356" y="2636843"/>
                  </a:moveTo>
                  <a:lnTo>
                    <a:pt x="1183356" y="2636842"/>
                  </a:lnTo>
                  <a:cubicBezTo>
                    <a:pt x="510629" y="2565866"/>
                    <a:pt x="0" y="1998529"/>
                    <a:pt x="0" y="1322070"/>
                  </a:cubicBezTo>
                  <a:cubicBezTo>
                    <a:pt x="0" y="591910"/>
                    <a:pt x="591911" y="0"/>
                    <a:pt x="1322072" y="0"/>
                  </a:cubicBezTo>
                  <a:cubicBezTo>
                    <a:pt x="2035920" y="-1"/>
                    <a:pt x="2620856" y="566682"/>
                    <a:pt x="2643479" y="1280171"/>
                  </a:cubicBezTo>
                  <a:lnTo>
                    <a:pt x="2476956" y="1285451"/>
                  </a:lnTo>
                  <a:lnTo>
                    <a:pt x="2476955" y="1285451"/>
                  </a:lnTo>
                  <a:cubicBezTo>
                    <a:pt x="2457183" y="661876"/>
                    <a:pt x="1945960" y="166607"/>
                    <a:pt x="1322071" y="166607"/>
                  </a:cubicBezTo>
                  <a:cubicBezTo>
                    <a:pt x="683925" y="166607"/>
                    <a:pt x="166606" y="683925"/>
                    <a:pt x="166606" y="1322070"/>
                  </a:cubicBezTo>
                  <a:cubicBezTo>
                    <a:pt x="166605" y="1913282"/>
                    <a:pt x="612886" y="2409123"/>
                    <a:pt x="1200835" y="2471155"/>
                  </a:cubicBezTo>
                  <a:lnTo>
                    <a:pt x="1183356" y="2636843"/>
                  </a:lnTo>
                  <a:close/>
                </a:path>
              </a:pathLst>
            </a:cu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空心弧 65"/>
            <p:cNvSpPr/>
            <p:nvPr/>
          </p:nvSpPr>
          <p:spPr>
            <a:xfrm rot="18533400">
              <a:off x="853560" y="1901880"/>
              <a:ext cx="1758960" cy="1758600"/>
            </a:xfrm>
            <a:custGeom>
              <a:avLst/>
              <a:gdLst>
                <a:gd name="textAreaLeft" fmla="*/ 0 w 1758960"/>
                <a:gd name="textAreaRight" fmla="*/ 1758600 w 1758960"/>
                <a:gd name="textAreaTop" fmla="*/ 0 h 1758600"/>
                <a:gd name="textAreaBottom" fmla="*/ 1754280 h 1758600"/>
              </a:gdLst>
              <a:ahLst/>
              <a:rect l="textAreaLeft" t="textAreaTop" r="textAreaRight" b="textAreaBottom"/>
              <a:pathLst>
                <a:path w="2266952" h="2266948">
                  <a:moveTo>
                    <a:pt x="1019328" y="2261186"/>
                  </a:moveTo>
                  <a:lnTo>
                    <a:pt x="1019328" y="2261185"/>
                  </a:lnTo>
                  <a:cubicBezTo>
                    <a:pt x="440485" y="2202594"/>
                    <a:pt x="0" y="1715273"/>
                    <a:pt x="0" y="1133474"/>
                  </a:cubicBezTo>
                  <a:cubicBezTo>
                    <a:pt x="0" y="507473"/>
                    <a:pt x="507474" y="0"/>
                    <a:pt x="1133476" y="0"/>
                  </a:cubicBezTo>
                  <a:cubicBezTo>
                    <a:pt x="1744935" y="-1"/>
                    <a:pt x="2246184" y="484991"/>
                    <a:pt x="2266336" y="1096117"/>
                  </a:cubicBezTo>
                  <a:lnTo>
                    <a:pt x="2085577" y="1102078"/>
                  </a:lnTo>
                  <a:lnTo>
                    <a:pt x="2085577" y="1102077"/>
                  </a:lnTo>
                  <a:cubicBezTo>
                    <a:pt x="2068640" y="588463"/>
                    <a:pt x="1647371" y="180857"/>
                    <a:pt x="1133476" y="180857"/>
                  </a:cubicBezTo>
                  <a:cubicBezTo>
                    <a:pt x="607359" y="180857"/>
                    <a:pt x="180857" y="607358"/>
                    <a:pt x="180857" y="1133474"/>
                  </a:cubicBezTo>
                  <a:cubicBezTo>
                    <a:pt x="180856" y="1622441"/>
                    <a:pt x="551058" y="2032005"/>
                    <a:pt x="1037540" y="2081248"/>
                  </a:cubicBezTo>
                  <a:lnTo>
                    <a:pt x="1019328" y="2261186"/>
                  </a:lnTo>
                  <a:close/>
                </a:path>
              </a:pathLst>
            </a:custGeom>
            <a:solidFill>
              <a:srgbClr val="00bed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空心弧 66"/>
            <p:cNvSpPr/>
            <p:nvPr/>
          </p:nvSpPr>
          <p:spPr>
            <a:xfrm rot="18533400">
              <a:off x="1001880" y="2049840"/>
              <a:ext cx="1463040" cy="1463040"/>
            </a:xfrm>
            <a:custGeom>
              <a:avLst/>
              <a:gdLst>
                <a:gd name="textAreaLeft" fmla="*/ 0 w 1463040"/>
                <a:gd name="textAreaRight" fmla="*/ 1462680 w 1463040"/>
                <a:gd name="textAreaTop" fmla="*/ 0 h 1463040"/>
                <a:gd name="textAreaBottom" fmla="*/ 1459440 h 1463040"/>
              </a:gdLst>
              <a:ahLst/>
              <a:rect l="textAreaLeft" t="textAreaTop" r="textAreaRight" b="textAreaBottom"/>
              <a:pathLst>
                <a:path w="1885949" h="1885946">
                  <a:moveTo>
                    <a:pt x="848321" y="1881183"/>
                  </a:moveTo>
                  <a:lnTo>
                    <a:pt x="848320" y="1881183"/>
                  </a:lnTo>
                  <a:cubicBezTo>
                    <a:pt x="366628" y="1832587"/>
                    <a:pt x="-1" y="1427109"/>
                    <a:pt x="-1" y="942973"/>
                  </a:cubicBezTo>
                  <a:cubicBezTo>
                    <a:pt x="-1" y="422183"/>
                    <a:pt x="422183" y="0"/>
                    <a:pt x="942974" y="0"/>
                  </a:cubicBezTo>
                  <a:cubicBezTo>
                    <a:pt x="1451666" y="-1"/>
                    <a:pt x="1868670" y="403479"/>
                    <a:pt x="1885436" y="911894"/>
                  </a:cubicBezTo>
                  <a:lnTo>
                    <a:pt x="1735058" y="916854"/>
                  </a:lnTo>
                  <a:lnTo>
                    <a:pt x="1735058" y="916853"/>
                  </a:lnTo>
                  <a:cubicBezTo>
                    <a:pt x="1720968" y="489561"/>
                    <a:pt x="1370500" y="150461"/>
                    <a:pt x="942975" y="150461"/>
                  </a:cubicBezTo>
                  <a:cubicBezTo>
                    <a:pt x="505281" y="150461"/>
                    <a:pt x="150461" y="505280"/>
                    <a:pt x="150461" y="942973"/>
                  </a:cubicBezTo>
                  <a:cubicBezTo>
                    <a:pt x="150460" y="1349860"/>
                    <a:pt x="458590" y="1690639"/>
                    <a:pt x="863424" y="1731482"/>
                  </a:cubicBezTo>
                  <a:lnTo>
                    <a:pt x="848321" y="1881183"/>
                  </a:lnTo>
                  <a:close/>
                </a:path>
              </a:pathLst>
            </a:custGeom>
            <a:solidFill>
              <a:srgbClr val="00bed1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空心弧 67"/>
            <p:cNvSpPr/>
            <p:nvPr/>
          </p:nvSpPr>
          <p:spPr>
            <a:xfrm rot="18533400">
              <a:off x="1127160" y="2175120"/>
              <a:ext cx="1211760" cy="1211760"/>
            </a:xfrm>
            <a:custGeom>
              <a:avLst/>
              <a:gdLst>
                <a:gd name="textAreaLeft" fmla="*/ 0 w 1211760"/>
                <a:gd name="textAreaRight" fmla="*/ 1211760 w 1211760"/>
                <a:gd name="textAreaTop" fmla="*/ 0 h 1211760"/>
                <a:gd name="textAreaBottom" fmla="*/ 1208880 h 1211760"/>
              </a:gdLst>
              <a:ahLst/>
              <a:rect l="textAreaLeft" t="textAreaTop" r="textAreaRight" b="textAreaBottom"/>
              <a:pathLst>
                <a:path w="1562101" h="1562096">
                  <a:moveTo>
                    <a:pt x="701691" y="1558054"/>
                  </a:moveTo>
                  <a:lnTo>
                    <a:pt x="701691" y="1558053"/>
                  </a:lnTo>
                  <a:cubicBezTo>
                    <a:pt x="303130" y="1517346"/>
                    <a:pt x="0" y="1181680"/>
                    <a:pt x="0" y="781048"/>
                  </a:cubicBezTo>
                  <a:cubicBezTo>
                    <a:pt x="0" y="349687"/>
                    <a:pt x="349688" y="0"/>
                    <a:pt x="781051" y="0"/>
                  </a:cubicBezTo>
                  <a:cubicBezTo>
                    <a:pt x="1202393" y="-1"/>
                    <a:pt x="1547791" y="334195"/>
                    <a:pt x="1561677" y="755306"/>
                  </a:cubicBezTo>
                  <a:lnTo>
                    <a:pt x="1437120" y="759414"/>
                  </a:lnTo>
                  <a:lnTo>
                    <a:pt x="1437120" y="759413"/>
                  </a:lnTo>
                  <a:cubicBezTo>
                    <a:pt x="1425449" y="405494"/>
                    <a:pt x="1135163" y="124624"/>
                    <a:pt x="781051" y="124624"/>
                  </a:cubicBezTo>
                  <a:cubicBezTo>
                    <a:pt x="418516" y="124624"/>
                    <a:pt x="124625" y="418515"/>
                    <a:pt x="124625" y="781048"/>
                  </a:cubicBezTo>
                  <a:cubicBezTo>
                    <a:pt x="124624" y="1117755"/>
                    <a:pt x="379387" y="1399863"/>
                    <a:pt x="714354" y="1434074"/>
                  </a:cubicBezTo>
                  <a:lnTo>
                    <a:pt x="701691" y="1558054"/>
                  </a:lnTo>
                  <a:close/>
                </a:path>
              </a:pathLst>
            </a:custGeom>
            <a:solidFill>
              <a:srgbClr val="00bed1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空心弧 68"/>
            <p:cNvSpPr/>
            <p:nvPr/>
          </p:nvSpPr>
          <p:spPr>
            <a:xfrm rot="18533400">
              <a:off x="1230840" y="2279160"/>
              <a:ext cx="1005120" cy="1004760"/>
            </a:xfrm>
            <a:custGeom>
              <a:avLst/>
              <a:gdLst>
                <a:gd name="textAreaLeft" fmla="*/ 0 w 1005120"/>
                <a:gd name="textAreaRight" fmla="*/ 1005120 w 1005120"/>
                <a:gd name="textAreaTop" fmla="*/ 0 h 1004760"/>
                <a:gd name="textAreaBottom" fmla="*/ 1002600 h 1004760"/>
              </a:gdLst>
              <a:ahLst/>
              <a:rect l="textAreaLeft" t="textAreaTop" r="textAreaRight" b="textAreaBottom"/>
              <a:pathLst>
                <a:path w="1295400" h="1295396">
                  <a:moveTo>
                    <a:pt x="583811" y="1292237"/>
                  </a:moveTo>
                  <a:lnTo>
                    <a:pt x="583810" y="1292237"/>
                  </a:lnTo>
                  <a:cubicBezTo>
                    <a:pt x="252462" y="1259393"/>
                    <a:pt x="0" y="980669"/>
                    <a:pt x="0" y="647698"/>
                  </a:cubicBezTo>
                  <a:cubicBezTo>
                    <a:pt x="0" y="289984"/>
                    <a:pt x="289985" y="0"/>
                    <a:pt x="647700" y="0"/>
                  </a:cubicBezTo>
                  <a:cubicBezTo>
                    <a:pt x="997104" y="-1"/>
                    <a:pt x="1283532" y="277136"/>
                    <a:pt x="1295048" y="626351"/>
                  </a:cubicBezTo>
                  <a:lnTo>
                    <a:pt x="1191758" y="629757"/>
                  </a:lnTo>
                  <a:lnTo>
                    <a:pt x="1191758" y="629756"/>
                  </a:lnTo>
                  <a:cubicBezTo>
                    <a:pt x="1182079" y="336263"/>
                    <a:pt x="941354" y="103347"/>
                    <a:pt x="647701" y="103347"/>
                  </a:cubicBezTo>
                  <a:cubicBezTo>
                    <a:pt x="347063" y="103347"/>
                    <a:pt x="103348" y="347061"/>
                    <a:pt x="103348" y="647698"/>
                  </a:cubicBezTo>
                  <a:cubicBezTo>
                    <a:pt x="103347" y="927539"/>
                    <a:pt x="315527" y="1161790"/>
                    <a:pt x="594005" y="1189394"/>
                  </a:cubicBezTo>
                  <a:lnTo>
                    <a:pt x="583811" y="1292237"/>
                  </a:lnTo>
                  <a:close/>
                </a:path>
              </a:pathLst>
            </a:custGeom>
            <a:solidFill>
              <a:srgbClr val="00bed1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空心弧 69"/>
            <p:cNvSpPr/>
            <p:nvPr/>
          </p:nvSpPr>
          <p:spPr>
            <a:xfrm rot="18533400">
              <a:off x="1319400" y="2367720"/>
              <a:ext cx="827640" cy="827280"/>
            </a:xfrm>
            <a:custGeom>
              <a:avLst/>
              <a:gdLst>
                <a:gd name="textAreaLeft" fmla="*/ 0 w 827640"/>
                <a:gd name="textAreaRight" fmla="*/ 827640 w 827640"/>
                <a:gd name="textAreaTop" fmla="*/ 0 h 827280"/>
                <a:gd name="textAreaBottom" fmla="*/ 825120 h 827280"/>
              </a:gdLst>
              <a:ahLst/>
              <a:rect l="textAreaLeft" t="textAreaTop" r="textAreaRight" b="textAreaBottom"/>
              <a:pathLst>
                <a:path w="1066800" h="1066796">
                  <a:moveTo>
                    <a:pt x="478811" y="1063995"/>
                  </a:moveTo>
                  <a:lnTo>
                    <a:pt x="478810" y="1063995"/>
                  </a:lnTo>
                  <a:cubicBezTo>
                    <a:pt x="206794" y="1036009"/>
                    <a:pt x="0" y="806849"/>
                    <a:pt x="0" y="533398"/>
                  </a:cubicBezTo>
                  <a:cubicBezTo>
                    <a:pt x="0" y="238810"/>
                    <a:pt x="238811" y="0"/>
                    <a:pt x="533400" y="0"/>
                  </a:cubicBezTo>
                  <a:cubicBezTo>
                    <a:pt x="821145" y="-1"/>
                    <a:pt x="1057026" y="228230"/>
                    <a:pt x="1066510" y="515817"/>
                  </a:cubicBezTo>
                  <a:lnTo>
                    <a:pt x="981447" y="518623"/>
                  </a:lnTo>
                  <a:lnTo>
                    <a:pt x="981447" y="518622"/>
                  </a:lnTo>
                  <a:cubicBezTo>
                    <a:pt x="973476" y="276922"/>
                    <a:pt x="775232" y="85109"/>
                    <a:pt x="533400" y="85109"/>
                  </a:cubicBezTo>
                  <a:cubicBezTo>
                    <a:pt x="285815" y="85109"/>
                    <a:pt x="85109" y="285814"/>
                    <a:pt x="85109" y="533398"/>
                  </a:cubicBezTo>
                  <a:cubicBezTo>
                    <a:pt x="85108" y="763217"/>
                    <a:pt x="258907" y="955812"/>
                    <a:pt x="487520" y="979333"/>
                  </a:cubicBezTo>
                  <a:lnTo>
                    <a:pt x="478811" y="1063995"/>
                  </a:lnTo>
                  <a:close/>
                </a:path>
              </a:pathLst>
            </a:custGeom>
            <a:solidFill>
              <a:srgbClr val="00bed1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3"/>
          <p:cNvGrpSpPr/>
          <p:nvPr/>
        </p:nvGrpSpPr>
        <p:grpSpPr>
          <a:xfrm>
            <a:off x="2850120" y="1357920"/>
            <a:ext cx="2847240" cy="2847240"/>
            <a:chOff x="2850120" y="1357920"/>
            <a:chExt cx="2847240" cy="2847240"/>
          </a:xfrm>
        </p:grpSpPr>
        <p:sp>
          <p:nvSpPr>
            <p:cNvPr id="96" name="空心弧 72"/>
            <p:cNvSpPr/>
            <p:nvPr/>
          </p:nvSpPr>
          <p:spPr>
            <a:xfrm rot="19563000">
              <a:off x="3247920" y="1755720"/>
              <a:ext cx="2051280" cy="2051280"/>
            </a:xfrm>
            <a:custGeom>
              <a:avLst/>
              <a:gdLst>
                <a:gd name="textAreaLeft" fmla="*/ 0 w 2051280"/>
                <a:gd name="textAreaRight" fmla="*/ 2050920 w 2051280"/>
                <a:gd name="textAreaTop" fmla="*/ 0 h 2051280"/>
                <a:gd name="textAreaBottom" fmla="*/ 2051640 h 2051280"/>
              </a:gdLst>
              <a:ahLst/>
              <a:rect l="textAreaLeft" t="textAreaTop" r="textAreaRight" b="textAreaBottom"/>
              <a:pathLst>
                <a:path w="2644144" h="2644140">
                  <a:moveTo>
                    <a:pt x="1965305" y="2477112"/>
                  </a:moveTo>
                  <a:lnTo>
                    <a:pt x="1965304" y="2477111"/>
                  </a:lnTo>
                  <a:cubicBezTo>
                    <a:pt x="1768612" y="2586647"/>
                    <a:pt x="1547207" y="2644139"/>
                    <a:pt x="1322072" y="2644140"/>
                  </a:cubicBezTo>
                  <a:cubicBezTo>
                    <a:pt x="591911" y="2644140"/>
                    <a:pt x="0" y="2052229"/>
                    <a:pt x="0" y="1322070"/>
                  </a:cubicBezTo>
                  <a:cubicBezTo>
                    <a:pt x="0" y="591910"/>
                    <a:pt x="591911" y="0"/>
                    <a:pt x="1322072" y="0"/>
                  </a:cubicBezTo>
                  <a:cubicBezTo>
                    <a:pt x="2035920" y="-1"/>
                    <a:pt x="2620856" y="566682"/>
                    <a:pt x="2643479" y="1280170"/>
                  </a:cubicBezTo>
                  <a:lnTo>
                    <a:pt x="2476956" y="1285451"/>
                  </a:lnTo>
                  <a:lnTo>
                    <a:pt x="2476955" y="1285451"/>
                  </a:lnTo>
                  <a:cubicBezTo>
                    <a:pt x="2457183" y="661876"/>
                    <a:pt x="1945960" y="166607"/>
                    <a:pt x="1322071" y="166607"/>
                  </a:cubicBezTo>
                  <a:cubicBezTo>
                    <a:pt x="683925" y="166607"/>
                    <a:pt x="166606" y="683925"/>
                    <a:pt x="166606" y="1322070"/>
                  </a:cubicBezTo>
                  <a:cubicBezTo>
                    <a:pt x="166606" y="1960214"/>
                    <a:pt x="683925" y="2477533"/>
                    <a:pt x="1322071" y="2477533"/>
                  </a:cubicBezTo>
                  <a:cubicBezTo>
                    <a:pt x="1518834" y="2477533"/>
                    <a:pt x="1712339" y="2427285"/>
                    <a:pt x="1884244" y="2331553"/>
                  </a:cubicBezTo>
                  <a:lnTo>
                    <a:pt x="1965305" y="2477112"/>
                  </a:lnTo>
                  <a:close/>
                </a:path>
              </a:pathLst>
            </a:cu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空心弧 73"/>
            <p:cNvSpPr/>
            <p:nvPr/>
          </p:nvSpPr>
          <p:spPr>
            <a:xfrm rot="19563000">
              <a:off x="3393720" y="1901880"/>
              <a:ext cx="1758960" cy="1758960"/>
            </a:xfrm>
            <a:custGeom>
              <a:avLst/>
              <a:gdLst>
                <a:gd name="textAreaLeft" fmla="*/ 0 w 1758960"/>
                <a:gd name="textAreaRight" fmla="*/ 1758600 w 17589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2266952" h="2266948">
                  <a:moveTo>
                    <a:pt x="1688028" y="2122027"/>
                  </a:moveTo>
                  <a:lnTo>
                    <a:pt x="1688027" y="2122026"/>
                  </a:lnTo>
                  <a:cubicBezTo>
                    <a:pt x="1518645" y="2217045"/>
                    <a:pt x="1327689" y="2266947"/>
                    <a:pt x="1133476" y="2266948"/>
                  </a:cubicBezTo>
                  <a:cubicBezTo>
                    <a:pt x="507474" y="2266948"/>
                    <a:pt x="0" y="1759474"/>
                    <a:pt x="0" y="1133474"/>
                  </a:cubicBezTo>
                  <a:cubicBezTo>
                    <a:pt x="0" y="507473"/>
                    <a:pt x="507474" y="0"/>
                    <a:pt x="1133476" y="0"/>
                  </a:cubicBezTo>
                  <a:cubicBezTo>
                    <a:pt x="1744935" y="-1"/>
                    <a:pt x="2246184" y="484991"/>
                    <a:pt x="2266336" y="1096117"/>
                  </a:cubicBezTo>
                  <a:lnTo>
                    <a:pt x="2085577" y="1102078"/>
                  </a:lnTo>
                  <a:lnTo>
                    <a:pt x="2085577" y="1102077"/>
                  </a:lnTo>
                  <a:cubicBezTo>
                    <a:pt x="2068640" y="588463"/>
                    <a:pt x="1647371" y="180857"/>
                    <a:pt x="1133476" y="180857"/>
                  </a:cubicBezTo>
                  <a:cubicBezTo>
                    <a:pt x="607359" y="180857"/>
                    <a:pt x="180857" y="607358"/>
                    <a:pt x="180857" y="1133474"/>
                  </a:cubicBezTo>
                  <a:cubicBezTo>
                    <a:pt x="180857" y="1659589"/>
                    <a:pt x="607359" y="2086091"/>
                    <a:pt x="1133476" y="2086091"/>
                  </a:cubicBezTo>
                  <a:cubicBezTo>
                    <a:pt x="1296700" y="2086091"/>
                    <a:pt x="1457187" y="2044150"/>
                    <a:pt x="1599543" y="1964293"/>
                  </a:cubicBezTo>
                  <a:lnTo>
                    <a:pt x="1688028" y="2122027"/>
                  </a:lnTo>
                  <a:close/>
                </a:path>
              </a:pathLst>
            </a:custGeom>
            <a:solidFill>
              <a:srgbClr val="9ea809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空心弧 74"/>
            <p:cNvSpPr/>
            <p:nvPr/>
          </p:nvSpPr>
          <p:spPr>
            <a:xfrm rot="19563000">
              <a:off x="3542040" y="2049480"/>
              <a:ext cx="1463040" cy="1463040"/>
            </a:xfrm>
            <a:custGeom>
              <a:avLst/>
              <a:gdLst>
                <a:gd name="textAreaLeft" fmla="*/ 0 w 1463040"/>
                <a:gd name="textAreaRight" fmla="*/ 1462680 w 1463040"/>
                <a:gd name="textAreaTop" fmla="*/ 0 h 1463040"/>
                <a:gd name="textAreaBottom" fmla="*/ 1463400 h 1463040"/>
              </a:gdLst>
              <a:ahLst/>
              <a:rect l="textAreaLeft" t="textAreaTop" r="textAreaRight" b="textAreaBottom"/>
              <a:pathLst>
                <a:path w="1885949" h="1885946">
                  <a:moveTo>
                    <a:pt x="1405623" y="1764651"/>
                  </a:moveTo>
                  <a:lnTo>
                    <a:pt x="1405623" y="1764651"/>
                  </a:lnTo>
                  <a:cubicBezTo>
                    <a:pt x="1264393" y="1844170"/>
                    <a:pt x="1105052" y="1885945"/>
                    <a:pt x="942975" y="1885946"/>
                  </a:cubicBezTo>
                  <a:cubicBezTo>
                    <a:pt x="422184" y="1885946"/>
                    <a:pt x="0" y="1463762"/>
                    <a:pt x="0" y="942973"/>
                  </a:cubicBezTo>
                  <a:cubicBezTo>
                    <a:pt x="0" y="422183"/>
                    <a:pt x="422184" y="0"/>
                    <a:pt x="942975" y="0"/>
                  </a:cubicBezTo>
                  <a:cubicBezTo>
                    <a:pt x="1451667" y="-1"/>
                    <a:pt x="1868672" y="403479"/>
                    <a:pt x="1885437" y="911894"/>
                  </a:cubicBezTo>
                  <a:lnTo>
                    <a:pt x="1735058" y="916854"/>
                  </a:lnTo>
                  <a:lnTo>
                    <a:pt x="1735058" y="916853"/>
                  </a:lnTo>
                  <a:cubicBezTo>
                    <a:pt x="1720968" y="489561"/>
                    <a:pt x="1370500" y="150461"/>
                    <a:pt x="942975" y="150461"/>
                  </a:cubicBezTo>
                  <a:cubicBezTo>
                    <a:pt x="505281" y="150461"/>
                    <a:pt x="150461" y="505280"/>
                    <a:pt x="150461" y="942973"/>
                  </a:cubicBezTo>
                  <a:cubicBezTo>
                    <a:pt x="150461" y="1380665"/>
                    <a:pt x="505281" y="1735485"/>
                    <a:pt x="942975" y="1735485"/>
                  </a:cubicBezTo>
                  <a:cubicBezTo>
                    <a:pt x="1079191" y="1735485"/>
                    <a:pt x="1213107" y="1700375"/>
                    <a:pt x="1331802" y="1633544"/>
                  </a:cubicBezTo>
                  <a:lnTo>
                    <a:pt x="1405623" y="1764651"/>
                  </a:lnTo>
                  <a:close/>
                </a:path>
              </a:pathLst>
            </a:custGeom>
            <a:solidFill>
              <a:srgbClr val="9ea809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空心弧 75"/>
            <p:cNvSpPr/>
            <p:nvPr/>
          </p:nvSpPr>
          <p:spPr>
            <a:xfrm rot="19563000">
              <a:off x="3667320" y="2175480"/>
              <a:ext cx="1211760" cy="1211760"/>
            </a:xfrm>
            <a:custGeom>
              <a:avLst/>
              <a:gdLst/>
              <a:ahLst/>
              <a:rect l="l" t="t" r="r" b="b"/>
              <a:pathLst>
                <a:path w="1562101" h="1562096">
                  <a:moveTo>
                    <a:pt x="1161609" y="1463113"/>
                  </a:moveTo>
                  <a:lnTo>
                    <a:pt x="1161608" y="1463112"/>
                  </a:lnTo>
                  <a:cubicBezTo>
                    <a:pt x="1045273" y="1528021"/>
                    <a:pt x="914268" y="1562095"/>
                    <a:pt x="781050" y="1562096"/>
                  </a:cubicBezTo>
                  <a:cubicBezTo>
                    <a:pt x="349687" y="1562096"/>
                    <a:pt x="-1" y="1212408"/>
                    <a:pt x="-1" y="781048"/>
                  </a:cubicBezTo>
                  <a:cubicBezTo>
                    <a:pt x="-1" y="349687"/>
                    <a:pt x="349687" y="0"/>
                    <a:pt x="781050" y="0"/>
                  </a:cubicBezTo>
                  <a:cubicBezTo>
                    <a:pt x="1202392" y="-1"/>
                    <a:pt x="1547790" y="334195"/>
                    <a:pt x="1561676" y="755307"/>
                  </a:cubicBezTo>
                  <a:lnTo>
                    <a:pt x="1437120" y="759414"/>
                  </a:lnTo>
                  <a:lnTo>
                    <a:pt x="1437120" y="759413"/>
                  </a:lnTo>
                  <a:cubicBezTo>
                    <a:pt x="1425449" y="405494"/>
                    <a:pt x="1135163" y="124624"/>
                    <a:pt x="781051" y="124624"/>
                  </a:cubicBezTo>
                  <a:cubicBezTo>
                    <a:pt x="418516" y="124624"/>
                    <a:pt x="124625" y="418515"/>
                    <a:pt x="124625" y="781048"/>
                  </a:cubicBezTo>
                  <a:cubicBezTo>
                    <a:pt x="124625" y="1143580"/>
                    <a:pt x="418516" y="1437472"/>
                    <a:pt x="781051" y="1437472"/>
                  </a:cubicBezTo>
                  <a:cubicBezTo>
                    <a:pt x="893013" y="1437472"/>
                    <a:pt x="1003114" y="1408834"/>
                    <a:pt x="1100887" y="1354282"/>
                  </a:cubicBezTo>
                  <a:lnTo>
                    <a:pt x="1161609" y="1463113"/>
                  </a:lnTo>
                  <a:close/>
                </a:path>
              </a:pathLst>
            </a:custGeom>
            <a:solidFill>
              <a:srgbClr val="9ea809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空心弧 76"/>
            <p:cNvSpPr/>
            <p:nvPr/>
          </p:nvSpPr>
          <p:spPr>
            <a:xfrm rot="19563000">
              <a:off x="3770640" y="2278800"/>
              <a:ext cx="1005120" cy="1005120"/>
            </a:xfrm>
            <a:custGeom>
              <a:avLst/>
              <a:gdLst>
                <a:gd name="textAreaLeft" fmla="*/ 0 w 1005120"/>
                <a:gd name="textAreaRight" fmla="*/ 1005120 w 1005120"/>
                <a:gd name="textAreaTop" fmla="*/ 0 h 1005120"/>
                <a:gd name="textAreaBottom" fmla="*/ 1005480 h 1005120"/>
              </a:gdLst>
              <a:ahLst/>
              <a:rect l="textAreaLeft" t="textAreaTop" r="textAreaRight" b="textAreaBottom"/>
              <a:pathLst>
                <a:path w="1295400" h="1295396">
                  <a:moveTo>
                    <a:pt x="960954" y="1214607"/>
                  </a:moveTo>
                  <a:lnTo>
                    <a:pt x="960953" y="1214606"/>
                  </a:lnTo>
                  <a:cubicBezTo>
                    <a:pt x="865050" y="1267599"/>
                    <a:pt x="757270" y="1295395"/>
                    <a:pt x="647700" y="1295396"/>
                  </a:cubicBezTo>
                  <a:cubicBezTo>
                    <a:pt x="289985" y="1295396"/>
                    <a:pt x="0" y="1005411"/>
                    <a:pt x="0" y="647698"/>
                  </a:cubicBezTo>
                  <a:cubicBezTo>
                    <a:pt x="0" y="289984"/>
                    <a:pt x="289985" y="0"/>
                    <a:pt x="647700" y="0"/>
                  </a:cubicBezTo>
                  <a:cubicBezTo>
                    <a:pt x="997105" y="-1"/>
                    <a:pt x="1283532" y="277137"/>
                    <a:pt x="1295048" y="626351"/>
                  </a:cubicBezTo>
                  <a:lnTo>
                    <a:pt x="1191758" y="629757"/>
                  </a:lnTo>
                  <a:lnTo>
                    <a:pt x="1191758" y="629756"/>
                  </a:lnTo>
                  <a:cubicBezTo>
                    <a:pt x="1182079" y="336263"/>
                    <a:pt x="941354" y="103347"/>
                    <a:pt x="647701" y="103347"/>
                  </a:cubicBezTo>
                  <a:cubicBezTo>
                    <a:pt x="347063" y="103347"/>
                    <a:pt x="103348" y="347061"/>
                    <a:pt x="103348" y="647698"/>
                  </a:cubicBezTo>
                  <a:cubicBezTo>
                    <a:pt x="103348" y="948334"/>
                    <a:pt x="347063" y="1192049"/>
                    <a:pt x="647701" y="1192049"/>
                  </a:cubicBezTo>
                  <a:cubicBezTo>
                    <a:pt x="739788" y="1192049"/>
                    <a:pt x="830370" y="1168687"/>
                    <a:pt x="910972" y="1124150"/>
                  </a:cubicBezTo>
                  <a:lnTo>
                    <a:pt x="960954" y="1214607"/>
                  </a:lnTo>
                  <a:close/>
                </a:path>
              </a:pathLst>
            </a:custGeom>
            <a:solidFill>
              <a:srgbClr val="9ea809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空心弧 77"/>
            <p:cNvSpPr/>
            <p:nvPr/>
          </p:nvSpPr>
          <p:spPr>
            <a:xfrm rot="19563000">
              <a:off x="3859200" y="2367360"/>
              <a:ext cx="827640" cy="827640"/>
            </a:xfrm>
            <a:custGeom>
              <a:avLst/>
              <a:gdLst>
                <a:gd name="textAreaLeft" fmla="*/ 0 w 827640"/>
                <a:gd name="textAreaRight" fmla="*/ 827640 w 82764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1066800" h="1066796">
                  <a:moveTo>
                    <a:pt x="783564" y="1004494"/>
                  </a:moveTo>
                  <a:lnTo>
                    <a:pt x="783564" y="1004494"/>
                  </a:lnTo>
                  <a:cubicBezTo>
                    <a:pt x="706524" y="1045403"/>
                    <a:pt x="620627" y="1066795"/>
                    <a:pt x="533400" y="1066796"/>
                  </a:cubicBezTo>
                  <a:cubicBezTo>
                    <a:pt x="238811" y="1066796"/>
                    <a:pt x="0" y="827985"/>
                    <a:pt x="0" y="533398"/>
                  </a:cubicBezTo>
                  <a:cubicBezTo>
                    <a:pt x="0" y="238810"/>
                    <a:pt x="238811" y="0"/>
                    <a:pt x="533400" y="0"/>
                  </a:cubicBezTo>
                  <a:cubicBezTo>
                    <a:pt x="821145" y="-1"/>
                    <a:pt x="1057026" y="228230"/>
                    <a:pt x="1066510" y="515817"/>
                  </a:cubicBezTo>
                  <a:lnTo>
                    <a:pt x="981447" y="518623"/>
                  </a:lnTo>
                  <a:lnTo>
                    <a:pt x="981447" y="518622"/>
                  </a:lnTo>
                  <a:cubicBezTo>
                    <a:pt x="973476" y="276922"/>
                    <a:pt x="775232" y="85109"/>
                    <a:pt x="533400" y="85109"/>
                  </a:cubicBezTo>
                  <a:cubicBezTo>
                    <a:pt x="285815" y="85109"/>
                    <a:pt x="85109" y="285814"/>
                    <a:pt x="85109" y="533398"/>
                  </a:cubicBezTo>
                  <a:cubicBezTo>
                    <a:pt x="85109" y="780981"/>
                    <a:pt x="285815" y="981687"/>
                    <a:pt x="533400" y="981687"/>
                  </a:cubicBezTo>
                  <a:cubicBezTo>
                    <a:pt x="606709" y="981687"/>
                    <a:pt x="678900" y="963708"/>
                    <a:pt x="743647" y="929326"/>
                  </a:cubicBezTo>
                  <a:lnTo>
                    <a:pt x="783564" y="1004494"/>
                  </a:lnTo>
                  <a:close/>
                </a:path>
              </a:pathLst>
            </a:custGeom>
            <a:solidFill>
              <a:srgbClr val="9ea80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0"/>
          <p:cNvGrpSpPr/>
          <p:nvPr/>
        </p:nvGrpSpPr>
        <p:grpSpPr>
          <a:xfrm>
            <a:off x="5728680" y="1467720"/>
            <a:ext cx="2626920" cy="2627280"/>
            <a:chOff x="5728680" y="1467720"/>
            <a:chExt cx="2626920" cy="2627280"/>
          </a:xfrm>
        </p:grpSpPr>
        <p:sp>
          <p:nvSpPr>
            <p:cNvPr id="103" name="空心弧 79"/>
            <p:cNvSpPr/>
            <p:nvPr/>
          </p:nvSpPr>
          <p:spPr>
            <a:xfrm rot="20404800">
              <a:off x="6016680" y="1755720"/>
              <a:ext cx="2050920" cy="2051280"/>
            </a:xfrm>
            <a:custGeom>
              <a:avLst/>
              <a:gdLst>
                <a:gd name="textAreaLeft" fmla="*/ 0 w 2050920"/>
                <a:gd name="textAreaRight" fmla="*/ 2050560 w 2050920"/>
                <a:gd name="textAreaTop" fmla="*/ 0 h 2051280"/>
                <a:gd name="textAreaBottom" fmla="*/ 2051640 h 2051280"/>
              </a:gdLst>
              <a:ahLst/>
              <a:rect l="textAreaLeft" t="textAreaTop" r="textAreaRight" b="textAreaBottom"/>
              <a:pathLst>
                <a:path w="2644144" h="2644140">
                  <a:moveTo>
                    <a:pt x="2408899" y="2074852"/>
                  </a:moveTo>
                  <a:lnTo>
                    <a:pt x="2408899" y="2074852"/>
                  </a:lnTo>
                  <a:cubicBezTo>
                    <a:pt x="2161937" y="2431401"/>
                    <a:pt x="1755797" y="2644140"/>
                    <a:pt x="1322072" y="2644141"/>
                  </a:cubicBezTo>
                  <a:cubicBezTo>
                    <a:pt x="591911" y="2644141"/>
                    <a:pt x="0" y="2052230"/>
                    <a:pt x="0" y="1322071"/>
                  </a:cubicBezTo>
                  <a:cubicBezTo>
                    <a:pt x="0" y="591911"/>
                    <a:pt x="591911" y="1"/>
                    <a:pt x="1322072" y="1"/>
                  </a:cubicBezTo>
                  <a:cubicBezTo>
                    <a:pt x="2035919" y="0"/>
                    <a:pt x="2620856" y="566683"/>
                    <a:pt x="2643479" y="1280171"/>
                  </a:cubicBezTo>
                  <a:lnTo>
                    <a:pt x="2476956" y="1285451"/>
                  </a:lnTo>
                  <a:lnTo>
                    <a:pt x="2476955" y="1285451"/>
                  </a:lnTo>
                  <a:cubicBezTo>
                    <a:pt x="2457183" y="661876"/>
                    <a:pt x="1945960" y="166607"/>
                    <a:pt x="1322071" y="166607"/>
                  </a:cubicBezTo>
                  <a:cubicBezTo>
                    <a:pt x="683925" y="166607"/>
                    <a:pt x="166606" y="683925"/>
                    <a:pt x="166606" y="1322070"/>
                  </a:cubicBezTo>
                  <a:cubicBezTo>
                    <a:pt x="166606" y="1960214"/>
                    <a:pt x="683925" y="2477533"/>
                    <a:pt x="1322071" y="2477533"/>
                  </a:cubicBezTo>
                  <a:cubicBezTo>
                    <a:pt x="1701138" y="2477533"/>
                    <a:pt x="2056096" y="2291603"/>
                    <a:pt x="2271936" y="1979986"/>
                  </a:cubicBezTo>
                  <a:lnTo>
                    <a:pt x="2408899" y="207485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空心弧 80"/>
            <p:cNvSpPr/>
            <p:nvPr/>
          </p:nvSpPr>
          <p:spPr>
            <a:xfrm rot="20404800">
              <a:off x="6162840" y="1901520"/>
              <a:ext cx="1758600" cy="1758960"/>
            </a:xfrm>
            <a:custGeom>
              <a:avLst/>
              <a:gdLst>
                <a:gd name="textAreaLeft" fmla="*/ 0 w 1758600"/>
                <a:gd name="textAreaRight" fmla="*/ 1758240 w 175860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2266952" h="2266948">
                  <a:moveTo>
                    <a:pt x="2065265" y="1778870"/>
                  </a:moveTo>
                  <a:lnTo>
                    <a:pt x="2065264" y="1778869"/>
                  </a:lnTo>
                  <a:cubicBezTo>
                    <a:pt x="1853532" y="2084556"/>
                    <a:pt x="1505329" y="2266947"/>
                    <a:pt x="1133476" y="2266948"/>
                  </a:cubicBezTo>
                  <a:cubicBezTo>
                    <a:pt x="507474" y="2266948"/>
                    <a:pt x="0" y="1759474"/>
                    <a:pt x="0" y="1133474"/>
                  </a:cubicBezTo>
                  <a:cubicBezTo>
                    <a:pt x="0" y="507473"/>
                    <a:pt x="507474" y="0"/>
                    <a:pt x="1133476" y="0"/>
                  </a:cubicBezTo>
                  <a:cubicBezTo>
                    <a:pt x="1744935" y="-1"/>
                    <a:pt x="2246183" y="484990"/>
                    <a:pt x="2266336" y="1096116"/>
                  </a:cubicBezTo>
                  <a:lnTo>
                    <a:pt x="2085577" y="1102078"/>
                  </a:lnTo>
                  <a:lnTo>
                    <a:pt x="2085577" y="1102077"/>
                  </a:lnTo>
                  <a:cubicBezTo>
                    <a:pt x="2068640" y="588463"/>
                    <a:pt x="1647371" y="180857"/>
                    <a:pt x="1133476" y="180857"/>
                  </a:cubicBezTo>
                  <a:cubicBezTo>
                    <a:pt x="607359" y="180857"/>
                    <a:pt x="180857" y="607358"/>
                    <a:pt x="180857" y="1133474"/>
                  </a:cubicBezTo>
                  <a:cubicBezTo>
                    <a:pt x="180857" y="1659589"/>
                    <a:pt x="607359" y="2086091"/>
                    <a:pt x="1133476" y="2086091"/>
                  </a:cubicBezTo>
                  <a:cubicBezTo>
                    <a:pt x="1445996" y="2086091"/>
                    <a:pt x="1738640" y="1932802"/>
                    <a:pt x="1916588" y="1675891"/>
                  </a:cubicBezTo>
                  <a:lnTo>
                    <a:pt x="2065265" y="1778870"/>
                  </a:lnTo>
                  <a:close/>
                </a:path>
              </a:pathLst>
            </a:custGeom>
            <a:solidFill>
              <a:srgbClr val="ffc000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空心弧 81"/>
            <p:cNvSpPr/>
            <p:nvPr/>
          </p:nvSpPr>
          <p:spPr>
            <a:xfrm rot="20404800">
              <a:off x="6310080" y="2049840"/>
              <a:ext cx="1463040" cy="1463040"/>
            </a:xfrm>
            <a:custGeom>
              <a:avLst/>
              <a:gdLst>
                <a:gd name="textAreaLeft" fmla="*/ 0 w 1463040"/>
                <a:gd name="textAreaRight" fmla="*/ 1462680 w 1463040"/>
                <a:gd name="textAreaTop" fmla="*/ 0 h 1463040"/>
                <a:gd name="textAreaBottom" fmla="*/ 1463400 h 1463040"/>
              </a:gdLst>
              <a:ahLst/>
              <a:rect l="textAreaLeft" t="textAreaTop" r="textAreaRight" b="textAreaBottom"/>
              <a:pathLst>
                <a:path w="1885950" h="1885946">
                  <a:moveTo>
                    <a:pt x="1718160" y="1479898"/>
                  </a:moveTo>
                  <a:lnTo>
                    <a:pt x="1718160" y="1479898"/>
                  </a:lnTo>
                  <a:cubicBezTo>
                    <a:pt x="1542013" y="1734208"/>
                    <a:pt x="1252332" y="1885945"/>
                    <a:pt x="942975" y="1885946"/>
                  </a:cubicBezTo>
                  <a:cubicBezTo>
                    <a:pt x="422184" y="1885946"/>
                    <a:pt x="0" y="1463762"/>
                    <a:pt x="0" y="942973"/>
                  </a:cubicBezTo>
                  <a:cubicBezTo>
                    <a:pt x="0" y="422183"/>
                    <a:pt x="422184" y="0"/>
                    <a:pt x="942975" y="0"/>
                  </a:cubicBezTo>
                  <a:cubicBezTo>
                    <a:pt x="1451667" y="-1"/>
                    <a:pt x="1868671" y="403479"/>
                    <a:pt x="1885437" y="911894"/>
                  </a:cubicBezTo>
                  <a:lnTo>
                    <a:pt x="1735059" y="916854"/>
                  </a:lnTo>
                  <a:lnTo>
                    <a:pt x="1735059" y="916853"/>
                  </a:lnTo>
                  <a:cubicBezTo>
                    <a:pt x="1720969" y="489561"/>
                    <a:pt x="1370501" y="150461"/>
                    <a:pt x="942976" y="150461"/>
                  </a:cubicBezTo>
                  <a:cubicBezTo>
                    <a:pt x="505282" y="150461"/>
                    <a:pt x="150462" y="505280"/>
                    <a:pt x="150462" y="942973"/>
                  </a:cubicBezTo>
                  <a:cubicBezTo>
                    <a:pt x="150462" y="1380665"/>
                    <a:pt x="505282" y="1735485"/>
                    <a:pt x="942976" y="1735485"/>
                  </a:cubicBezTo>
                  <a:cubicBezTo>
                    <a:pt x="1202971" y="1735485"/>
                    <a:pt x="1446431" y="1607959"/>
                    <a:pt x="1594472" y="1394227"/>
                  </a:cubicBezTo>
                  <a:lnTo>
                    <a:pt x="1718160" y="1479898"/>
                  </a:lnTo>
                  <a:close/>
                </a:path>
              </a:pathLst>
            </a:custGeom>
            <a:solidFill>
              <a:srgbClr val="ffc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空心弧 82"/>
            <p:cNvSpPr/>
            <p:nvPr/>
          </p:nvSpPr>
          <p:spPr>
            <a:xfrm rot="20404800">
              <a:off x="6435720" y="2175120"/>
              <a:ext cx="1211760" cy="1211760"/>
            </a:xfrm>
            <a:custGeom>
              <a:avLst/>
              <a:gdLst/>
              <a:ahLst/>
              <a:rect l="l" t="t" r="r" b="b"/>
              <a:pathLst>
                <a:path w="1562100" h="1562096">
                  <a:moveTo>
                    <a:pt x="1423122" y="1225774"/>
                  </a:moveTo>
                  <a:lnTo>
                    <a:pt x="1423122" y="1225774"/>
                  </a:lnTo>
                  <a:cubicBezTo>
                    <a:pt x="1277222" y="1436414"/>
                    <a:pt x="1037284" y="1562095"/>
                    <a:pt x="781050" y="1562096"/>
                  </a:cubicBezTo>
                  <a:cubicBezTo>
                    <a:pt x="349687" y="1562096"/>
                    <a:pt x="0" y="1212408"/>
                    <a:pt x="0" y="781048"/>
                  </a:cubicBezTo>
                  <a:cubicBezTo>
                    <a:pt x="0" y="349687"/>
                    <a:pt x="349687" y="0"/>
                    <a:pt x="781050" y="0"/>
                  </a:cubicBezTo>
                  <a:cubicBezTo>
                    <a:pt x="1202391" y="-1"/>
                    <a:pt x="1547788" y="334194"/>
                    <a:pt x="1561675" y="755305"/>
                  </a:cubicBezTo>
                  <a:lnTo>
                    <a:pt x="1437119" y="759414"/>
                  </a:lnTo>
                  <a:lnTo>
                    <a:pt x="1437119" y="759413"/>
                  </a:lnTo>
                  <a:cubicBezTo>
                    <a:pt x="1425448" y="405494"/>
                    <a:pt x="1135162" y="124624"/>
                    <a:pt x="781050" y="124624"/>
                  </a:cubicBezTo>
                  <a:cubicBezTo>
                    <a:pt x="418515" y="124624"/>
                    <a:pt x="124624" y="418515"/>
                    <a:pt x="124624" y="781048"/>
                  </a:cubicBezTo>
                  <a:cubicBezTo>
                    <a:pt x="124624" y="1143580"/>
                    <a:pt x="418515" y="1437472"/>
                    <a:pt x="781050" y="1437472"/>
                  </a:cubicBezTo>
                  <a:cubicBezTo>
                    <a:pt x="996399" y="1437472"/>
                    <a:pt x="1198053" y="1331844"/>
                    <a:pt x="1320673" y="1154814"/>
                  </a:cubicBezTo>
                  <a:lnTo>
                    <a:pt x="1423122" y="1225774"/>
                  </a:lnTo>
                  <a:close/>
                </a:path>
              </a:pathLst>
            </a:custGeom>
            <a:solidFill>
              <a:srgbClr val="ffc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空心弧 83"/>
            <p:cNvSpPr/>
            <p:nvPr/>
          </p:nvSpPr>
          <p:spPr>
            <a:xfrm rot="20404800">
              <a:off x="6539760" y="2278800"/>
              <a:ext cx="1004760" cy="1005120"/>
            </a:xfrm>
            <a:custGeom>
              <a:avLst/>
              <a:gdLst>
                <a:gd name="textAreaLeft" fmla="*/ 0 w 1004760"/>
                <a:gd name="textAreaRight" fmla="*/ 1004760 w 1004760"/>
                <a:gd name="textAreaTop" fmla="*/ 0 h 1005120"/>
                <a:gd name="textAreaBottom" fmla="*/ 1005480 h 1005120"/>
              </a:gdLst>
              <a:ahLst/>
              <a:rect l="textAreaLeft" t="textAreaTop" r="textAreaRight" b="textAreaBottom"/>
              <a:pathLst>
                <a:path w="1295400" h="1295396">
                  <a:moveTo>
                    <a:pt x="1180150" y="1016495"/>
                  </a:moveTo>
                  <a:lnTo>
                    <a:pt x="1180150" y="1016495"/>
                  </a:lnTo>
                  <a:cubicBezTo>
                    <a:pt x="1059160" y="1191172"/>
                    <a:pt x="860187" y="1295395"/>
                    <a:pt x="647700" y="1295396"/>
                  </a:cubicBezTo>
                  <a:cubicBezTo>
                    <a:pt x="289985" y="1295396"/>
                    <a:pt x="0" y="1005411"/>
                    <a:pt x="0" y="647698"/>
                  </a:cubicBezTo>
                  <a:cubicBezTo>
                    <a:pt x="0" y="289984"/>
                    <a:pt x="289985" y="0"/>
                    <a:pt x="647700" y="0"/>
                  </a:cubicBezTo>
                  <a:cubicBezTo>
                    <a:pt x="997104" y="-1"/>
                    <a:pt x="1283532" y="277136"/>
                    <a:pt x="1295048" y="626350"/>
                  </a:cubicBezTo>
                  <a:lnTo>
                    <a:pt x="1191758" y="629757"/>
                  </a:lnTo>
                  <a:lnTo>
                    <a:pt x="1191758" y="629756"/>
                  </a:lnTo>
                  <a:cubicBezTo>
                    <a:pt x="1182079" y="336263"/>
                    <a:pt x="941354" y="103347"/>
                    <a:pt x="647701" y="103347"/>
                  </a:cubicBezTo>
                  <a:cubicBezTo>
                    <a:pt x="347063" y="103347"/>
                    <a:pt x="103348" y="347061"/>
                    <a:pt x="103348" y="647698"/>
                  </a:cubicBezTo>
                  <a:cubicBezTo>
                    <a:pt x="103348" y="948334"/>
                    <a:pt x="347063" y="1192049"/>
                    <a:pt x="647701" y="1192049"/>
                  </a:cubicBezTo>
                  <a:cubicBezTo>
                    <a:pt x="826284" y="1192049"/>
                    <a:pt x="993509" y="1104455"/>
                    <a:pt x="1095193" y="957649"/>
                  </a:cubicBezTo>
                  <a:lnTo>
                    <a:pt x="1180150" y="1016495"/>
                  </a:lnTo>
                  <a:close/>
                </a:path>
              </a:pathLst>
            </a:custGeom>
            <a:solidFill>
              <a:srgbClr val="ffc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空心弧 84"/>
            <p:cNvSpPr/>
            <p:nvPr/>
          </p:nvSpPr>
          <p:spPr>
            <a:xfrm rot="20404800">
              <a:off x="6627960" y="2367000"/>
              <a:ext cx="827280" cy="827640"/>
            </a:xfrm>
            <a:custGeom>
              <a:avLst/>
              <a:gdLst>
                <a:gd name="textAreaLeft" fmla="*/ 0 w 827280"/>
                <a:gd name="textAreaRight" fmla="*/ 827280 w 8272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1066800" h="1066796">
                  <a:moveTo>
                    <a:pt x="971888" y="837113"/>
                  </a:moveTo>
                  <a:lnTo>
                    <a:pt x="971888" y="837113"/>
                  </a:lnTo>
                  <a:cubicBezTo>
                    <a:pt x="872249" y="980965"/>
                    <a:pt x="708389" y="1066795"/>
                    <a:pt x="533400" y="1066796"/>
                  </a:cubicBezTo>
                  <a:cubicBezTo>
                    <a:pt x="238811" y="1066796"/>
                    <a:pt x="0" y="827985"/>
                    <a:pt x="0" y="533398"/>
                  </a:cubicBezTo>
                  <a:cubicBezTo>
                    <a:pt x="0" y="238810"/>
                    <a:pt x="238811" y="0"/>
                    <a:pt x="533400" y="0"/>
                  </a:cubicBezTo>
                  <a:cubicBezTo>
                    <a:pt x="821145" y="-1"/>
                    <a:pt x="1057026" y="228230"/>
                    <a:pt x="1066510" y="515817"/>
                  </a:cubicBezTo>
                  <a:lnTo>
                    <a:pt x="981447" y="518623"/>
                  </a:lnTo>
                  <a:lnTo>
                    <a:pt x="981447" y="518622"/>
                  </a:lnTo>
                  <a:cubicBezTo>
                    <a:pt x="973476" y="276922"/>
                    <a:pt x="775232" y="85109"/>
                    <a:pt x="533400" y="85109"/>
                  </a:cubicBezTo>
                  <a:cubicBezTo>
                    <a:pt x="285815" y="85109"/>
                    <a:pt x="85109" y="285814"/>
                    <a:pt x="85109" y="533398"/>
                  </a:cubicBezTo>
                  <a:cubicBezTo>
                    <a:pt x="85109" y="780981"/>
                    <a:pt x="285815" y="981687"/>
                    <a:pt x="533400" y="981687"/>
                  </a:cubicBezTo>
                  <a:cubicBezTo>
                    <a:pt x="680468" y="981687"/>
                    <a:pt x="818183" y="909551"/>
                    <a:pt x="901923" y="788652"/>
                  </a:cubicBezTo>
                  <a:lnTo>
                    <a:pt x="971888" y="837113"/>
                  </a:lnTo>
                  <a:close/>
                </a:path>
              </a:pathLst>
            </a:custGeom>
            <a:solidFill>
              <a:srgbClr val="ffc0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37"/>
          <p:cNvGrpSpPr/>
          <p:nvPr/>
        </p:nvGrpSpPr>
        <p:grpSpPr>
          <a:xfrm>
            <a:off x="1004760" y="4057560"/>
            <a:ext cx="1305000" cy="307080"/>
            <a:chOff x="1004760" y="4057560"/>
            <a:chExt cx="1305000" cy="307080"/>
          </a:xfrm>
        </p:grpSpPr>
        <p:sp>
          <p:nvSpPr>
            <p:cNvPr id="110" name="矩形 85"/>
            <p:cNvSpPr/>
            <p:nvPr/>
          </p:nvSpPr>
          <p:spPr>
            <a:xfrm>
              <a:off x="1004760" y="4082760"/>
              <a:ext cx="130500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86"/>
            <p:cNvSpPr/>
            <p:nvPr/>
          </p:nvSpPr>
          <p:spPr>
            <a:xfrm>
              <a:off x="110952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0"/>
          <p:cNvGrpSpPr/>
          <p:nvPr/>
        </p:nvGrpSpPr>
        <p:grpSpPr>
          <a:xfrm>
            <a:off x="3711600" y="4057560"/>
            <a:ext cx="1305000" cy="307080"/>
            <a:chOff x="3711600" y="4057560"/>
            <a:chExt cx="1305000" cy="307080"/>
          </a:xfrm>
        </p:grpSpPr>
        <p:sp>
          <p:nvSpPr>
            <p:cNvPr id="113" name="矩形 89"/>
            <p:cNvSpPr/>
            <p:nvPr/>
          </p:nvSpPr>
          <p:spPr>
            <a:xfrm>
              <a:off x="3711600" y="4082760"/>
              <a:ext cx="130500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90"/>
            <p:cNvSpPr/>
            <p:nvPr/>
          </p:nvSpPr>
          <p:spPr>
            <a:xfrm>
              <a:off x="381636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43"/>
          <p:cNvGrpSpPr/>
          <p:nvPr/>
        </p:nvGrpSpPr>
        <p:grpSpPr>
          <a:xfrm>
            <a:off x="6418440" y="4057560"/>
            <a:ext cx="1304640" cy="307080"/>
            <a:chOff x="6418440" y="4057560"/>
            <a:chExt cx="1304640" cy="307080"/>
          </a:xfrm>
        </p:grpSpPr>
        <p:sp>
          <p:nvSpPr>
            <p:cNvPr id="116" name="矩形 92"/>
            <p:cNvSpPr/>
            <p:nvPr/>
          </p:nvSpPr>
          <p:spPr>
            <a:xfrm>
              <a:off x="6418440" y="4082760"/>
              <a:ext cx="130464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93"/>
            <p:cNvSpPr/>
            <p:nvPr/>
          </p:nvSpPr>
          <p:spPr>
            <a:xfrm>
              <a:off x="6523200" y="40575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94"/>
          <p:cNvSpPr/>
          <p:nvPr/>
        </p:nvSpPr>
        <p:spPr>
          <a:xfrm>
            <a:off x="1847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5"/>
          <p:cNvSpPr/>
          <p:nvPr/>
        </p:nvSpPr>
        <p:spPr>
          <a:xfrm>
            <a:off x="457200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a809"/>
                </a:solidFill>
                <a:latin typeface="方正大黑简体"/>
                <a:ea typeface="方正大黑简体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6"/>
          <p:cNvSpPr/>
          <p:nvPr/>
        </p:nvSpPr>
        <p:spPr>
          <a:xfrm>
            <a:off x="7562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4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4680" y="501984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14"/>
          <p:cNvGrpSpPr/>
          <p:nvPr/>
        </p:nvGrpSpPr>
        <p:grpSpPr>
          <a:xfrm>
            <a:off x="2478240" y="4248000"/>
            <a:ext cx="4187520" cy="307080"/>
            <a:chOff x="2478240" y="4248000"/>
            <a:chExt cx="4187520" cy="307080"/>
          </a:xfrm>
        </p:grpSpPr>
        <p:sp>
          <p:nvSpPr>
            <p:cNvPr id="135" name="矩形 89"/>
            <p:cNvSpPr/>
            <p:nvPr/>
          </p:nvSpPr>
          <p:spPr>
            <a:xfrm>
              <a:off x="2478240" y="4273200"/>
              <a:ext cx="418752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90"/>
            <p:cNvSpPr/>
            <p:nvPr/>
          </p:nvSpPr>
          <p:spPr>
            <a:xfrm>
              <a:off x="2814480" y="4248000"/>
              <a:ext cx="35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3"/>
          <p:cNvSpPr/>
          <p:nvPr/>
        </p:nvSpPr>
        <p:spPr>
          <a:xfrm>
            <a:off x="809640" y="176220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914400" y="1619280"/>
            <a:ext cx="7315200" cy="237816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1081080" y="197820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目前的核心业务主要为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90600" y="149220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355760" y="130032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3151080" y="13860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290600" y="236376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1355760" y="217188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151080" y="2257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1290600" y="323676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355760" y="304488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151080" y="3130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290600" y="410832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55760" y="391644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151080" y="40021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640" y="1049040"/>
            <a:ext cx="89010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9BF-8B38-48D9-9E46-1DFE3BEFDC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14"/>
          <p:cNvGrpSpPr/>
          <p:nvPr/>
        </p:nvGrpSpPr>
        <p:grpSpPr>
          <a:xfrm>
            <a:off x="1222200" y="1468440"/>
            <a:ext cx="2754360" cy="2754360"/>
            <a:chOff x="1222200" y="1468440"/>
            <a:chExt cx="2754360" cy="2754360"/>
          </a:xfrm>
        </p:grpSpPr>
        <p:grpSp>
          <p:nvGrpSpPr>
            <p:cNvPr id="180" name="Group 15"/>
            <p:cNvGrpSpPr/>
            <p:nvPr/>
          </p:nvGrpSpPr>
          <p:grpSpPr>
            <a:xfrm>
              <a:off x="1222200" y="1468440"/>
              <a:ext cx="2754360" cy="2754360"/>
              <a:chOff x="1222200" y="1468440"/>
              <a:chExt cx="2754360" cy="2754360"/>
            </a:xfrm>
          </p:grpSpPr>
          <p:sp>
            <p:nvSpPr>
              <p:cNvPr id="181" name="椭圆 2"/>
              <p:cNvSpPr/>
              <p:nvPr/>
            </p:nvSpPr>
            <p:spPr>
              <a:xfrm>
                <a:off x="1222200" y="14684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3"/>
              <p:cNvSpPr/>
              <p:nvPr/>
            </p:nvSpPr>
            <p:spPr>
              <a:xfrm>
                <a:off x="1433160" y="16794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13"/>
            <p:cNvSpPr/>
            <p:nvPr/>
          </p:nvSpPr>
          <p:spPr>
            <a:xfrm>
              <a:off x="1912680" y="24922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146"/>
          <p:cNvSpPr/>
          <p:nvPr/>
        </p:nvSpPr>
        <p:spPr>
          <a:xfrm>
            <a:off x="3889440" y="19303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20"/>
          <p:cNvGrpSpPr/>
          <p:nvPr/>
        </p:nvGrpSpPr>
        <p:grpSpPr>
          <a:xfrm>
            <a:off x="2873520" y="1309680"/>
            <a:ext cx="5048280" cy="741240"/>
            <a:chOff x="2873520" y="1309680"/>
            <a:chExt cx="5048280" cy="741240"/>
          </a:xfrm>
        </p:grpSpPr>
        <p:sp>
          <p:nvSpPr>
            <p:cNvPr id="186" name="矩形 6"/>
            <p:cNvSpPr/>
            <p:nvPr/>
          </p:nvSpPr>
          <p:spPr>
            <a:xfrm>
              <a:off x="3549600" y="148572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22"/>
            <p:cNvGrpSpPr/>
            <p:nvPr/>
          </p:nvGrpSpPr>
          <p:grpSpPr>
            <a:xfrm>
              <a:off x="2876400" y="1309680"/>
              <a:ext cx="741240" cy="741240"/>
              <a:chOff x="2876400" y="1309680"/>
              <a:chExt cx="741240" cy="741240"/>
            </a:xfrm>
          </p:grpSpPr>
          <p:sp>
            <p:nvSpPr>
              <p:cNvPr id="188" name="椭圆 11"/>
              <p:cNvSpPr/>
              <p:nvPr/>
            </p:nvSpPr>
            <p:spPr>
              <a:xfrm>
                <a:off x="2876400" y="130968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2"/>
              <p:cNvSpPr/>
              <p:nvPr/>
            </p:nvSpPr>
            <p:spPr>
              <a:xfrm>
                <a:off x="2922840" y="135612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Box 146"/>
            <p:cNvSpPr/>
            <p:nvPr/>
          </p:nvSpPr>
          <p:spPr>
            <a:xfrm>
              <a:off x="3743280" y="154152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2873520" y="1479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46"/>
          <p:cNvSpPr/>
          <p:nvPr/>
        </p:nvSpPr>
        <p:spPr>
          <a:xfrm>
            <a:off x="4257720" y="309240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8"/>
          <p:cNvGrpSpPr/>
          <p:nvPr/>
        </p:nvGrpSpPr>
        <p:grpSpPr>
          <a:xfrm>
            <a:off x="3581280" y="2476440"/>
            <a:ext cx="4340520" cy="739800"/>
            <a:chOff x="3581280" y="2476440"/>
            <a:chExt cx="4340520" cy="739800"/>
          </a:xfrm>
        </p:grpSpPr>
        <p:sp>
          <p:nvSpPr>
            <p:cNvPr id="194" name="矩形 57"/>
            <p:cNvSpPr/>
            <p:nvPr/>
          </p:nvSpPr>
          <p:spPr>
            <a:xfrm>
              <a:off x="4192560" y="265104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0"/>
            <p:cNvGrpSpPr/>
            <p:nvPr/>
          </p:nvGrpSpPr>
          <p:grpSpPr>
            <a:xfrm>
              <a:off x="3584160" y="2476440"/>
              <a:ext cx="739800" cy="739800"/>
              <a:chOff x="3584160" y="2476440"/>
              <a:chExt cx="739800" cy="739800"/>
            </a:xfrm>
          </p:grpSpPr>
          <p:sp>
            <p:nvSpPr>
              <p:cNvPr id="196" name="椭圆 8"/>
              <p:cNvSpPr/>
              <p:nvPr/>
            </p:nvSpPr>
            <p:spPr>
              <a:xfrm>
                <a:off x="3584160" y="2476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椭圆 9"/>
              <p:cNvSpPr/>
              <p:nvPr/>
            </p:nvSpPr>
            <p:spPr>
              <a:xfrm>
                <a:off x="3629880" y="252216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Box 146"/>
            <p:cNvSpPr/>
            <p:nvPr/>
          </p:nvSpPr>
          <p:spPr>
            <a:xfrm>
              <a:off x="4448160" y="2708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3581280" y="2646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46"/>
          <p:cNvSpPr/>
          <p:nvPr/>
        </p:nvSpPr>
        <p:spPr>
          <a:xfrm>
            <a:off x="3743280" y="42721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6"/>
          <p:cNvGrpSpPr/>
          <p:nvPr/>
        </p:nvGrpSpPr>
        <p:grpSpPr>
          <a:xfrm>
            <a:off x="2873520" y="3651120"/>
            <a:ext cx="5048280" cy="739800"/>
            <a:chOff x="2873520" y="3651120"/>
            <a:chExt cx="5048280" cy="739800"/>
          </a:xfrm>
        </p:grpSpPr>
        <p:sp>
          <p:nvSpPr>
            <p:cNvPr id="202" name="矩形 4"/>
            <p:cNvSpPr/>
            <p:nvPr/>
          </p:nvSpPr>
          <p:spPr>
            <a:xfrm>
              <a:off x="3549600" y="382572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38"/>
            <p:cNvGrpSpPr/>
            <p:nvPr/>
          </p:nvGrpSpPr>
          <p:grpSpPr>
            <a:xfrm>
              <a:off x="2878200" y="3651120"/>
              <a:ext cx="739800" cy="739800"/>
              <a:chOff x="2878200" y="3651120"/>
              <a:chExt cx="739800" cy="739800"/>
            </a:xfrm>
          </p:grpSpPr>
          <p:sp>
            <p:nvSpPr>
              <p:cNvPr id="204" name="椭圆 14"/>
              <p:cNvSpPr/>
              <p:nvPr/>
            </p:nvSpPr>
            <p:spPr>
              <a:xfrm>
                <a:off x="2878200" y="365112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椭圆 70"/>
              <p:cNvSpPr/>
              <p:nvPr/>
            </p:nvSpPr>
            <p:spPr>
              <a:xfrm>
                <a:off x="2923920" y="369684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146"/>
            <p:cNvSpPr/>
            <p:nvPr/>
          </p:nvSpPr>
          <p:spPr>
            <a:xfrm>
              <a:off x="3743280" y="38829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873520" y="38210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71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14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21" name="任意多边形 158"/>
            <p:cNvSpPr/>
            <p:nvPr/>
          </p:nvSpPr>
          <p:spPr>
            <a:xfrm flipH="1">
              <a:off x="5162400" y="1967040"/>
              <a:ext cx="1187280" cy="2505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00b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159"/>
            <p:cNvSpPr/>
            <p:nvPr/>
          </p:nvSpPr>
          <p:spPr>
            <a:xfrm flipH="1" flipV="1">
              <a:off x="5162400" y="408096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160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161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46"/>
            <p:cNvSpPr/>
            <p:nvPr/>
          </p:nvSpPr>
          <p:spPr>
            <a:xfrm>
              <a:off x="633384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3"/>
          <p:cNvGrpSpPr/>
          <p:nvPr/>
        </p:nvGrpSpPr>
        <p:grpSpPr>
          <a:xfrm>
            <a:off x="357120" y="2082960"/>
            <a:ext cx="3562560" cy="2206440"/>
            <a:chOff x="357120" y="2082960"/>
            <a:chExt cx="3562560" cy="2206440"/>
          </a:xfrm>
        </p:grpSpPr>
        <p:sp>
          <p:nvSpPr>
            <p:cNvPr id="230" name="任意多边形 167"/>
            <p:cNvSpPr/>
            <p:nvPr/>
          </p:nvSpPr>
          <p:spPr>
            <a:xfrm>
              <a:off x="2730600" y="2082960"/>
              <a:ext cx="1189080" cy="252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168"/>
            <p:cNvSpPr/>
            <p:nvPr/>
          </p:nvSpPr>
          <p:spPr>
            <a:xfrm flipV="1">
              <a:off x="2730600" y="4038840"/>
              <a:ext cx="1189080" cy="2505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360 h 250560"/>
                <a:gd name="textAreaBottom" fmla="*/ 251280 h 2505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169"/>
            <p:cNvSpPr/>
            <p:nvPr/>
          </p:nvSpPr>
          <p:spPr>
            <a:xfrm>
              <a:off x="273060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30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37" name="饼形 174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527509" y="691489"/>
                  </a:moveTo>
                  <a:lnTo>
                    <a:pt x="2527508" y="691489"/>
                  </a:lnTo>
                  <a:cubicBezTo>
                    <a:pt x="2639358" y="891788"/>
                    <a:pt x="2698294" y="1117296"/>
                    <a:pt x="2698747" y="1346709"/>
                  </a:cubicBezTo>
                  <a:lnTo>
                    <a:pt x="1349375" y="1349375"/>
                  </a:lnTo>
                  <a:lnTo>
                    <a:pt x="2527509" y="691489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饼形 175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698748" y="1346973"/>
                  </a:moveTo>
                  <a:lnTo>
                    <a:pt x="2698747" y="1346973"/>
                  </a:lnTo>
                  <a:cubicBezTo>
                    <a:pt x="2698749" y="1347773"/>
                    <a:pt x="2698750" y="1348574"/>
                    <a:pt x="2698750" y="1349375"/>
                  </a:cubicBezTo>
                  <a:cubicBezTo>
                    <a:pt x="2698750" y="1668507"/>
                    <a:pt x="2585641" y="1977311"/>
                    <a:pt x="2379511" y="2220942"/>
                  </a:cubicBezTo>
                  <a:lnTo>
                    <a:pt x="1349375" y="1349375"/>
                  </a:lnTo>
                  <a:lnTo>
                    <a:pt x="2698748" y="1346973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饼形 176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379564" y="2220881"/>
                  </a:moveTo>
                  <a:lnTo>
                    <a:pt x="2379564" y="2220881"/>
                  </a:lnTo>
                  <a:cubicBezTo>
                    <a:pt x="2123177" y="2523951"/>
                    <a:pt x="1746345" y="2698749"/>
                    <a:pt x="1349375" y="2698750"/>
                  </a:cubicBezTo>
                  <a:cubicBezTo>
                    <a:pt x="1346257" y="2698750"/>
                    <a:pt x="1343140" y="2698739"/>
                    <a:pt x="1340024" y="2698717"/>
                  </a:cubicBezTo>
                  <a:lnTo>
                    <a:pt x="1349375" y="1349375"/>
                  </a:lnTo>
                  <a:lnTo>
                    <a:pt x="2379564" y="2220881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饼形 177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1343161" y="2698736"/>
                  </a:moveTo>
                  <a:lnTo>
                    <a:pt x="1343161" y="2698735"/>
                  </a:lnTo>
                  <a:cubicBezTo>
                    <a:pt x="917897" y="2696777"/>
                    <a:pt x="518441" y="2494457"/>
                    <a:pt x="265239" y="2152782"/>
                  </a:cubicBezTo>
                  <a:lnTo>
                    <a:pt x="1349375" y="1349375"/>
                  </a:lnTo>
                  <a:lnTo>
                    <a:pt x="1343161" y="2698736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饼形 178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68955" y="2157772"/>
                  </a:moveTo>
                  <a:lnTo>
                    <a:pt x="268955" y="2157771"/>
                  </a:lnTo>
                  <a:cubicBezTo>
                    <a:pt x="94356" y="1924421"/>
                    <a:pt x="0" y="1640814"/>
                    <a:pt x="0" y="1349375"/>
                  </a:cubicBezTo>
                  <a:cubicBezTo>
                    <a:pt x="-1" y="1216331"/>
                    <a:pt x="19675" y="1084018"/>
                    <a:pt x="58389" y="956732"/>
                  </a:cubicBezTo>
                  <a:lnTo>
                    <a:pt x="1349375" y="1349375"/>
                  </a:lnTo>
                  <a:lnTo>
                    <a:pt x="268955" y="2157772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饼形 179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60004" y="951462"/>
                  </a:moveTo>
                  <a:lnTo>
                    <a:pt x="60003" y="951461"/>
                  </a:lnTo>
                  <a:cubicBezTo>
                    <a:pt x="234566" y="385821"/>
                    <a:pt x="757410" y="-1"/>
                    <a:pt x="1349375" y="0"/>
                  </a:cubicBezTo>
                  <a:cubicBezTo>
                    <a:pt x="1349375" y="0"/>
                    <a:pt x="1349376" y="0"/>
                    <a:pt x="1349376" y="0"/>
                  </a:cubicBezTo>
                  <a:lnTo>
                    <a:pt x="1349375" y="1349375"/>
                  </a:lnTo>
                  <a:lnTo>
                    <a:pt x="60004" y="951462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饼形 180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1348136" y="1"/>
                  </a:moveTo>
                  <a:lnTo>
                    <a:pt x="1348135" y="0"/>
                  </a:lnTo>
                  <a:cubicBezTo>
                    <a:pt x="1348548" y="0"/>
                    <a:pt x="1348961" y="-1"/>
                    <a:pt x="1349375" y="0"/>
                  </a:cubicBezTo>
                  <a:cubicBezTo>
                    <a:pt x="1839779" y="0"/>
                    <a:pt x="2291577" y="266063"/>
                    <a:pt x="2529423" y="694929"/>
                  </a:cubicBezTo>
                  <a:lnTo>
                    <a:pt x="1349375" y="1349375"/>
                  </a:lnTo>
                  <a:lnTo>
                    <a:pt x="1348136" y="1"/>
                  </a:lnTo>
                  <a:close/>
                </a:path>
              </a:pathLst>
            </a:custGeom>
            <a:solidFill>
              <a:srgbClr val="00bed1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81"/>
            <p:cNvSpPr/>
            <p:nvPr/>
          </p:nvSpPr>
          <p:spPr>
            <a:xfrm>
              <a:off x="3078000" y="164304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83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34" descr="2.png"/>
          <p:cNvPicPr/>
          <p:nvPr/>
        </p:nvPicPr>
        <p:blipFill>
          <a:blip r:embed="rId1"/>
          <a:stretch/>
        </p:blipFill>
        <p:spPr>
          <a:xfrm>
            <a:off x="4027320" y="0"/>
            <a:ext cx="4967280" cy="5388120"/>
          </a:xfrm>
          <a:prstGeom prst="rect">
            <a:avLst/>
          </a:prstGeom>
          <a:ln w="0">
            <a:noFill/>
          </a:ln>
        </p:spPr>
      </p:pic>
      <p:sp>
        <p:nvSpPr>
          <p:cNvPr id="248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29" descr="4.png"/>
          <p:cNvPicPr/>
          <p:nvPr/>
        </p:nvPicPr>
        <p:blipFill>
          <a:blip r:embed="rId2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43" descr="6.png"/>
          <p:cNvPicPr/>
          <p:nvPr/>
        </p:nvPicPr>
        <p:blipFill>
          <a:blip r:embed="rId3"/>
          <a:stretch/>
        </p:blipFill>
        <p:spPr>
          <a:xfrm>
            <a:off x="274680" y="3343320"/>
            <a:ext cx="291960" cy="17604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8"/>
          <p:cNvGrpSpPr/>
          <p:nvPr/>
        </p:nvGrpSpPr>
        <p:grpSpPr>
          <a:xfrm>
            <a:off x="0" y="5043600"/>
            <a:ext cx="9144000" cy="671400"/>
            <a:chOff x="0" y="5043600"/>
            <a:chExt cx="9144000" cy="671400"/>
          </a:xfrm>
        </p:grpSpPr>
        <p:sp>
          <p:nvSpPr>
            <p:cNvPr id="252" name="矩形 28"/>
            <p:cNvSpPr/>
            <p:nvPr/>
          </p:nvSpPr>
          <p:spPr>
            <a:xfrm>
              <a:off x="0" y="5394960"/>
              <a:ext cx="9144000" cy="3200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3"/>
            <p:cNvSpPr/>
            <p:nvPr/>
          </p:nvSpPr>
          <p:spPr>
            <a:xfrm>
              <a:off x="0" y="5429160"/>
              <a:ext cx="1333440" cy="285840"/>
            </a:xfrm>
            <a:prstGeom prst="rect">
              <a:avLst/>
            </a:prstGeom>
            <a:solidFill>
              <a:srgbClr val="006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"/>
            <p:cNvSpPr/>
            <p:nvPr/>
          </p:nvSpPr>
          <p:spPr>
            <a:xfrm>
              <a:off x="1301760" y="5429160"/>
              <a:ext cx="1333440" cy="285840"/>
            </a:xfrm>
            <a:prstGeom prst="rect">
              <a:avLst/>
            </a:prstGeom>
            <a:solidFill>
              <a:srgbClr val="4f9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7"/>
            <p:cNvSpPr/>
            <p:nvPr/>
          </p:nvSpPr>
          <p:spPr>
            <a:xfrm>
              <a:off x="2603520" y="5429160"/>
              <a:ext cx="1333440" cy="285840"/>
            </a:xfrm>
            <a:prstGeom prst="rect">
              <a:avLst/>
            </a:prstGeom>
            <a:solidFill>
              <a:srgbClr val="79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8"/>
            <p:cNvSpPr/>
            <p:nvPr/>
          </p:nvSpPr>
          <p:spPr>
            <a:xfrm>
              <a:off x="3905280" y="5429160"/>
              <a:ext cx="1333440" cy="2858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9"/>
            <p:cNvSpPr/>
            <p:nvPr/>
          </p:nvSpPr>
          <p:spPr>
            <a:xfrm>
              <a:off x="5207040" y="5429160"/>
              <a:ext cx="1333440" cy="285840"/>
            </a:xfrm>
            <a:prstGeom prst="rect">
              <a:avLst/>
            </a:prstGeom>
            <a:solidFill>
              <a:srgbClr val="c7a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10"/>
            <p:cNvSpPr/>
            <p:nvPr/>
          </p:nvSpPr>
          <p:spPr>
            <a:xfrm>
              <a:off x="6508800" y="5429160"/>
              <a:ext cx="1333440" cy="285840"/>
            </a:xfrm>
            <a:prstGeom prst="rect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11"/>
            <p:cNvSpPr/>
            <p:nvPr/>
          </p:nvSpPr>
          <p:spPr>
            <a:xfrm>
              <a:off x="7810560" y="5429160"/>
              <a:ext cx="1333440" cy="285840"/>
            </a:xfrm>
            <a:prstGeom prst="rect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7"/>
            <p:cNvGrpSpPr/>
            <p:nvPr/>
          </p:nvGrpSpPr>
          <p:grpSpPr>
            <a:xfrm>
              <a:off x="0" y="5043600"/>
              <a:ext cx="9144000" cy="351360"/>
              <a:chOff x="0" y="5043600"/>
              <a:chExt cx="9144000" cy="351360"/>
            </a:xfrm>
          </p:grpSpPr>
          <p:sp>
            <p:nvSpPr>
              <p:cNvPr id="261" name="矩形 42"/>
              <p:cNvSpPr/>
              <p:nvPr/>
            </p:nvSpPr>
            <p:spPr>
              <a:xfrm>
                <a:off x="0" y="5043600"/>
                <a:ext cx="9144000" cy="351360"/>
              </a:xfrm>
              <a:prstGeom prst="rect">
                <a:avLst/>
              </a:prstGeom>
              <a:solidFill>
                <a:srgbClr val="595959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2" name="图片 51" descr="7.png"/>
              <p:cNvPicPr/>
              <p:nvPr/>
            </p:nvPicPr>
            <p:blipFill>
              <a:blip r:embed="rId4"/>
              <a:stretch/>
            </p:blipFill>
            <p:spPr>
              <a:xfrm>
                <a:off x="7201440" y="5098680"/>
                <a:ext cx="28620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Box 52"/>
              <p:cNvSpPr/>
              <p:nvPr/>
            </p:nvSpPr>
            <p:spPr>
              <a:xfrm>
                <a:off x="7411320" y="5102640"/>
                <a:ext cx="172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Box 30"/>
          <p:cNvSpPr/>
          <p:nvPr/>
        </p:nvSpPr>
        <p:spPr>
          <a:xfrm>
            <a:off x="152280" y="178920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51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23:07Z</dcterms:modified>
  <cp:revision>5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