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EBEDF-F98C-4472-8916-73AFF281F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236196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19089-E5CA-4D81-A2F7-622FDD647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DCE43-C76C-4433-91B5-C8564EE2A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C5E12-2694-4E5E-829C-44A81B62E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83163-8D59-46A8-AC7F-43958C80D7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457200" y="2361960"/>
            <a:ext cx="8229600" cy="4144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1F10A-0DB0-4552-B658-7DEA51684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457200" y="2361960"/>
            <a:ext cx="82296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5CBB4-7A24-4B95-9F49-5611873B6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9A738-2154-4711-81D1-6704A89C2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E785B-FBD4-4F57-B865-7F2693760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3520"/>
            <a:ext cx="82296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A8509-E895-4166-9AB8-4DB565680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0E8AC-F8B2-4A21-B8DC-E076A676F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2361960"/>
            <a:ext cx="8229600" cy="4144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9621C-AAB6-4840-91D5-6723DBD5A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33DB4-6021-4CB4-8262-AEF245DA5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482BB-C872-4B17-BA1D-D8BAE05E5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457200" y="236196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7B27F-F8CA-4555-A470-ACB463365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AC508-B4A2-41FF-9DF6-1B21F9703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45720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BCF65-983B-4F70-AE97-1D67064E6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2361960"/>
            <a:ext cx="82296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E2D74-551B-4AA5-A630-916BE0908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75564-4824-437B-93A7-4432B0DB1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875C5-7E2C-4826-9015-29308C28C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3520"/>
            <a:ext cx="82296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31FAB-35FC-462A-BFC1-BE36AB7D9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E8024-F1C9-43A1-BDE4-4D831D439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70133-38E1-41C2-9ADA-BAF129F01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C83FA-4A92-4BC5-9A2D-B7D47F72F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2361960"/>
            <a:ext cx="8229600" cy="4144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34D4-619D-4882-A08E-5348034F2746}"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457200" y="2361960"/>
            <a:ext cx="8229600" cy="4144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1DDA-3D66-4753-A624-3377BFD76442}"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348000" y="573120"/>
            <a:ext cx="5546880" cy="5335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方正正大黑简体"/>
                <a:ea typeface="方正正大黑简体"/>
              </a:rPr>
              <a:t>胶囊体温计医药医疗</a:t>
            </a:r>
            <a:r>
              <a:rPr b="0" lang="en-US" sz="2800" spc="-1" strike="noStrike">
                <a:solidFill>
                  <a:srgbClr val="c00000"/>
                </a:solidFill>
                <a:latin typeface="方正正大黑简体"/>
                <a:ea typeface="方正正大黑简体"/>
              </a:rPr>
              <a:t>PPT</a:t>
            </a:r>
            <a:r>
              <a:rPr b="0" lang="zh-CN" sz="2800" spc="-1" strike="noStrike">
                <a:solidFill>
                  <a:srgbClr val="c00000"/>
                </a:solidFill>
                <a:latin typeface="方正正大黑简体"/>
                <a:ea typeface="方正正大黑简体"/>
              </a:rPr>
              <a:t>模板</a:t>
            </a:r>
            <a:endParaRPr b="0" lang="en-US" sz="2800" spc="-1" strike="noStrike">
              <a:solidFill>
                <a:srgbClr val="000000"/>
              </a:solidFill>
              <a:latin typeface="Tahoma"/>
            </a:endParaRPr>
          </a:p>
        </p:txBody>
      </p:sp>
      <p:sp>
        <p:nvSpPr>
          <p:cNvPr id="83" name=""/>
          <p:cNvSpPr/>
          <p:nvPr/>
        </p:nvSpPr>
        <p:spPr>
          <a:xfrm>
            <a:off x="179280" y="638172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144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Slide Master</a:t>
            </a:r>
            <a:endParaRPr b="0" lang="en-US" sz="4400" spc="-1" strike="noStrike">
              <a:solidFill>
                <a:srgbClr val="000000"/>
              </a:solidFill>
              <a:latin typeface="Tahoma"/>
            </a:endParaRPr>
          </a:p>
        </p:txBody>
      </p:sp>
      <p:sp>
        <p:nvSpPr>
          <p:cNvPr id="85" name=""/>
          <p:cNvSpPr txBox="1"/>
          <p:nvPr/>
        </p:nvSpPr>
        <p:spPr>
          <a:xfrm>
            <a:off x="533520" y="2514600"/>
            <a:ext cx="822960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矩形 5"/>
          <p:cNvSpPr/>
          <p:nvPr/>
        </p:nvSpPr>
        <p:spPr>
          <a:xfrm>
            <a:off x="0" y="6627960"/>
            <a:ext cx="6904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使用规范说明</a:t>
            </a:r>
            <a:endParaRPr b="0" lang="en-US" sz="4400" spc="-1" strike="noStrike">
              <a:solidFill>
                <a:srgbClr val="000000"/>
              </a:solidFill>
              <a:latin typeface="Tahoma"/>
            </a:endParaRPr>
          </a:p>
        </p:txBody>
      </p:sp>
      <p:sp>
        <p:nvSpPr>
          <p:cNvPr id="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1583a"/>
                </a:solidFill>
                <a:uFillTx/>
                <a:latin typeface="Calibri"/>
                <a:ea typeface="宋体"/>
                <a:hlinkClick r:id="rId2"/>
              </a:rPr>
              <a:t>http://</a:t>
            </a:r>
            <a:r>
              <a:rPr b="0" lang="en-US" sz="1400" spc="-1" strike="noStrike" u="sng">
                <a:solidFill>
                  <a:srgbClr val="b1583a"/>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b1583a"/>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b1583a"/>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b1583a"/>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b1583a"/>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b1583a"/>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b1583a"/>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b1583a"/>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b1583a"/>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b1583a"/>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b1583a"/>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b1583a"/>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D8A3DEF-6F18-4E23-BD58-1C7D369122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242640"/>
            <a:ext cx="693432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Print Master</a:t>
            </a:r>
            <a:endParaRPr b="0" lang="en-US" sz="4400" spc="-1" strike="noStrike">
              <a:solidFill>
                <a:srgbClr val="000000"/>
              </a:solidFill>
              <a:latin typeface="Tahoma"/>
            </a:endParaRPr>
          </a:p>
        </p:txBody>
      </p:sp>
      <p:sp>
        <p:nvSpPr>
          <p:cNvPr id="91" name=""/>
          <p:cNvSpPr txBox="1"/>
          <p:nvPr/>
        </p:nvSpPr>
        <p:spPr>
          <a:xfrm>
            <a:off x="1986120" y="1828800"/>
            <a:ext cx="692928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 agna aliquam er at v olut pat. Ut wisi enim ad mi ni m venia m, quis nostrud exerci tatio n ulla mco rper susc ip it lobor tis nisl ut aliquip ex ea commodo cons equat.</a:t>
            </a:r>
            <a:r>
              <a:rPr b="0" lang="en-US" sz="2000" spc="-1" strike="noStrike">
                <a:solidFill>
                  <a:srgbClr val="000000"/>
                </a:solidFill>
                <a:latin typeface="Calibri"/>
                <a:ea typeface="宋体"/>
              </a:rPr>
              <a:t>www.1ppt.com</a:t>
            </a:r>
            <a:r>
              <a:rPr b="0" lang="en-US" sz="2000" spc="-1" strike="noStrike">
                <a:solidFill>
                  <a:srgbClr val="000000"/>
                </a:solidFill>
                <a:latin typeface="Calibri"/>
                <a:ea typeface="PMingLiU"/>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2T14:37:48Z</dcterms:created>
  <dc:creator>幻灯片之家 http://www.eeppt.com</dc:creator>
  <dc:description>幻灯片之家 http://www.eeppt.com</dc:description>
  <cp:keywords>幻灯片之家 http:/www.eeppt.com</cp:keywords>
  <dc:language>en-US</dc:language>
  <cp:lastModifiedBy/>
  <dcterms:modified xsi:type="dcterms:W3CDTF">2015-07-20T01:39:13Z</dcterms:modified>
  <cp:revision>5</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