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7DA6-812A-4BB3-A1B6-6DDD7EBBC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68560" y="168696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7EEF-DF09-4CC3-BC8F-503479A31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120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6D2F-38AD-413F-A18C-1F619D224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3184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9548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6856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3184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9548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43D8-2CB0-4640-A85B-2360AF752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5BDA-7A53-4117-9098-023B3CE30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120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068560" y="168696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120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3184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95480" y="144792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06856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3184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95480" y="1686960"/>
            <a:ext cx="1679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737B-707B-4CAE-844E-79F55BD13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6374-DB47-4DD8-B9E9-956EF8F01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3CB9-DC31-4408-BBFF-B0267E9E0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261E-9BB8-4BA8-A3D8-A44306F7E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7B58-18CA-494B-BD01-41C797C37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1200" y="168696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AB3C-605C-4B17-BFE1-C4879EFC6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856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1200" y="1447920"/>
            <a:ext cx="2544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68560" y="1686960"/>
            <a:ext cx="5214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C128-6C34-4DB5-94A5-E0FB3C501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05160" y="120600"/>
            <a:ext cx="6738840" cy="105588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80000"/>
            <a:ext cx="9144000" cy="405000"/>
          </a:xfrm>
          <a:prstGeom prst="rect">
            <a:avLst/>
          </a:prstGeom>
          <a:solidFill>
            <a:srgbClr val="6a9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3c230a"/>
          </a:solidFill>
          <a:ln w="93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8920" cy="1165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187280" y="0"/>
            <a:ext cx="1224000" cy="117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5867280" y="648612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e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e7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609480" y="6489360"/>
            <a:ext cx="990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647A-C4B8-4C4A-AC35-428AE5A17062}" type="slidenum"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486080"/>
            <a:ext cx="7380360" cy="430200"/>
          </a:xfrm>
          <a:prstGeom prst="rect">
            <a:avLst/>
          </a:prstGeom>
          <a:solidFill>
            <a:srgbClr val="3c2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1495440"/>
            <a:ext cx="1835280" cy="42084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39680" y="3048120"/>
            <a:ext cx="1224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3c23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c57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230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3c230a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c230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c23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230a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230a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c23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37448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7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7440" y="476280"/>
            <a:ext cx="667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c578"/>
                </a:solidFill>
                <a:latin typeface="Arial"/>
              </a:rPr>
              <a:t>计算机</a:t>
            </a:r>
            <a:r>
              <a:rPr b="1" lang="zh-CN" sz="4000" spc="-1" strike="noStrike">
                <a:solidFill>
                  <a:srgbClr val="e4c578"/>
                </a:solidFill>
                <a:latin typeface="楷体"/>
                <a:ea typeface="楷体"/>
              </a:rPr>
              <a:t>PPT</a:t>
            </a:r>
            <a:r>
              <a:rPr b="1" lang="en-US" sz="4000" spc="-1" strike="noStrike">
                <a:solidFill>
                  <a:srgbClr val="e4c578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e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e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8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e4c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a9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e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eb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9555e"/>
                </a:gs>
                <a:gs pos="50000">
                  <a:srgbClr val="6a9eb0"/>
                </a:gs>
                <a:gs pos="100000">
                  <a:srgbClr val="3955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a9eb0">
                    <a:alpha val="0"/>
                  </a:srgbClr>
                </a:gs>
                <a:gs pos="100000">
                  <a:srgbClr val="4363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b3652"/>
                </a:gs>
                <a:gs pos="50000">
                  <a:srgbClr val="336699"/>
                </a:gs>
                <a:gs pos="100000">
                  <a:srgbClr val="1b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36699">
                    <a:alpha val="0"/>
                  </a:srgbClr>
                </a:gs>
                <a:gs pos="100000">
                  <a:srgbClr val="20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4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4c57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95a37"/>
                </a:gs>
                <a:gs pos="100000">
                  <a:srgbClr val="e4c57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a6a40"/>
                </a:gs>
                <a:gs pos="50000">
                  <a:srgbClr val="e4c578"/>
                </a:gs>
                <a:gs pos="100000">
                  <a:srgbClr val="7a6a4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e4c578">
                    <a:alpha val="0"/>
                  </a:srgbClr>
                </a:gs>
                <a:gs pos="100000">
                  <a:srgbClr val="907c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4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9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893960" y="1490760"/>
            <a:ext cx="5344560" cy="4986000"/>
            <a:chOff x="1893960" y="1490760"/>
            <a:chExt cx="5344560" cy="4986000"/>
          </a:xfrm>
        </p:grpSpPr>
        <p:sp>
          <p:nvSpPr>
            <p:cNvPr id="287" name=""/>
            <p:cNvSpPr/>
            <p:nvPr/>
          </p:nvSpPr>
          <p:spPr>
            <a:xfrm rot="13770000">
              <a:off x="5006520" y="3904560"/>
              <a:ext cx="950400" cy="183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856000">
              <a:off x="3117240" y="3459600"/>
              <a:ext cx="968400" cy="170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394200">
              <a:off x="5132880" y="2371320"/>
              <a:ext cx="590760" cy="1274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019040" y="2409480"/>
              <a:ext cx="1545480" cy="1575360"/>
              <a:chOff x="4019040" y="2409480"/>
              <a:chExt cx="1545480" cy="15753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4019040" y="2409480"/>
                <a:ext cx="1545480" cy="1575360"/>
                <a:chOff x="4019040" y="2409480"/>
                <a:chExt cx="1545480" cy="15753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019040" y="2409480"/>
                  <a:ext cx="1545480" cy="157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0c18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293" name="未知"/>
                <p:cNvSpPr/>
                <p:nvPr/>
              </p:nvSpPr>
              <p:spPr>
                <a:xfrm>
                  <a:off x="4195440" y="2435400"/>
                  <a:ext cx="1192320" cy="594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4074120" y="30942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356440" y="1490760"/>
              <a:ext cx="909360" cy="853200"/>
              <a:chOff x="5356440" y="1490760"/>
              <a:chExt cx="909360" cy="8532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5370840" y="1490760"/>
                <a:ext cx="837000" cy="853200"/>
                <a:chOff x="5370840" y="1490760"/>
                <a:chExt cx="837000" cy="8532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370840" y="1490760"/>
                  <a:ext cx="837000" cy="85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c578"/>
                    </a:gs>
                    <a:gs pos="100000">
                      <a:srgbClr val="372f1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>
                  <a:off x="5466240" y="1504800"/>
                  <a:ext cx="645840" cy="321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c5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5356440" y="18187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893960" y="2737800"/>
              <a:ext cx="1674000" cy="1772280"/>
              <a:chOff x="1893960" y="2737800"/>
              <a:chExt cx="1674000" cy="17722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893960" y="2737800"/>
                <a:ext cx="1674000" cy="1772280"/>
                <a:chOff x="1893960" y="2737800"/>
                <a:chExt cx="1674000" cy="1772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893960" y="2737800"/>
                  <a:ext cx="1674000" cy="177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6600"/>
                    </a:gs>
                    <a:gs pos="100000">
                      <a:srgbClr val="814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>
                  <a:off x="2085120" y="2766960"/>
                  <a:ext cx="1291320" cy="668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952280" y="3525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306760" y="4050720"/>
              <a:ext cx="1931760" cy="1969200"/>
              <a:chOff x="5306760" y="4050720"/>
              <a:chExt cx="1931760" cy="19692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5306760" y="4050720"/>
                <a:ext cx="1931760" cy="1969200"/>
                <a:chOff x="5306760" y="4050720"/>
                <a:chExt cx="1931760" cy="19692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306760" y="4050720"/>
                  <a:ext cx="1931760" cy="19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eb0"/>
                    </a:gs>
                    <a:gs pos="100000">
                      <a:srgbClr val="36505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>
                  <a:off x="5527440" y="4083120"/>
                  <a:ext cx="1490040" cy="743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a9e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5550120" y="4903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086920" y="4575960"/>
              <a:ext cx="1360080" cy="456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47560" y="3987720"/>
              <a:ext cx="1361520" cy="456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28960" y="6020280"/>
              <a:ext cx="1360080" cy="456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0080" y="2409480"/>
              <a:ext cx="623880" cy="228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7" name=""/>
            <p:cNvSpPr/>
            <p:nvPr/>
          </p:nvSpPr>
          <p:spPr>
            <a:xfrm rot="17973000">
              <a:off x="4556880" y="2529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465600">
              <a:off x="4607280" y="4639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368800">
              <a:off x="3388320" y="2551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7534800">
              <a:off x="3349800" y="460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e4c57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b382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e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eb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9555e"/>
                </a:gs>
                <a:gs pos="50000">
                  <a:srgbClr val="6a9eb0"/>
                </a:gs>
                <a:gs pos="100000">
                  <a:srgbClr val="3955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6a9eb0">
                    <a:alpha val="0"/>
                  </a:srgbClr>
                </a:gs>
                <a:gs pos="100000">
                  <a:srgbClr val="4363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4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62120" y="2685960"/>
              <a:ext cx="1931400" cy="3265560"/>
              <a:chOff x="762120" y="2685960"/>
              <a:chExt cx="1931400" cy="326556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164600" y="3522960"/>
                <a:ext cx="1528920" cy="2428560"/>
                <a:chOff x="1164600" y="3522960"/>
                <a:chExt cx="1528920" cy="242856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1164600" y="3681360"/>
                  <a:ext cx="1423080" cy="2270160"/>
                  <a:chOff x="1164600" y="3681360"/>
                  <a:chExt cx="1423080" cy="2270160"/>
                </a:xfrm>
              </p:grpSpPr>
              <p:sp>
                <p:nvSpPr>
                  <p:cNvPr id="400" name="未知"/>
                  <p:cNvSpPr/>
                  <p:nvPr/>
                </p:nvSpPr>
                <p:spPr>
                  <a:xfrm rot="3876600">
                    <a:off x="73656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未知"/>
                  <p:cNvSpPr/>
                  <p:nvPr/>
                </p:nvSpPr>
                <p:spPr>
                  <a:xfrm rot="3876600">
                    <a:off x="210636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1601640" y="3522960"/>
                  <a:ext cx="1091880" cy="1742040"/>
                  <a:chOff x="1601640" y="3522960"/>
                  <a:chExt cx="1091880" cy="1742040"/>
                </a:xfrm>
              </p:grpSpPr>
              <p:sp>
                <p:nvSpPr>
                  <p:cNvPr id="403" name="未知"/>
                  <p:cNvSpPr/>
                  <p:nvPr/>
                </p:nvSpPr>
                <p:spPr>
                  <a:xfrm flipV="1" rot="3876600">
                    <a:off x="127296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未知"/>
                  <p:cNvSpPr/>
                  <p:nvPr/>
                </p:nvSpPr>
                <p:spPr>
                  <a:xfrm flipV="1" rot="3876600">
                    <a:off x="230832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762120" y="2685960"/>
                <a:ext cx="1274040" cy="1311480"/>
                <a:chOff x="762120" y="2685960"/>
                <a:chExt cx="1274040" cy="13114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46360" y="277092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6360" y="277380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9010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916560" y="2844720"/>
                  <a:ext cx="964800" cy="994680"/>
                  <a:chOff x="916560" y="2844720"/>
                  <a:chExt cx="964800" cy="9946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91656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92880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93888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99108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rot="3925800">
                <a:off x="113148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925800">
                <a:off x="15901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c230a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509920" y="2685960"/>
              <a:ext cx="1930320" cy="3265560"/>
              <a:chOff x="2509920" y="2685960"/>
              <a:chExt cx="1930320" cy="326556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910960" y="3522600"/>
                <a:ext cx="1529280" cy="2428920"/>
                <a:chOff x="2910960" y="3522600"/>
                <a:chExt cx="1529280" cy="242892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2910960" y="3681360"/>
                  <a:ext cx="1423080" cy="2270160"/>
                  <a:chOff x="2910960" y="3681360"/>
                  <a:chExt cx="1423080" cy="2270160"/>
                </a:xfrm>
              </p:grpSpPr>
              <p:sp>
                <p:nvSpPr>
                  <p:cNvPr id="421" name="未知"/>
                  <p:cNvSpPr/>
                  <p:nvPr/>
                </p:nvSpPr>
                <p:spPr>
                  <a:xfrm rot="3876600">
                    <a:off x="248292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未知"/>
                  <p:cNvSpPr/>
                  <p:nvPr/>
                </p:nvSpPr>
                <p:spPr>
                  <a:xfrm rot="3876600">
                    <a:off x="385272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3348720" y="3522600"/>
                  <a:ext cx="1091520" cy="1742040"/>
                  <a:chOff x="3348720" y="3522600"/>
                  <a:chExt cx="1091520" cy="1742040"/>
                </a:xfrm>
              </p:grpSpPr>
              <p:sp>
                <p:nvSpPr>
                  <p:cNvPr id="424" name="未知"/>
                  <p:cNvSpPr/>
                  <p:nvPr/>
                </p:nvSpPr>
                <p:spPr>
                  <a:xfrm flipV="1" rot="3876600">
                    <a:off x="3020040" y="4203720"/>
                    <a:ext cx="17485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未知"/>
                  <p:cNvSpPr/>
                  <p:nvPr/>
                </p:nvSpPr>
                <p:spPr>
                  <a:xfrm flipV="1" rot="3876600">
                    <a:off x="4055400" y="488736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2509920" y="2685960"/>
                <a:ext cx="1273680" cy="1311480"/>
                <a:chOff x="2509920" y="2685960"/>
                <a:chExt cx="1273680" cy="13114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594160" y="277092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94160" y="277380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488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2664000" y="2844720"/>
                  <a:ext cx="964800" cy="994680"/>
                  <a:chOff x="2664000" y="2844720"/>
                  <a:chExt cx="964800" cy="9946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266400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67624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8632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73852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287280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33307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c230a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313160" y="2685960"/>
              <a:ext cx="1931400" cy="3265560"/>
              <a:chOff x="4313160" y="2685960"/>
              <a:chExt cx="1931400" cy="326556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4715640" y="3522960"/>
                <a:ext cx="1528920" cy="2428560"/>
                <a:chOff x="4715640" y="3522960"/>
                <a:chExt cx="1528920" cy="242856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4715640" y="3681360"/>
                  <a:ext cx="1423080" cy="2270160"/>
                  <a:chOff x="4715640" y="3681360"/>
                  <a:chExt cx="1423080" cy="2270160"/>
                </a:xfrm>
              </p:grpSpPr>
              <p:sp>
                <p:nvSpPr>
                  <p:cNvPr id="442" name="未知"/>
                  <p:cNvSpPr/>
                  <p:nvPr/>
                </p:nvSpPr>
                <p:spPr>
                  <a:xfrm rot="3876600">
                    <a:off x="428760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未知"/>
                  <p:cNvSpPr/>
                  <p:nvPr/>
                </p:nvSpPr>
                <p:spPr>
                  <a:xfrm rot="3876600">
                    <a:off x="565740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5152680" y="3522960"/>
                  <a:ext cx="1091880" cy="1742040"/>
                  <a:chOff x="5152680" y="3522960"/>
                  <a:chExt cx="1091880" cy="1742040"/>
                </a:xfrm>
              </p:grpSpPr>
              <p:sp>
                <p:nvSpPr>
                  <p:cNvPr id="445" name="未知"/>
                  <p:cNvSpPr/>
                  <p:nvPr/>
                </p:nvSpPr>
                <p:spPr>
                  <a:xfrm flipV="1" rot="3876600">
                    <a:off x="482400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未知"/>
                  <p:cNvSpPr/>
                  <p:nvPr/>
                </p:nvSpPr>
                <p:spPr>
                  <a:xfrm flipV="1" rot="3876600">
                    <a:off x="585936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4313160" y="2685960"/>
                <a:ext cx="1275840" cy="1311480"/>
                <a:chOff x="4313160" y="2685960"/>
                <a:chExt cx="1275840" cy="13114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397400" y="277092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397400" y="277380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52480" y="2829240"/>
                  <a:ext cx="99684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467600" y="2844720"/>
                  <a:ext cx="966240" cy="994680"/>
                  <a:chOff x="4467600" y="2844720"/>
                  <a:chExt cx="966240" cy="9946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467600" y="2844720"/>
                    <a:ext cx="96624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9840" y="2850120"/>
                    <a:ext cx="94284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489920" y="2859840"/>
                    <a:ext cx="89676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542480" y="2885040"/>
                    <a:ext cx="79704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468576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514440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c230a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6684480" y="3589920"/>
                <a:ext cx="1528200" cy="2427840"/>
                <a:chOff x="6684480" y="3589920"/>
                <a:chExt cx="1528200" cy="242784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6684480" y="3747960"/>
                  <a:ext cx="1422360" cy="2269800"/>
                  <a:chOff x="6684480" y="3747960"/>
                  <a:chExt cx="1422360" cy="2269800"/>
                </a:xfrm>
              </p:grpSpPr>
              <p:sp>
                <p:nvSpPr>
                  <p:cNvPr id="463" name="未知"/>
                  <p:cNvSpPr/>
                  <p:nvPr/>
                </p:nvSpPr>
                <p:spPr>
                  <a:xfrm rot="3876600">
                    <a:off x="6256080" y="4636080"/>
                    <a:ext cx="227844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未知"/>
                  <p:cNvSpPr/>
                  <p:nvPr/>
                </p:nvSpPr>
                <p:spPr>
                  <a:xfrm rot="3876600">
                    <a:off x="762516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121160" y="3589920"/>
                  <a:ext cx="1091520" cy="1741680"/>
                  <a:chOff x="7121160" y="3589920"/>
                  <a:chExt cx="1091520" cy="1741680"/>
                </a:xfrm>
              </p:grpSpPr>
              <p:sp>
                <p:nvSpPr>
                  <p:cNvPr id="466" name="未知"/>
                  <p:cNvSpPr/>
                  <p:nvPr/>
                </p:nvSpPr>
                <p:spPr>
                  <a:xfrm flipV="1" rot="3876600">
                    <a:off x="6792480" y="4271760"/>
                    <a:ext cx="17485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未知"/>
                  <p:cNvSpPr/>
                  <p:nvPr/>
                </p:nvSpPr>
                <p:spPr>
                  <a:xfrm flipV="1" rot="3876600">
                    <a:off x="7827480" y="49543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91640" y="2644920"/>
                <a:ext cx="1329480" cy="13647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93440" y="2647800"/>
                <a:ext cx="1329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56800" y="2713320"/>
                <a:ext cx="1197000" cy="122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276240" y="2732400"/>
                <a:ext cx="1160280" cy="1191600"/>
                <a:chOff x="6276240" y="2732400"/>
                <a:chExt cx="1160280" cy="11916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276240" y="2732400"/>
                  <a:ext cx="1160280" cy="119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91000" y="2738880"/>
                  <a:ext cx="1132200" cy="116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302880" y="2750400"/>
                  <a:ext cx="1076760" cy="108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65880" y="2780640"/>
                  <a:ext cx="957240" cy="88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 rot="3925800">
                <a:off x="6638760" y="464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7095600" y="43650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c230a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c230a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c230a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c230a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c230a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cxnSp>
            <p:nvCxnSpPr>
              <p:cNvPr id="485" name=""/>
              <p:cNvCxnSpPr>
                <a:stCxn id="481" idx="3"/>
                <a:endCxn id="48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3c230a"/>
                </a:solidFill>
                <a:miter/>
                <a:tailEnd len="med" type="triangle" w="med"/>
              </a:ln>
            </p:spPr>
          </p:cxnSp>
          <p:cxnSp>
            <p:nvCxnSpPr>
              <p:cNvPr id="486" name=""/>
              <p:cNvCxnSpPr>
                <a:stCxn id="482" idx="3"/>
                <a:endCxn id="48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3c230a"/>
                </a:solidFill>
                <a:miter/>
                <a:tailEnd len="med" type="triangle" w="med"/>
              </a:ln>
            </p:spPr>
          </p:cxnSp>
          <p:cxnSp>
            <p:nvCxnSpPr>
              <p:cNvPr id="48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c230a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c230a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a9eb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c230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C8EB-0ECE-4F79-971F-73DAC245DE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3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5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4c578"/>
                  </a:gs>
                  <a:gs pos="100000">
                    <a:srgbClr val="9e885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deb4"/>
                  </a:gs>
                  <a:gs pos="50000">
                    <a:srgbClr val="e4c578">
                      <a:alpha val="0"/>
                    </a:srgbClr>
                  </a:gs>
                  <a:gs pos="100000">
                    <a:srgbClr val="efde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0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2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2b7c4"/>
                  </a:gs>
                  <a:gs pos="100000">
                    <a:srgbClr val="6a9e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9eb0">
                      <a:alpha val="0"/>
                    </a:srgbClr>
                  </a:gs>
                  <a:gs pos="100000">
                    <a:srgbClr val="bfd5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3c230a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7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9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c9dbd"/>
                  </a:gs>
                  <a:gs pos="100000">
                    <a:srgbClr val="33669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99">
                      <a:alpha val="0"/>
                    </a:srgbClr>
                  </a:gs>
                  <a:gs pos="100000">
                    <a:srgbClr val="9bb3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9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a9eb0"/>
                </a:gs>
                <a:gs pos="100000">
                  <a:srgbClr val="304851"/>
                </a:gs>
              </a:gsLst>
              <a:lin ang="1980000"/>
            </a:gradFill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e4c578"/>
            </a:solidFill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7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a9eb0"/>
                </a:gs>
                <a:gs pos="100000">
                  <a:srgbClr val="304851"/>
                </a:gs>
              </a:gsLst>
              <a:lin ang="1980000"/>
            </a:gradFill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33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e4c578"/>
            </a:solidFill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230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230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230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230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841320" y="2316240"/>
          <a:ext cx="7537320" cy="3198600"/>
        </p:xfrm>
        <a:graphic>
          <a:graphicData uri="http://schemas.openxmlformats.org/drawingml/2006/table">
            <a:tbl>
              <a:tblPr/>
              <a:tblGrid>
                <a:gridCol w="1700280"/>
                <a:gridCol w="1185840"/>
                <a:gridCol w="1163520"/>
                <a:gridCol w="1158840"/>
                <a:gridCol w="1168560"/>
                <a:gridCol w="116028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c230a"/>
                      </a:solidFill>
                    </a:lnR>
                    <a:lnT>
                      <a:noFill/>
                    </a:lnT>
                    <a:lnB w="5760">
                      <a:solidFill>
                        <a:srgbClr val="3c23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e4c57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c230a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c230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c230a"/>
                      </a:solidFill>
                    </a:lnL>
                    <a:lnR w="5760">
                      <a:solidFill>
                        <a:srgbClr val="3c230a"/>
                      </a:solidFill>
                    </a:lnR>
                    <a:lnT w="5760">
                      <a:solidFill>
                        <a:srgbClr val="3c230a"/>
                      </a:solidFill>
                    </a:lnT>
                    <a:lnB w="5760">
                      <a:solidFill>
                        <a:srgbClr val="3c230a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0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bbdc9"/>
                </a:gs>
                <a:gs pos="100000">
                  <a:srgbClr val="6a9eb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8a7748"/>
                </a:gs>
                <a:gs pos="100000">
                  <a:srgbClr val="e4c57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6e3700"/>
                </a:gs>
                <a:gs pos="100000">
                  <a:srgbClr val="cc66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62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1e3d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c230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2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3dd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cc66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c578"/>
                </a:gs>
                <a:gs pos="100000">
                  <a:srgbClr val="f8f1e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e4c57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a9eb0"/>
                </a:gs>
                <a:gs pos="100000">
                  <a:srgbClr val="dee9e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a9eb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d2dde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3366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14400" y="1558800"/>
            <a:ext cx="7391160" cy="4633920"/>
            <a:chOff x="914400" y="1558800"/>
            <a:chExt cx="7391160" cy="4633920"/>
          </a:xfrm>
        </p:grpSpPr>
        <p:sp>
          <p:nvSpPr>
            <p:cNvPr id="571" name=""/>
            <p:cNvSpPr/>
            <p:nvPr/>
          </p:nvSpPr>
          <p:spPr>
            <a:xfrm>
              <a:off x="1905120" y="232092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6a9eb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2819520" y="4194000"/>
              <a:ext cx="1523880" cy="1998720"/>
              <a:chOff x="2819520" y="4194000"/>
              <a:chExt cx="1523880" cy="19987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819520" y="4194000"/>
                <a:ext cx="1523880" cy="1521000"/>
                <a:chOff x="2819520" y="4194000"/>
                <a:chExt cx="1523880" cy="15210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819520" y="41940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eb0"/>
                    </a:gs>
                    <a:gs pos="100000">
                      <a:srgbClr val="36505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>
                  <a:off x="2993760" y="42192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a9e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2895840" y="49240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819520" y="57038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438280" y="155880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f1d8c0"/>
                </a:gs>
                <a:gs pos="100000">
                  <a:srgbClr val="cc66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56160" y="2930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914400" y="4194000"/>
              <a:ext cx="1486080" cy="1898640"/>
              <a:chOff x="914400" y="4194000"/>
              <a:chExt cx="1486080" cy="1898640"/>
            </a:xfrm>
          </p:grpSpPr>
          <p:sp>
            <p:nvSpPr>
              <p:cNvPr id="581" name=""/>
              <p:cNvSpPr/>
              <p:nvPr/>
            </p:nvSpPr>
            <p:spPr>
              <a:xfrm>
                <a:off x="1066680" y="570384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914400" y="4194000"/>
                <a:ext cx="1486080" cy="1514520"/>
                <a:chOff x="914400" y="4194000"/>
                <a:chExt cx="1486080" cy="151452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914400" y="4194000"/>
                  <a:ext cx="1486080" cy="1514520"/>
                  <a:chOff x="914400" y="4194000"/>
                  <a:chExt cx="1486080" cy="151452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914400" y="419400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814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未知"/>
                  <p:cNvSpPr/>
                  <p:nvPr/>
                </p:nvSpPr>
                <p:spPr>
                  <a:xfrm>
                    <a:off x="1084320" y="421884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6" name=""/>
                <p:cNvSpPr/>
                <p:nvPr/>
              </p:nvSpPr>
              <p:spPr>
                <a:xfrm>
                  <a:off x="1072440" y="49651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7" name=""/>
            <p:cNvGrpSpPr/>
            <p:nvPr/>
          </p:nvGrpSpPr>
          <p:grpSpPr>
            <a:xfrm>
              <a:off x="6781680" y="4149720"/>
              <a:ext cx="1523880" cy="1976400"/>
              <a:chOff x="6781680" y="4149720"/>
              <a:chExt cx="1523880" cy="1976400"/>
            </a:xfrm>
          </p:grpSpPr>
          <p:sp>
            <p:nvSpPr>
              <p:cNvPr id="588" name=""/>
              <p:cNvSpPr/>
              <p:nvPr/>
            </p:nvSpPr>
            <p:spPr>
              <a:xfrm>
                <a:off x="6824520" y="5638680"/>
                <a:ext cx="1455840" cy="4874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6781680" y="4149720"/>
                <a:ext cx="1523880" cy="1531800"/>
                <a:chOff x="6781680" y="4149720"/>
                <a:chExt cx="1523880" cy="153180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6781680" y="4149720"/>
                  <a:ext cx="1523880" cy="1531800"/>
                  <a:chOff x="6781680" y="4149720"/>
                  <a:chExt cx="1523880" cy="153180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6781680" y="414972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6699"/>
                      </a:gs>
                      <a:gs pos="100000">
                        <a:srgbClr val="0c182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未知"/>
                  <p:cNvSpPr/>
                  <p:nvPr/>
                </p:nvSpPr>
                <p:spPr>
                  <a:xfrm>
                    <a:off x="6955920" y="417492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66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" name=""/>
                <p:cNvSpPr/>
                <p:nvPr/>
              </p:nvSpPr>
              <p:spPr>
                <a:xfrm>
                  <a:off x="6924600" y="48636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4876920" y="4149720"/>
              <a:ext cx="1523880" cy="1998720"/>
              <a:chOff x="4876920" y="4149720"/>
              <a:chExt cx="1523880" cy="1998720"/>
            </a:xfrm>
          </p:grpSpPr>
          <p:sp>
            <p:nvSpPr>
              <p:cNvPr id="595" name=""/>
              <p:cNvSpPr/>
              <p:nvPr/>
            </p:nvSpPr>
            <p:spPr>
              <a:xfrm>
                <a:off x="4876920" y="565956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4876920" y="4149720"/>
                <a:ext cx="1523880" cy="1521000"/>
                <a:chOff x="4876920" y="4149720"/>
                <a:chExt cx="1523880" cy="1521000"/>
              </a:xfrm>
            </p:grpSpPr>
            <p:grpSp>
              <p:nvGrpSpPr>
                <p:cNvPr id="597" name=""/>
                <p:cNvGrpSpPr/>
                <p:nvPr/>
              </p:nvGrpSpPr>
              <p:grpSpPr>
                <a:xfrm>
                  <a:off x="4876920" y="4149720"/>
                  <a:ext cx="1523880" cy="1521000"/>
                  <a:chOff x="4876920" y="4149720"/>
                  <a:chExt cx="1523880" cy="15210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4876920" y="414972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4c578"/>
                      </a:gs>
                      <a:gs pos="100000">
                        <a:srgbClr val="7464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未知"/>
                  <p:cNvSpPr/>
                  <p:nvPr/>
                </p:nvSpPr>
                <p:spPr>
                  <a:xfrm>
                    <a:off x="5051160" y="417492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e4c57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c230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" name=""/>
                <p:cNvSpPr/>
                <p:nvPr/>
              </p:nvSpPr>
              <p:spPr>
                <a:xfrm>
                  <a:off x="4953240" y="487980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1066680" y="609480"/>
            <a:ext cx="58816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a9eb0"/>
                    </a:gs>
                    <a:gs pos="100000">
                      <a:srgbClr val="e4c578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a9eb0"/>
                  </a:gs>
                  <a:gs pos="100000">
                    <a:srgbClr val="e4c578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e4c578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77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230a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ffffe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6a9eb0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6a9eb0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6a9eb0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6a9eb0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Change images to the one you like, then it will apply to all the other slides.</a:t>
            </a:r>
            <a:r>
              <a:rPr b="0" lang="en-US" sz="2400" spc="-1" strike="noStrike">
                <a:solidFill>
                  <a:srgbClr val="3c230a"/>
                </a:solidFill>
                <a:latin typeface="Arial"/>
                <a:ea typeface="宋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5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sp>
        <p:nvSpPr>
          <p:cNvPr id="117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9d5c"/>
              </a:gs>
              <a:gs pos="100000">
                <a:srgbClr val="cc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9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4c55"/>
                    </a:gs>
                    <a:gs pos="100000">
                      <a:srgbClr val="6a9eb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eb0"/>
                    </a:gs>
                    <a:gs pos="100000">
                      <a:srgbClr val="bcd3d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c230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e4c578"/>
                  </a:gs>
                  <a:gs pos="100000">
                    <a:srgbClr val="695a3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4e9cf"/>
                  </a:gs>
                  <a:gs pos="100000">
                    <a:srgbClr val="e4c578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e4c578">
                      <a:alpha val="48235"/>
                    </a:srgbClr>
                  </a:gs>
                  <a:gs pos="100000">
                    <a:srgbClr val="b39b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e4c578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9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  <p:sp>
        <p:nvSpPr>
          <p:cNvPr id="131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fe5"/>
              </a:gs>
              <a:gs pos="100000">
                <a:srgbClr val="6a9e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c230a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4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a9eb0"/>
                </a:gs>
                <a:gs pos="100000">
                  <a:srgbClr val="2436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4c578"/>
                </a:gs>
                <a:gs pos="100000">
                  <a:srgbClr val="473d2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482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123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c230a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cxnSp>
          <p:nvCxnSpPr>
            <p:cNvPr id="147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3c230a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1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95a37"/>
                </a:gs>
                <a:gs pos="50000">
                  <a:srgbClr val="e4c578"/>
                </a:gs>
                <a:gs pos="100000">
                  <a:srgbClr val="695a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04851"/>
                </a:gs>
                <a:gs pos="50000">
                  <a:srgbClr val="6a9eb0"/>
                </a:gs>
                <a:gs pos="100000">
                  <a:srgbClr val="3048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sp>
          <p:nvSpPr>
            <p:cNvPr id="171" name=""/>
            <p:cNvSpPr/>
            <p:nvPr/>
          </p:nvSpPr>
          <p:spPr>
            <a:xfrm flipH="1" rot="16200000">
              <a:off x="2919960" y="3251880"/>
              <a:ext cx="460440" cy="2966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c29a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5400000">
              <a:off x="5524200" y="3201480"/>
              <a:ext cx="459000" cy="2966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c29a"/>
                </a:gs>
                <a:gs pos="100000">
                  <a:srgbClr val="cc66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10800000">
              <a:off x="4238640" y="4609800"/>
              <a:ext cx="442800" cy="3063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c29a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06600" y="2209680"/>
              <a:ext cx="2325960" cy="240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38360" y="2344680"/>
              <a:ext cx="2060640" cy="212544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0760" y="2471760"/>
              <a:ext cx="1816200" cy="1877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e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0760" y="2471760"/>
              <a:ext cx="1816200" cy="1877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79920" y="2595600"/>
              <a:ext cx="1577880" cy="1631880"/>
            </a:xfrm>
            <a:prstGeom prst="ellipse">
              <a:avLst/>
            </a:prstGeom>
            <a:gradFill rotWithShape="0">
              <a:gsLst>
                <a:gs pos="0">
                  <a:srgbClr val="39555e"/>
                </a:gs>
                <a:gs pos="50000">
                  <a:srgbClr val="6a9eb0"/>
                </a:gs>
                <a:gs pos="100000">
                  <a:srgbClr val="3955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9920" y="2595600"/>
              <a:ext cx="1577880" cy="163188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370836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3208320"/>
              <a:ext cx="165888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3000" y="270972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19640" y="3708360"/>
              <a:ext cx="17290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5a37"/>
                </a:gs>
                <a:gs pos="50000">
                  <a:srgbClr val="e4c578"/>
                </a:gs>
                <a:gs pos="100000">
                  <a:srgbClr val="695a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9640" y="3208320"/>
              <a:ext cx="172908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5a37"/>
                </a:gs>
                <a:gs pos="50000">
                  <a:srgbClr val="e4c578"/>
                </a:gs>
                <a:gs pos="100000">
                  <a:srgbClr val="695a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9640" y="2709720"/>
              <a:ext cx="17290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5a37"/>
                </a:gs>
                <a:gs pos="50000">
                  <a:srgbClr val="e4c578"/>
                </a:gs>
                <a:gs pos="100000">
                  <a:srgbClr val="695a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60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03600" y="5062320"/>
              <a:ext cx="352404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76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7600" y="3355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87600" y="3854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85200" y="3355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85200" y="3854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3c2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3c230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c230a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0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2f00"/>
                  </a:gs>
                  <a:gs pos="50000">
                    <a:srgbClr val="cc6600"/>
                  </a:gs>
                  <a:gs pos="100000">
                    <a:srgbClr val="5e2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4851"/>
                  </a:gs>
                  <a:gs pos="50000">
                    <a:srgbClr val="6a9eb0"/>
                  </a:gs>
                  <a:gs pos="100000">
                    <a:srgbClr val="3048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6a9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2f46"/>
                  </a:gs>
                  <a:gs pos="50000">
                    <a:srgbClr val="336699"/>
                  </a:gs>
                  <a:gs pos="100000">
                    <a:srgbClr val="172f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5a37"/>
                  </a:gs>
                  <a:gs pos="50000">
                    <a:srgbClr val="e4c578"/>
                  </a:gs>
                  <a:gs pos="100000">
                    <a:srgbClr val="695a3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e4c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34900"/>
                  </a:gs>
                  <a:gs pos="50000">
                    <a:srgbClr val="cc6600"/>
                  </a:gs>
                  <a:gs pos="100000">
                    <a:srgbClr val="934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c727f"/>
                  </a:gs>
                  <a:gs pos="50000">
                    <a:srgbClr val="6a9eb0"/>
                  </a:gs>
                  <a:gs pos="100000">
                    <a:srgbClr val="4c72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24496e"/>
                  </a:gs>
                  <a:gs pos="50000">
                    <a:srgbClr val="336699"/>
                  </a:gs>
                  <a:gs pos="100000">
                    <a:srgbClr val="2449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a48e56"/>
                  </a:gs>
                  <a:gs pos="50000">
                    <a:srgbClr val="e4c578"/>
                  </a:gs>
                  <a:gs pos="100000">
                    <a:srgbClr val="a48e5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25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a9eb0"/>
                </a:gs>
                <a:gs pos="100000">
                  <a:srgbClr val="76a6b6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a9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04851"/>
                </a:gs>
                <a:gs pos="50000">
                  <a:srgbClr val="6a9eb0"/>
                </a:gs>
                <a:gs pos="100000">
                  <a:srgbClr val="3048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88a6c3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c230a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3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3273b"/>
                  </a:gs>
                  <a:gs pos="50000">
                    <a:srgbClr val="336699"/>
                  </a:gs>
                  <a:gs pos="100000">
                    <a:srgbClr val="1327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3c230a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c23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51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2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