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76068-1832-4C8B-BB1D-61AE5D277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587772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E2F8-BC4C-4B60-81A9-59EBC2B1B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47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5509-54C2-451A-B1B2-0DEC36B93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904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596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904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596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C34A-96AC-45B4-827E-B8F71AAF3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120" y="56386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85840" y="1371600"/>
            <a:ext cx="4876920" cy="151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56386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F45AE-949E-4DCC-85B7-ED98141EB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147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120" y="587772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147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3904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25960" y="563868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12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3904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25960" y="5877720"/>
            <a:ext cx="1987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CFB9-B125-43CD-A9E5-979C2BC0E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B4C5-976D-4D8D-A589-E2A07136F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E57C-DC16-4887-91CE-725777AA9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5840" y="1371600"/>
            <a:ext cx="4876920" cy="1519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7E73-4026-420C-A8CB-534E63032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24CD-5F8E-4790-9B67-717E8148D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4720" y="587772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4DCB-3FED-4FED-9F9C-ED5D812CE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4720" y="5638680"/>
            <a:ext cx="30117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5877720"/>
            <a:ext cx="61722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EB52-F14D-4DCD-9BB3-F76AC6654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969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969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9698d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698d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29698d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B1DF-6018-4D0A-82A6-9B599136B939}" type="slidenum">
              <a:rPr b="1" lang="zh-CN" sz="1400" spc="-1" strike="noStrike">
                <a:solidFill>
                  <a:srgbClr val="29698d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9" b="0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gradFill rotWithShape="0">
            <a:gsLst>
              <a:gs pos="0">
                <a:srgbClr val="2f4600"/>
              </a:gs>
              <a:gs pos="50000">
                <a:srgbClr val="669900"/>
              </a:gs>
              <a:gs pos="100000">
                <a:srgbClr val="2f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5840" y="137160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69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2969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69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969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969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969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69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14800" y="1066320"/>
            <a:ext cx="4572000" cy="3048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  <a:ea typeface="宋体"/>
              </a:rPr>
              <a:t>PowerPoint </a:t>
            </a:r>
            <a:r>
              <a:rPr b="1" lang="en-US" sz="6000" spc="-1" strike="noStrike">
                <a:solidFill>
                  <a:srgbClr val="ffffcc"/>
                </a:solidFill>
                <a:latin typeface="Verdana"/>
                <a:ea typeface="宋体"/>
              </a:rPr>
              <a:t>Template</a:t>
            </a:r>
            <a:endParaRPr b="1" lang="en-US" sz="6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63280" y="5661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计算机网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3104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698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9698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44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699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65200"/>
                </a:gs>
                <a:gs pos="50000">
                  <a:srgbClr val="669900"/>
                </a:gs>
                <a:gs pos="100000">
                  <a:srgbClr val="365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69900">
                    <a:alpha val="0"/>
                  </a:srgbClr>
                </a:gs>
                <a:gs pos="100000">
                  <a:srgbClr val="40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60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465e"/>
                </a:gs>
                <a:gs pos="100000">
                  <a:srgbClr val="0099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70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75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283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1f28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89" name="未知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3a6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25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4" name="未知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a1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344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13" name=""/>
            <p:cNvSpPr/>
            <p:nvPr/>
          </p:nvSpPr>
          <p:spPr>
            <a:xfrm rot="17973000">
              <a:off x="4556880" y="252936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3465600">
              <a:off x="4607280" y="4639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4368800">
              <a:off x="3388320" y="2551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7534800">
              <a:off x="3349800" y="460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099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6e1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82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699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65200"/>
                </a:gs>
                <a:gs pos="50000">
                  <a:srgbClr val="669900"/>
                </a:gs>
                <a:gs pos="100000">
                  <a:srgbClr val="3652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669900">
                    <a:alpha val="0"/>
                  </a:srgbClr>
                </a:gs>
                <a:gs pos="100000">
                  <a:srgbClr val="406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38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5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2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0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4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79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0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62120" y="2685960"/>
              <a:ext cx="1931400" cy="3265560"/>
              <a:chOff x="762120" y="2685960"/>
              <a:chExt cx="1931400" cy="326556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1164600" y="3522960"/>
                <a:ext cx="1528920" cy="2428560"/>
                <a:chOff x="1164600" y="3522960"/>
                <a:chExt cx="1528920" cy="242856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1164600" y="3681360"/>
                  <a:ext cx="1423080" cy="2270160"/>
                  <a:chOff x="1164600" y="3681360"/>
                  <a:chExt cx="1423080" cy="2270160"/>
                </a:xfrm>
              </p:grpSpPr>
              <p:sp>
                <p:nvSpPr>
                  <p:cNvPr id="396" name="未知"/>
                  <p:cNvSpPr/>
                  <p:nvPr/>
                </p:nvSpPr>
                <p:spPr>
                  <a:xfrm rot="3876600">
                    <a:off x="73656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未知"/>
                  <p:cNvSpPr/>
                  <p:nvPr/>
                </p:nvSpPr>
                <p:spPr>
                  <a:xfrm rot="3876600">
                    <a:off x="210636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1601640" y="3522960"/>
                  <a:ext cx="1091880" cy="1742040"/>
                  <a:chOff x="1601640" y="3522960"/>
                  <a:chExt cx="1091880" cy="1742040"/>
                </a:xfrm>
              </p:grpSpPr>
              <p:sp>
                <p:nvSpPr>
                  <p:cNvPr id="399" name="未知"/>
                  <p:cNvSpPr/>
                  <p:nvPr/>
                </p:nvSpPr>
                <p:spPr>
                  <a:xfrm flipV="1" rot="3876600">
                    <a:off x="127296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未知"/>
                  <p:cNvSpPr/>
                  <p:nvPr/>
                </p:nvSpPr>
                <p:spPr>
                  <a:xfrm flipV="1" rot="3876600">
                    <a:off x="230832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762120" y="2685960"/>
                <a:ext cx="1274040" cy="1311480"/>
                <a:chOff x="762120" y="2685960"/>
                <a:chExt cx="1274040" cy="13114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2120" y="2685960"/>
                  <a:ext cx="12740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46360" y="277092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46360" y="2773800"/>
                  <a:ext cx="110520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9010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916560" y="2844720"/>
                  <a:ext cx="964800" cy="994680"/>
                  <a:chOff x="916560" y="2844720"/>
                  <a:chExt cx="964800" cy="99468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91656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92880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93888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99108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2" name=""/>
              <p:cNvSpPr/>
              <p:nvPr/>
            </p:nvSpPr>
            <p:spPr>
              <a:xfrm rot="3925800">
                <a:off x="113148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3925800">
                <a:off x="15901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509920" y="2685960"/>
              <a:ext cx="1930320" cy="3265560"/>
              <a:chOff x="2509920" y="2685960"/>
              <a:chExt cx="1930320" cy="326556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2910960" y="3522600"/>
                <a:ext cx="1529280" cy="2428920"/>
                <a:chOff x="2910960" y="3522600"/>
                <a:chExt cx="1529280" cy="24289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2910960" y="3681360"/>
                  <a:ext cx="1423080" cy="2270160"/>
                  <a:chOff x="2910960" y="3681360"/>
                  <a:chExt cx="1423080" cy="2270160"/>
                </a:xfrm>
              </p:grpSpPr>
              <p:sp>
                <p:nvSpPr>
                  <p:cNvPr id="417" name="未知"/>
                  <p:cNvSpPr/>
                  <p:nvPr/>
                </p:nvSpPr>
                <p:spPr>
                  <a:xfrm rot="3876600">
                    <a:off x="248292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未知"/>
                  <p:cNvSpPr/>
                  <p:nvPr/>
                </p:nvSpPr>
                <p:spPr>
                  <a:xfrm rot="3876600">
                    <a:off x="385272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3348720" y="3522600"/>
                  <a:ext cx="1091520" cy="1742040"/>
                  <a:chOff x="3348720" y="3522600"/>
                  <a:chExt cx="1091520" cy="1742040"/>
                </a:xfrm>
              </p:grpSpPr>
              <p:sp>
                <p:nvSpPr>
                  <p:cNvPr id="420" name="未知"/>
                  <p:cNvSpPr/>
                  <p:nvPr/>
                </p:nvSpPr>
                <p:spPr>
                  <a:xfrm flipV="1" rot="3876600">
                    <a:off x="3020040" y="4203720"/>
                    <a:ext cx="174852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未知"/>
                  <p:cNvSpPr/>
                  <p:nvPr/>
                </p:nvSpPr>
                <p:spPr>
                  <a:xfrm flipV="1" rot="3876600">
                    <a:off x="4055400" y="488736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2509920" y="2685960"/>
                <a:ext cx="1273680" cy="1311480"/>
                <a:chOff x="2509920" y="2685960"/>
                <a:chExt cx="1273680" cy="13114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09920" y="2685960"/>
                  <a:ext cx="12736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594160" y="277092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94160" y="2773800"/>
                  <a:ext cx="11048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648880" y="2829240"/>
                  <a:ext cx="99540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2664000" y="2844720"/>
                  <a:ext cx="964800" cy="994680"/>
                  <a:chOff x="2664000" y="2844720"/>
                  <a:chExt cx="964800" cy="99468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664000" y="2844720"/>
                    <a:ext cx="96480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676240" y="2850120"/>
                    <a:ext cx="94140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686320" y="2859840"/>
                    <a:ext cx="89532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738520" y="2885040"/>
                    <a:ext cx="79596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" name=""/>
              <p:cNvSpPr/>
              <p:nvPr/>
            </p:nvSpPr>
            <p:spPr>
              <a:xfrm rot="3925800">
                <a:off x="287280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925800">
                <a:off x="333072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4313160" y="2685960"/>
              <a:ext cx="1931400" cy="3265560"/>
              <a:chOff x="4313160" y="2685960"/>
              <a:chExt cx="1931400" cy="326556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4715640" y="3522960"/>
                <a:ext cx="1528920" cy="2428560"/>
                <a:chOff x="4715640" y="3522960"/>
                <a:chExt cx="1528920" cy="242856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4715640" y="3681360"/>
                  <a:ext cx="1423080" cy="2270160"/>
                  <a:chOff x="4715640" y="3681360"/>
                  <a:chExt cx="1423080" cy="2270160"/>
                </a:xfrm>
              </p:grpSpPr>
              <p:sp>
                <p:nvSpPr>
                  <p:cNvPr id="438" name="未知"/>
                  <p:cNvSpPr/>
                  <p:nvPr/>
                </p:nvSpPr>
                <p:spPr>
                  <a:xfrm rot="3876600">
                    <a:off x="4287600" y="4569480"/>
                    <a:ext cx="227880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未知"/>
                  <p:cNvSpPr/>
                  <p:nvPr/>
                </p:nvSpPr>
                <p:spPr>
                  <a:xfrm rot="3876600">
                    <a:off x="5657400" y="5449680"/>
                    <a:ext cx="35820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152680" y="3522960"/>
                  <a:ext cx="1091880" cy="1742040"/>
                  <a:chOff x="5152680" y="3522960"/>
                  <a:chExt cx="1091880" cy="1742040"/>
                </a:xfrm>
              </p:grpSpPr>
              <p:sp>
                <p:nvSpPr>
                  <p:cNvPr id="441" name="未知"/>
                  <p:cNvSpPr/>
                  <p:nvPr/>
                </p:nvSpPr>
                <p:spPr>
                  <a:xfrm flipV="1" rot="3876600">
                    <a:off x="4824000" y="4204080"/>
                    <a:ext cx="17485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未知"/>
                  <p:cNvSpPr/>
                  <p:nvPr/>
                </p:nvSpPr>
                <p:spPr>
                  <a:xfrm flipV="1" rot="3876600">
                    <a:off x="5859360" y="4887720"/>
                    <a:ext cx="274680" cy="30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4313160" y="2685960"/>
                <a:ext cx="1275840" cy="1311480"/>
                <a:chOff x="4313160" y="2685960"/>
                <a:chExt cx="1275840" cy="13114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313160" y="2685960"/>
                  <a:ext cx="127584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397400" y="277092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397400" y="2773800"/>
                  <a:ext cx="1106640" cy="11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452480" y="2829240"/>
                  <a:ext cx="996840" cy="102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4467600" y="2844720"/>
                  <a:ext cx="966240" cy="994680"/>
                  <a:chOff x="4467600" y="2844720"/>
                  <a:chExt cx="966240" cy="9946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4467600" y="2844720"/>
                    <a:ext cx="966240" cy="9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479840" y="2850120"/>
                    <a:ext cx="942840" cy="96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489920" y="2859840"/>
                    <a:ext cx="896760" cy="90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542480" y="2885040"/>
                    <a:ext cx="797040" cy="735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"/>
              <p:cNvSpPr/>
              <p:nvPr/>
            </p:nvSpPr>
            <p:spPr>
              <a:xfrm rot="3925800">
                <a:off x="4685760" y="45057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3925800">
                <a:off x="5144400" y="4221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6684480" y="3589920"/>
                <a:ext cx="1528200" cy="2427840"/>
                <a:chOff x="6684480" y="3589920"/>
                <a:chExt cx="1528200" cy="2427840"/>
              </a:xfrm>
            </p:grpSpPr>
            <p:grpSp>
              <p:nvGrpSpPr>
                <p:cNvPr id="458" name=""/>
                <p:cNvGrpSpPr/>
                <p:nvPr/>
              </p:nvGrpSpPr>
              <p:grpSpPr>
                <a:xfrm>
                  <a:off x="6684480" y="3747960"/>
                  <a:ext cx="1422360" cy="2269800"/>
                  <a:chOff x="6684480" y="3747960"/>
                  <a:chExt cx="1422360" cy="2269800"/>
                </a:xfrm>
              </p:grpSpPr>
              <p:sp>
                <p:nvSpPr>
                  <p:cNvPr id="459" name="未知"/>
                  <p:cNvSpPr/>
                  <p:nvPr/>
                </p:nvSpPr>
                <p:spPr>
                  <a:xfrm rot="3876600">
                    <a:off x="6256080" y="4636080"/>
                    <a:ext cx="227844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未知"/>
                  <p:cNvSpPr/>
                  <p:nvPr/>
                </p:nvSpPr>
                <p:spPr>
                  <a:xfrm rot="3876600">
                    <a:off x="7625160" y="55162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121160" y="3589920"/>
                  <a:ext cx="1091520" cy="1741680"/>
                  <a:chOff x="7121160" y="3589920"/>
                  <a:chExt cx="1091520" cy="1741680"/>
                </a:xfrm>
              </p:grpSpPr>
              <p:sp>
                <p:nvSpPr>
                  <p:cNvPr id="462" name="未知"/>
                  <p:cNvSpPr/>
                  <p:nvPr/>
                </p:nvSpPr>
                <p:spPr>
                  <a:xfrm flipV="1" rot="3876600">
                    <a:off x="6792480" y="4271760"/>
                    <a:ext cx="17485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未知"/>
                  <p:cNvSpPr/>
                  <p:nvPr/>
                </p:nvSpPr>
                <p:spPr>
                  <a:xfrm flipV="1" rot="3876600">
                    <a:off x="7827480" y="49543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89760" y="2541600"/>
                <a:ext cx="1530000" cy="15721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91640" y="2644920"/>
                <a:ext cx="1329480" cy="13647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93440" y="2647800"/>
                <a:ext cx="1329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256800" y="2713320"/>
                <a:ext cx="1197000" cy="1228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6276240" y="2732400"/>
                <a:ext cx="1160280" cy="1191600"/>
                <a:chOff x="6276240" y="2732400"/>
                <a:chExt cx="1160280" cy="11916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276240" y="2732400"/>
                  <a:ext cx="1160280" cy="119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291000" y="2738880"/>
                  <a:ext cx="1132200" cy="116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302880" y="2750400"/>
                  <a:ext cx="1076760" cy="108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365880" y="2780640"/>
                  <a:ext cx="957240" cy="88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" name=""/>
              <p:cNvSpPr/>
              <p:nvPr/>
            </p:nvSpPr>
            <p:spPr>
              <a:xfrm rot="3925800">
                <a:off x="6638760" y="464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925800">
                <a:off x="7095600" y="43650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969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77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cxnSp>
            <p:nvCxnSpPr>
              <p:cNvPr id="481" name=""/>
              <p:cNvCxnSpPr>
                <a:stCxn id="477" idx="3"/>
                <a:endCxn id="478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2" name=""/>
              <p:cNvCxnSpPr>
                <a:stCxn id="478" idx="3"/>
                <a:endCxn id="479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3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86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88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6a8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c6e2"/>
                  </a:gs>
                  <a:gs pos="50000">
                    <a:srgbClr val="0099cc">
                      <a:alpha val="0"/>
                    </a:srgbClr>
                  </a:gs>
                  <a:gs pos="100000">
                    <a:srgbClr val="73c6e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3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95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fb445"/>
                  </a:gs>
                  <a:gs pos="100000">
                    <a:srgbClr val="6699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9900">
                      <a:alpha val="0"/>
                    </a:srgbClr>
                  </a:gs>
                  <a:gs pos="100000">
                    <a:srgbClr val="bdd2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29698d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0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2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fc5c6"/>
                  </a:gs>
                  <a:gs pos="100000">
                    <a:srgbClr val="83a6a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03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c1d2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12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198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14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0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1980000"/>
            </a:gra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26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69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69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69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69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835200" y="2316240"/>
          <a:ext cx="7397640" cy="305892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7960"/>
                <a:gridCol w="1148040"/>
                <a:gridCol w="1137960"/>
              </a:tblGrid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9698d"/>
                      </a:solidFill>
                    </a:lnR>
                    <a:lnT>
                      <a:noFill/>
                    </a:lnT>
                    <a:lnB w="5760">
                      <a:solidFill>
                        <a:srgbClr val="2969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48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80000"/>
                      </a:srgbClr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969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9698d"/>
                      </a:solidFill>
                    </a:lnL>
                    <a:lnR w="5760">
                      <a:solidFill>
                        <a:srgbClr val="29698d"/>
                      </a:solidFill>
                    </a:lnR>
                    <a:lnT w="5760">
                      <a:solidFill>
                        <a:srgbClr val="29698d"/>
                      </a:solidFill>
                    </a:lnT>
                    <a:lnB w="5760">
                      <a:solidFill>
                        <a:srgbClr val="29698d"/>
                      </a:solidFill>
                    </a:lnB>
                    <a:solidFill>
                      <a:srgbClr val="83a6a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43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dfd"/>
                </a:gs>
                <a:gs pos="100000">
                  <a:srgbClr val="d6e1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35758"/>
                </a:gs>
                <a:gs pos="50000">
                  <a:srgbClr val="d6e1e2"/>
                </a:gs>
                <a:gs pos="100000">
                  <a:srgbClr val="5357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8ba54"/>
                </a:gs>
                <a:gs pos="100000">
                  <a:srgbClr val="66990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005c7b"/>
                </a:gs>
                <a:gs pos="100000">
                  <a:srgbClr val="0099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8a5300"/>
                </a:gs>
                <a:gs pos="100000">
                  <a:srgbClr val="ff99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50000">
                  <a:srgbClr val="f4f6f6"/>
                </a:gs>
                <a:gs pos="100000">
                  <a:srgbClr val="d6e1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55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3a6a7"/>
                  </a:gs>
                  <a:gs pos="100000">
                    <a:srgbClr val="4f64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c4c4c"/>
                  </a:gs>
                  <a:gs pos="100000">
                    <a:srgbClr val="83a6a7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57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4c4c"/>
                  </a:gs>
                  <a:gs pos="100000">
                    <a:srgbClr val="83a6a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969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64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c0e5f1"/>
                </a:gs>
                <a:gs pos="100000">
                  <a:srgbClr val="0099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69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a16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2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3a6a7"/>
                      </a:gs>
                      <a:gs pos="100000">
                        <a:srgbClr val="1f282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3a6a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9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344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584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9cc"/>
                      </a:gs>
                      <a:gs pos="100000">
                        <a:srgbClr val="004e6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969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3920" y="16164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7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2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c8e8f3"/>
                </a:gs>
                <a:gs pos="100000">
                  <a:srgbClr val="0099c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7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00"/>
                </a:gs>
                <a:gs pos="50000">
                  <a:srgbClr val="dde8c8"/>
                </a:gs>
                <a:gs pos="100000">
                  <a:srgbClr val="6699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6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a6a7"/>
                </a:gs>
                <a:gs pos="50000">
                  <a:srgbClr val="e3ebeb"/>
                </a:gs>
                <a:gs pos="100000">
                  <a:srgbClr val="83a6a7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3a6a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69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0BE7-57A7-4691-B98E-23FCB9A2AE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1890720" y="2514600"/>
            <a:ext cx="58816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0099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6e1e2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0099cc"/>
                  </a:gs>
                </a:gsLst>
                <a:lin ang="10800000"/>
              </a:gradFill>
              <a:effectLst>
                <a:outerShdw dist="53966" dir="2700000" blurRad="0" rotWithShape="0">
                  <a:srgbClr val="d6e1e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752120" y="56386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523520"/>
            <a:ext cx="762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99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ff9900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menu, point to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ff9900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and then click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ff9900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r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ff9900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29698d"/>
                </a:solidFill>
                <a:latin typeface="Arial"/>
                <a:ea typeface="宋体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Change images to the one you like, then it will apply to all the other slid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0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112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bd5c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4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14a00"/>
                    </a:gs>
                    <a:gs pos="100000">
                      <a:srgbClr val="6699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bad08d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69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a5daec"/>
                  </a:gs>
                  <a:gs pos="100000">
                    <a:srgbClr val="0099cc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48235"/>
                    </a:srgbClr>
                  </a:gs>
                  <a:gs pos="100000">
                    <a:srgbClr val="0078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4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  <p:sp>
        <p:nvSpPr>
          <p:cNvPr id="126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ddad"/>
              </a:gs>
              <a:gs pos="100000">
                <a:srgbClr val="66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29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6e1e2"/>
                </a:gs>
                <a:gs pos="100000">
                  <a:srgbClr val="f1f4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33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2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a3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4c4f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100000">
                  <a:srgbClr val="2d39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969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cxnSp>
          <p:nvCxnSpPr>
            <p:cNvPr id="142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9698d"/>
              </a:solidFill>
              <a:miter/>
            </a:ln>
          </p:spPr>
        </p:cxnSp>
        <p:sp>
          <p:nvSpPr>
            <p:cNvPr id="143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6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26768">
                    <a:alpha val="12156"/>
                  </a:srgbClr>
                </a:gs>
                <a:gs pos="100000">
                  <a:srgbClr val="d6e1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6e1e2"/>
                </a:gs>
                <a:gs pos="100000">
                  <a:srgbClr val="62676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6e1e2"/>
                </a:gs>
                <a:gs pos="100000">
                  <a:srgbClr val="e4ebe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600"/>
                </a:gs>
                <a:gs pos="50000">
                  <a:srgbClr val="669900"/>
                </a:gs>
                <a:gs pos="100000">
                  <a:srgbClr val="2f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4ebeb">
                    <a:alpha val="12156"/>
                  </a:srgbClr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6" name=""/>
            <p:cNvGrpSpPr/>
            <p:nvPr/>
          </p:nvGrpSpPr>
          <p:grpSpPr>
            <a:xfrm>
              <a:off x="3008520" y="2209680"/>
              <a:ext cx="2900520" cy="2706120"/>
              <a:chOff x="3008520" y="2209680"/>
              <a:chExt cx="2900520" cy="2706120"/>
            </a:xfrm>
          </p:grpSpPr>
          <p:sp>
            <p:nvSpPr>
              <p:cNvPr id="167" name=""/>
              <p:cNvSpPr/>
              <p:nvPr/>
            </p:nvSpPr>
            <p:spPr>
              <a:xfrm flipH="1" rot="16200000">
                <a:off x="2926800" y="3252240"/>
                <a:ext cx="45936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rot="5400000">
                <a:off x="5530320" y="3201480"/>
                <a:ext cx="45936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rot="10800000">
                <a:off x="423936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06240" y="2209680"/>
                <a:ext cx="23317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39440" y="2344680"/>
                <a:ext cx="20646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60760" y="2471040"/>
                <a:ext cx="18219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990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60760" y="2471040"/>
                <a:ext cx="18219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80640" y="2594520"/>
                <a:ext cx="158220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5200"/>
                  </a:gs>
                  <a:gs pos="50000">
                    <a:srgbClr val="669900"/>
                  </a:gs>
                  <a:gs pos="100000">
                    <a:srgbClr val="3652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80640" y="2594520"/>
                <a:ext cx="158220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2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2969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2969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69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06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4600"/>
                  </a:gs>
                  <a:gs pos="50000">
                    <a:srgbClr val="ff9900"/>
                  </a:gs>
                  <a:gs pos="100000">
                    <a:srgbClr val="754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4600"/>
                  </a:gs>
                  <a:gs pos="50000">
                    <a:srgbClr val="669900"/>
                  </a:gs>
                  <a:gs pos="100000">
                    <a:srgbClr val="2f4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4c4c"/>
                  </a:gs>
                  <a:gs pos="50000">
                    <a:srgbClr val="83a6a7"/>
                  </a:gs>
                  <a:gs pos="100000">
                    <a:srgbClr val="3c4c4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5e"/>
                  </a:gs>
                  <a:gs pos="5000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b86e00"/>
                  </a:gs>
                  <a:gs pos="50000">
                    <a:srgbClr val="ff9900"/>
                  </a:gs>
                  <a:gs pos="100000">
                    <a:srgbClr val="b86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96e00"/>
                  </a:gs>
                  <a:gs pos="50000">
                    <a:srgbClr val="669900"/>
                  </a:gs>
                  <a:gs pos="100000">
                    <a:srgbClr val="496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3a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5e7778"/>
                  </a:gs>
                  <a:gs pos="50000">
                    <a:srgbClr val="83a6a7"/>
                  </a:gs>
                  <a:gs pos="100000">
                    <a:srgbClr val="5e77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006e93"/>
                  </a:gs>
                  <a:gs pos="50000">
                    <a:srgbClr val="0099cc"/>
                  </a:gs>
                  <a:gs pos="100000">
                    <a:srgbClr val="006e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21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73a116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600"/>
                </a:gs>
                <a:gs pos="5000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3a6a7"/>
                </a:gs>
                <a:gs pos="100000">
                  <a:srgbClr val="b6cacb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9698d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34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83a6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24040"/>
                  </a:gs>
                  <a:gs pos="50000">
                    <a:srgbClr val="83a6a7"/>
                  </a:gs>
                  <a:gs pos="100000">
                    <a:srgbClr val="32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9698d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969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16:5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10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