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DECD-81A5-4CA0-8A4B-34C89374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5A11-97F6-4E4B-9AB6-21CE9E0D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95B9-BE59-4E3E-AC3D-835E2876C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C85E-EC57-463F-86F9-56A356473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FD286-47FF-4D5D-83DB-990A0A93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1F911-850E-41C4-9240-E9B396798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3BAA5-D141-48D2-9758-C1C2A740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0FEE-DA28-4462-B167-65BDED92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A232E-32D3-4443-A0DE-D6FE39FA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664000" y="260280"/>
            <a:ext cx="4736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992FA-0906-4D8A-B53E-AA55CF57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3584-E435-45A8-B148-BB68F059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39B-8E74-475D-B82F-C99C7149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1BA4-8B4A-4CCE-B201-1615136B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F015-BCDA-4C79-B9C9-38EA267B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E85B9-739E-4243-B7B8-FBA72AFE1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6E6BC-EED2-4B06-87D3-BA97D211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26828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805920"/>
            <a:ext cx="264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1D871-BCBB-449C-A8E1-10205D7D2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A19-0A45-4E86-B285-B926C49B7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7E6C-0EBC-44B2-B8A7-12057A3DD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A11C-D54E-48CD-92E1-F3750999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664000" y="260280"/>
            <a:ext cx="473688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A5A-AC90-4099-9672-472C89E5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91DF-BF03-48FF-A607-AFF2B657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0592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8511-24E2-4C68-8D9D-3C3ED8FE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68280"/>
            <a:ext cx="40158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05920"/>
            <a:ext cx="8229600" cy="231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269-444F-4BCC-AE17-BA81EBDE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1" descr="p_large_SuhC_3379000051671262"/>
          <p:cNvPicPr/>
          <p:nvPr/>
        </p:nvPicPr>
        <p:blipFill>
          <a:blip r:embed="rId2"/>
          <a:stretch/>
        </p:blipFill>
        <p:spPr>
          <a:xfrm>
            <a:off x="7343640" y="0"/>
            <a:ext cx="1781280" cy="105084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2"/>
          <p:cNvSpPr/>
          <p:nvPr/>
        </p:nvSpPr>
        <p:spPr>
          <a:xfrm>
            <a:off x="0" y="0"/>
            <a:ext cx="7451640" cy="1052640"/>
          </a:xfrm>
          <a:prstGeom prst="rect">
            <a:avLst/>
          </a:prstGeom>
          <a:gradFill rotWithShape="0">
            <a:gsLst>
              <a:gs pos="0">
                <a:srgbClr val="3790cc"/>
              </a:gs>
              <a:gs pos="100000">
                <a:srgbClr val="02417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519840" y="345960"/>
            <a:ext cx="14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公司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及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94E6-57C5-42D1-8204-AFC88B03AD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1"/>
          <p:cNvGrpSpPr/>
          <p:nvPr/>
        </p:nvGrpSpPr>
        <p:grpSpPr>
          <a:xfrm>
            <a:off x="-592200" y="-33480"/>
            <a:ext cx="9786960" cy="6927840"/>
            <a:chOff x="-592200" y="-33480"/>
            <a:chExt cx="9786960" cy="6927840"/>
          </a:xfrm>
        </p:grpSpPr>
        <p:pic>
          <p:nvPicPr>
            <p:cNvPr id="45" name="Picture 17" descr="p_large_SuhC_3379000051671262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9144000" cy="539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Freeform 20"/>
            <p:cNvSpPr/>
            <p:nvPr/>
          </p:nvSpPr>
          <p:spPr>
            <a:xfrm>
              <a:off x="-592200" y="-33480"/>
              <a:ext cx="9786960" cy="5076720"/>
            </a:xfrm>
            <a:custGeom>
              <a:avLst/>
              <a:gdLst/>
              <a:ahLst/>
              <a:rect l="l" t="t" r="r" b="b"/>
              <a:pathLst>
                <a:path w="17904" h="9293">
                  <a:moveTo>
                    <a:pt x="4434" y="0"/>
                  </a:moveTo>
                  <a:lnTo>
                    <a:pt x="1024" y="15"/>
                  </a:lnTo>
                  <a:lnTo>
                    <a:pt x="1055" y="8777"/>
                  </a:lnTo>
                  <a:lnTo>
                    <a:pt x="17904" y="9266"/>
                  </a:lnTo>
                  <a:lnTo>
                    <a:pt x="17904" y="8455"/>
                  </a:lnTo>
                  <a:cubicBezTo>
                    <a:pt x="17904" y="8455"/>
                    <a:pt x="12442" y="9293"/>
                    <a:pt x="7813" y="7936"/>
                  </a:cubicBezTo>
                  <a:cubicBezTo>
                    <a:pt x="3337" y="6640"/>
                    <a:pt x="0" y="3272"/>
                    <a:pt x="443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13131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19"/>
            <p:cNvSpPr/>
            <p:nvPr/>
          </p:nvSpPr>
          <p:spPr>
            <a:xfrm>
              <a:off x="-236520" y="-22320"/>
              <a:ext cx="9431280" cy="6888240"/>
            </a:xfrm>
            <a:custGeom>
              <a:avLst/>
              <a:gdLst/>
              <a:ahLst/>
              <a:rect l="l" t="t" r="r" b="b"/>
              <a:pathLst>
                <a:path w="17254" h="12611">
                  <a:moveTo>
                    <a:pt x="17254" y="8436"/>
                  </a:moveTo>
                  <a:lnTo>
                    <a:pt x="17254" y="12611"/>
                  </a:lnTo>
                  <a:lnTo>
                    <a:pt x="405" y="12595"/>
                  </a:lnTo>
                  <a:lnTo>
                    <a:pt x="395" y="0"/>
                  </a:lnTo>
                  <a:lnTo>
                    <a:pt x="2878" y="0"/>
                  </a:lnTo>
                  <a:cubicBezTo>
                    <a:pt x="2878" y="0"/>
                    <a:pt x="0" y="1639"/>
                    <a:pt x="849" y="4102"/>
                  </a:cubicBezTo>
                  <a:cubicBezTo>
                    <a:pt x="1831" y="6949"/>
                    <a:pt x="9103" y="9747"/>
                    <a:pt x="17254" y="84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18"/>
            <p:cNvSpPr/>
            <p:nvPr/>
          </p:nvSpPr>
          <p:spPr>
            <a:xfrm>
              <a:off x="-15840" y="3295440"/>
              <a:ext cx="9200880" cy="3598920"/>
            </a:xfrm>
            <a:custGeom>
              <a:avLst/>
              <a:gdLst/>
              <a:ahLst/>
              <a:rect l="l" t="t" r="r" b="b"/>
              <a:pathLst>
                <a:path w="16834" h="6590">
                  <a:moveTo>
                    <a:pt x="16834" y="2905"/>
                  </a:moveTo>
                  <a:lnTo>
                    <a:pt x="16834" y="6590"/>
                  </a:lnTo>
                  <a:lnTo>
                    <a:pt x="0" y="6575"/>
                  </a:lnTo>
                  <a:lnTo>
                    <a:pt x="0" y="0"/>
                  </a:lnTo>
                  <a:cubicBezTo>
                    <a:pt x="0" y="0"/>
                    <a:pt x="4403" y="3960"/>
                    <a:pt x="16834" y="290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90cc"/>
                </a:gs>
                <a:gs pos="100000">
                  <a:srgbClr val="02417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664000" y="260280"/>
            <a:ext cx="47368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8529-7A7A-47DB-B8B1-15F7E07E9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537372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8360" y="6165720"/>
            <a:ext cx="64008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8000" y="6416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95360" y="810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计算器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28B7-DCFD-49ED-B99A-0DE5A6EFDA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31T02:26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6:36:58Z</dcterms:modified>
  <cp:revision>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