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6FE-11B0-48E9-9687-A5B882CD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33C-0FBA-4A31-AC11-1707DBA3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F39-8318-411B-8E69-AEB5A8C4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D27-BE5C-4633-9722-73BC0944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A71-FB71-470D-897D-944EB46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749-EDF9-400F-8A9A-57AF2155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174-AE33-4E8E-A56E-DEF6D75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213-C545-41D3-A74D-0F71A331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FB8-DD1F-4043-B161-62CCEACA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148-AFF0-4B3A-B256-B4A95E4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2EE-AE2D-4BB4-ACFE-DA07DB1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723-9513-4D7E-9561-E89C3C2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FE45-C555-42C9-AD4B-54AEBA2D27AD}" type="datetime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1AD7-A16A-450D-94D5-396BF0F8C019}" type="slidenum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652840" y="3075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线条设计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3032280" y="270504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3032280" y="413388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2385000" y="172080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简约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756720" y="2703600"/>
            <a:ext cx="760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直接连接符 2"/>
          <p:cNvSpPr/>
          <p:nvPr/>
        </p:nvSpPr>
        <p:spPr>
          <a:xfrm>
            <a:off x="1312920" y="4021200"/>
            <a:ext cx="649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直接连接符 5"/>
          <p:cNvSpPr/>
          <p:nvPr/>
        </p:nvSpPr>
        <p:spPr>
          <a:xfrm>
            <a:off x="1312920" y="2787480"/>
            <a:ext cx="64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289160" y="2401920"/>
            <a:ext cx="65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创新的思维管理企业！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278000" y="4013280"/>
            <a:ext cx="65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宅没心没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91200" y="2560680"/>
            <a:ext cx="3009240" cy="1727280"/>
            <a:chOff x="691200" y="2560680"/>
            <a:chExt cx="3009240" cy="1727280"/>
          </a:xfrm>
        </p:grpSpPr>
        <p:sp>
          <p:nvSpPr>
            <p:cNvPr id="47" name="椭圆 14"/>
            <p:cNvSpPr/>
            <p:nvPr/>
          </p:nvSpPr>
          <p:spPr>
            <a:xfrm>
              <a:off x="1332000" y="25606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" name="TextBox 15"/>
            <p:cNvSpPr/>
            <p:nvPr/>
          </p:nvSpPr>
          <p:spPr>
            <a:xfrm>
              <a:off x="691200" y="3509280"/>
              <a:ext cx="30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ersonal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885960" y="294444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50" name="直接箭头连接符 334"/>
          <p:cNvCxnSpPr/>
          <p:nvPr/>
        </p:nvCxnSpPr>
        <p:spPr>
          <a:xfrm>
            <a:off x="3419280" y="3424320"/>
            <a:ext cx="2377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1" name=""/>
          <p:cNvGrpSpPr/>
          <p:nvPr/>
        </p:nvGrpSpPr>
        <p:grpSpPr>
          <a:xfrm>
            <a:off x="3057120" y="2690640"/>
            <a:ext cx="3129840" cy="1167480"/>
            <a:chOff x="3057120" y="2690640"/>
            <a:chExt cx="3129840" cy="1167480"/>
          </a:xfrm>
        </p:grpSpPr>
        <p:sp>
          <p:nvSpPr>
            <p:cNvPr id="52" name="TextBox 337"/>
            <p:cNvSpPr/>
            <p:nvPr/>
          </p:nvSpPr>
          <p:spPr>
            <a:xfrm>
              <a:off x="3291840" y="269064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" name="矩形 340"/>
            <p:cNvSpPr/>
            <p:nvPr/>
          </p:nvSpPr>
          <p:spPr>
            <a:xfrm>
              <a:off x="3057120" y="3489840"/>
              <a:ext cx="31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argeting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67600" y="2631960"/>
            <a:ext cx="3306600" cy="1727280"/>
            <a:chOff x="5367600" y="2631960"/>
            <a:chExt cx="3306600" cy="1727280"/>
          </a:xfrm>
        </p:grpSpPr>
        <p:sp>
          <p:nvSpPr>
            <p:cNvPr id="55" name="椭圆 336"/>
            <p:cNvSpPr/>
            <p:nvPr/>
          </p:nvSpPr>
          <p:spPr>
            <a:xfrm>
              <a:off x="6156360" y="2631960"/>
              <a:ext cx="172872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TextBox 341"/>
            <p:cNvSpPr/>
            <p:nvPr/>
          </p:nvSpPr>
          <p:spPr>
            <a:xfrm>
              <a:off x="5367600" y="35190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矩形 342"/>
            <p:cNvSpPr/>
            <p:nvPr/>
          </p:nvSpPr>
          <p:spPr>
            <a:xfrm>
              <a:off x="5711040" y="297828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"/>
                            </p:stCondLst>
                            <p:childTnLst>
                              <p:par>
                                <p:cTn id="37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438 0.00463 E">
                                      <p:cBhvr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接连接符 5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直接连接符 6"/>
          <p:cNvSpPr/>
          <p:nvPr/>
        </p:nvSpPr>
        <p:spPr>
          <a:xfrm>
            <a:off x="0" y="55245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32120" y="192420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设计，诚信笃实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279960" y="375300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选择，创意营销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接连接符 4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95800" y="2708280"/>
            <a:ext cx="2619000" cy="1727280"/>
            <a:chOff x="3295800" y="2708280"/>
            <a:chExt cx="2619000" cy="1727280"/>
          </a:xfrm>
        </p:grpSpPr>
        <p:sp>
          <p:nvSpPr>
            <p:cNvPr id="64" name="椭圆 1"/>
            <p:cNvSpPr/>
            <p:nvPr/>
          </p:nvSpPr>
          <p:spPr>
            <a:xfrm>
              <a:off x="3722760" y="27082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" name="矩形 3"/>
            <p:cNvSpPr/>
            <p:nvPr/>
          </p:nvSpPr>
          <p:spPr>
            <a:xfrm>
              <a:off x="3295800" y="320688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27840" y="1305000"/>
            <a:ext cx="2436120" cy="1209600"/>
            <a:chOff x="5127840" y="1305000"/>
            <a:chExt cx="2436120" cy="1209600"/>
          </a:xfrm>
        </p:grpSpPr>
        <p:sp>
          <p:nvSpPr>
            <p:cNvPr id="67" name="椭圆 5"/>
            <p:cNvSpPr/>
            <p:nvPr/>
          </p:nvSpPr>
          <p:spPr>
            <a:xfrm>
              <a:off x="5742000" y="1305000"/>
              <a:ext cx="12096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矩形 6"/>
            <p:cNvSpPr/>
            <p:nvPr/>
          </p:nvSpPr>
          <p:spPr>
            <a:xfrm>
              <a:off x="5127840" y="16369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751720" y="2962440"/>
            <a:ext cx="2436120" cy="1211040"/>
            <a:chOff x="5751720" y="2962440"/>
            <a:chExt cx="2436120" cy="1211040"/>
          </a:xfrm>
        </p:grpSpPr>
        <p:sp>
          <p:nvSpPr>
            <p:cNvPr id="70" name="椭圆 7"/>
            <p:cNvSpPr/>
            <p:nvPr/>
          </p:nvSpPr>
          <p:spPr>
            <a:xfrm>
              <a:off x="6365880" y="2962440"/>
              <a:ext cx="12096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矩形 8"/>
            <p:cNvSpPr/>
            <p:nvPr/>
          </p:nvSpPr>
          <p:spPr>
            <a:xfrm>
              <a:off x="5751720" y="32947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诚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31160" y="4635360"/>
            <a:ext cx="2436120" cy="1209960"/>
            <a:chOff x="5231160" y="4635360"/>
            <a:chExt cx="2436120" cy="1209960"/>
          </a:xfrm>
        </p:grpSpPr>
        <p:sp>
          <p:nvSpPr>
            <p:cNvPr id="73" name="椭圆 12"/>
            <p:cNvSpPr/>
            <p:nvPr/>
          </p:nvSpPr>
          <p:spPr>
            <a:xfrm>
              <a:off x="5845320" y="4635360"/>
              <a:ext cx="1209600" cy="120996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矩形 13"/>
            <p:cNvSpPr/>
            <p:nvPr/>
          </p:nvSpPr>
          <p:spPr>
            <a:xfrm>
              <a:off x="5231160" y="496728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15240" y="1308240"/>
            <a:ext cx="2436120" cy="1211040"/>
            <a:chOff x="1515240" y="1308240"/>
            <a:chExt cx="2436120" cy="1211040"/>
          </a:xfrm>
        </p:grpSpPr>
        <p:sp>
          <p:nvSpPr>
            <p:cNvPr id="76" name="椭圆 15"/>
            <p:cNvSpPr/>
            <p:nvPr/>
          </p:nvSpPr>
          <p:spPr>
            <a:xfrm>
              <a:off x="2128680" y="1308240"/>
              <a:ext cx="12114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1515240" y="16405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93800" y="2967120"/>
            <a:ext cx="2436120" cy="1211040"/>
            <a:chOff x="793800" y="2967120"/>
            <a:chExt cx="2436120" cy="1211040"/>
          </a:xfrm>
        </p:grpSpPr>
        <p:sp>
          <p:nvSpPr>
            <p:cNvPr id="79" name="椭圆 18"/>
            <p:cNvSpPr/>
            <p:nvPr/>
          </p:nvSpPr>
          <p:spPr>
            <a:xfrm>
              <a:off x="1407960" y="2967120"/>
              <a:ext cx="120996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矩形 19"/>
            <p:cNvSpPr/>
            <p:nvPr/>
          </p:nvSpPr>
          <p:spPr>
            <a:xfrm>
              <a:off x="793800" y="329940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91560" y="4572000"/>
            <a:ext cx="2436120" cy="1209600"/>
            <a:chOff x="1591560" y="4572000"/>
            <a:chExt cx="2436120" cy="1209600"/>
          </a:xfrm>
        </p:grpSpPr>
        <p:sp>
          <p:nvSpPr>
            <p:cNvPr id="82" name="椭圆 21"/>
            <p:cNvSpPr/>
            <p:nvPr/>
          </p:nvSpPr>
          <p:spPr>
            <a:xfrm>
              <a:off x="2205000" y="4572000"/>
              <a:ext cx="12114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矩形 22"/>
            <p:cNvSpPr/>
            <p:nvPr/>
          </p:nvSpPr>
          <p:spPr>
            <a:xfrm>
              <a:off x="1591560" y="49039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" name="直接连接符 23"/>
          <p:cNvSpPr/>
          <p:nvPr/>
        </p:nvSpPr>
        <p:spPr>
          <a:xfrm flipH="1">
            <a:off x="5196960" y="2336760"/>
            <a:ext cx="72252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直接连接符 26"/>
          <p:cNvSpPr/>
          <p:nvPr/>
        </p:nvSpPr>
        <p:spPr>
          <a:xfrm flipH="1">
            <a:off x="5450040" y="3568680"/>
            <a:ext cx="9158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直接连接符 29"/>
          <p:cNvSpPr/>
          <p:nvPr/>
        </p:nvSpPr>
        <p:spPr>
          <a:xfrm flipH="1" flipV="1">
            <a:off x="5196960" y="4183200"/>
            <a:ext cx="82548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直接连接符 33"/>
          <p:cNvSpPr/>
          <p:nvPr/>
        </p:nvSpPr>
        <p:spPr>
          <a:xfrm flipH="1" flipV="1">
            <a:off x="3162240" y="2341440"/>
            <a:ext cx="812880" cy="61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直接连接符 36"/>
          <p:cNvSpPr/>
          <p:nvPr/>
        </p:nvSpPr>
        <p:spPr>
          <a:xfrm flipH="1">
            <a:off x="2617560" y="3571920"/>
            <a:ext cx="11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直接连接符 39"/>
          <p:cNvSpPr/>
          <p:nvPr/>
        </p:nvSpPr>
        <p:spPr>
          <a:xfrm flipH="1">
            <a:off x="3238560" y="4183200"/>
            <a:ext cx="73656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7129800" y="2556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外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Box 48"/>
          <p:cNvSpPr/>
          <p:nvPr/>
        </p:nvSpPr>
        <p:spPr>
          <a:xfrm>
            <a:off x="-342360" y="2462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"/>
                            </p:stCondLst>
                            <p:childTnLst>
                              <p:par>
                                <p:cTn id="4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4"/>
          <p:cNvSpPr/>
          <p:nvPr/>
        </p:nvSpPr>
        <p:spPr>
          <a:xfrm>
            <a:off x="1162080" y="0"/>
            <a:ext cx="0" cy="3009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直接连接符 5"/>
          <p:cNvSpPr/>
          <p:nvPr/>
        </p:nvSpPr>
        <p:spPr>
          <a:xfrm>
            <a:off x="1771560" y="0"/>
            <a:ext cx="0" cy="247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057400" y="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6953400" y="5657760"/>
            <a:ext cx="0" cy="120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5200560" y="2152800"/>
            <a:ext cx="3505320" cy="3504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2876400" y="3905280"/>
            <a:ext cx="2057400" cy="2057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905280" y="5962680"/>
            <a:ext cx="0" cy="89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619280" y="1428840"/>
            <a:ext cx="36576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486400" y="1428840"/>
            <a:ext cx="19620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619280" y="3619440"/>
            <a:ext cx="280044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648320" y="3619440"/>
            <a:ext cx="280008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38"/>
          <p:cNvSpPr/>
          <p:nvPr/>
        </p:nvSpPr>
        <p:spPr>
          <a:xfrm rot="10800000">
            <a:off x="310680" y="2520"/>
            <a:ext cx="8394840" cy="419724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椭圆 38"/>
          <p:cNvSpPr/>
          <p:nvPr/>
        </p:nvSpPr>
        <p:spPr>
          <a:xfrm rot="10800000">
            <a:off x="1560600" y="2520"/>
            <a:ext cx="5959440" cy="297972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491800" y="64620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椭圆 38"/>
          <p:cNvSpPr/>
          <p:nvPr/>
        </p:nvSpPr>
        <p:spPr>
          <a:xfrm rot="10800000">
            <a:off x="2739600" y="2880"/>
            <a:ext cx="3537000" cy="176832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3305160" y="26208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Box 44"/>
          <p:cNvSpPr/>
          <p:nvPr/>
        </p:nvSpPr>
        <p:spPr>
          <a:xfrm>
            <a:off x="4698000" y="162252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Box 45"/>
          <p:cNvSpPr/>
          <p:nvPr/>
        </p:nvSpPr>
        <p:spPr>
          <a:xfrm>
            <a:off x="1167480" y="62532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Box 46"/>
          <p:cNvSpPr/>
          <p:nvPr/>
        </p:nvSpPr>
        <p:spPr>
          <a:xfrm>
            <a:off x="1929600" y="16444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49"/>
          <p:cNvSpPr/>
          <p:nvPr/>
        </p:nvSpPr>
        <p:spPr>
          <a:xfrm>
            <a:off x="6627240" y="674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意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Box 50"/>
          <p:cNvSpPr/>
          <p:nvPr/>
        </p:nvSpPr>
        <p:spPr>
          <a:xfrm>
            <a:off x="5897160" y="20955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际能力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3004920" y="34005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观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541080" y="21463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理财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3332880" y="20638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-272520" y="47304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局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entury Gothic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8E7-4A64-40F2-945F-CCC05E91A4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接连接符 2"/>
          <p:cNvSpPr/>
          <p:nvPr/>
        </p:nvSpPr>
        <p:spPr>
          <a:xfrm flipH="1">
            <a:off x="0" y="0"/>
            <a:ext cx="2666880" cy="280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-360" y="0"/>
            <a:ext cx="2171880" cy="228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直接连接符 6"/>
          <p:cNvSpPr/>
          <p:nvPr/>
        </p:nvSpPr>
        <p:spPr>
          <a:xfrm flipH="1">
            <a:off x="4800240" y="2297160"/>
            <a:ext cx="4343400" cy="456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TextBox 8"/>
          <p:cNvSpPr/>
          <p:nvPr/>
        </p:nvSpPr>
        <p:spPr>
          <a:xfrm rot="18802800">
            <a:off x="4022640" y="3611160"/>
            <a:ext cx="48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宝贵财富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TextBox 10"/>
          <p:cNvSpPr/>
          <p:nvPr/>
        </p:nvSpPr>
        <p:spPr>
          <a:xfrm rot="18784200">
            <a:off x="387720" y="143100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2:4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7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