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BF6B-868D-4BB5-9496-58347BD55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E9B0-BE2B-4DBE-ADD9-6DCBF6C79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AF7A-7F09-44B9-A1B8-DDA871C85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4412-61E1-4CED-B602-C9E8E42AC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BC4C3-8BF0-4DA5-A258-4215AE36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8F0CD-A8EA-439E-9EB9-4A656296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E69F6-E3C8-4F77-9CD2-D4F2CF2F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23993-1FE5-40DA-A593-2B19109A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6DDCE-7318-4BA5-B199-66BB1E8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803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8299B-83C4-4D9D-ADB9-C1E18C5E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10ADE-639C-450D-86A7-DBD3657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D13A-8A62-4CA9-BF78-9320AB783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27E0C-2F45-439E-AAFD-5F02780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61097-D5DF-4159-A8CE-B6D09F9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BB4B7-3D97-4882-8E83-69924F2D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6B5DB-9606-47D3-B6E1-ABE68FB9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E6373-4397-415B-A063-BA9A7795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0236-E684-486F-88E9-D782E52ED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61C1-849D-4DA1-85B7-0FDBB04BA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EF69-F576-4067-B9A0-7F56D85F0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803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DAE3-71EB-4285-8542-02A3752FC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E3C1-5AB3-48C2-8CB4-CB5BB5EE5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ACBA-080B-41F9-AB92-D5C57DE29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9561-0649-45A9-9E87-89DAE19C7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98728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900000" y="115920"/>
            <a:ext cx="7993080" cy="873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24" descr="D:\工作学习\PPT\PPT素材\图片3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:\工作学习\PPT\PPT素材\1213.jp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165C-158F-484B-B5E5-F9AA13548E3E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08000" y="6526080"/>
            <a:ext cx="46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9856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简约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99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A5C2-E05B-41D6-9A74-8DA8DE9944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2:26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9:36Z</dcterms:modified>
  <cp:revision>310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